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907588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90676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90676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543800" y="5803920"/>
            <a:ext cx="217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urier New"/>
              </a:rPr>
              <a:t>11-</a:t>
            </a:r>
            <a:fld id="{59571ACD-FF30-48FD-BA8C-8F93B2CFBC79}" type="slidenum">
              <a:rPr b="0" lang="fr-FR" sz="2400" spc="-1" strike="noStrike">
                <a:solidFill>
                  <a:srgbClr val="000000"/>
                </a:solidFill>
                <a:latin typeface="Courier New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5f5f5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5f5f5f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5f5f5f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1073160" y="838080"/>
            <a:ext cx="7756560" cy="15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8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000000"/>
                </a:solidFill>
                <a:latin typeface="Times New Roman"/>
              </a:rPr>
              <a:t>UEF 1 : Informatique &amp; Programmat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788000" y="3352680"/>
            <a:ext cx="404172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spcBef>
                <a:spcPts val="1412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Faculté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e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Sciences de N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412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EUG  2001-20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990720" y="5154840"/>
            <a:ext cx="3051000" cy="7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Times New Roman"/>
              </a:rPr>
              <a:t>Jérôme </a:t>
            </a:r>
            <a:r>
              <a:rPr b="1" i="1" lang="en-GB" sz="1800" spc="-1" strike="noStrike">
                <a:solidFill>
                  <a:srgbClr val="000000"/>
                </a:solidFill>
                <a:latin typeface="Times New Roman"/>
              </a:rPr>
              <a:t>DURAND-LO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Times New Roman"/>
              </a:rPr>
              <a:t>Jean-Paul RO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791320" y="5410080"/>
            <a:ext cx="3038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 algn="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COURS 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3824640" y="348480"/>
            <a:ext cx="4010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000" spc="-1" strike="noStrike">
                <a:solidFill>
                  <a:srgbClr val="000000"/>
                </a:solidFill>
                <a:latin typeface="Times New Roman"/>
              </a:rPr>
              <a:t>f(x) = e</a:t>
            </a:r>
            <a:r>
              <a:rPr b="0" i="1" lang="fr-FR" sz="4000" spc="-1" strike="noStrike" baseline="30000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fr-FR" sz="4000" spc="-1" strike="noStrike">
                <a:solidFill>
                  <a:srgbClr val="000000"/>
                </a:solidFill>
                <a:latin typeface="Times New Roman"/>
              </a:rPr>
              <a:t> - 2cos( x 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127480" y="49212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26320" y="988560"/>
            <a:ext cx="710388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1328760"/>
                <a:tab algn="l" pos="4186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Précision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Racine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fr-FR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( racine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328760"/>
                <a:tab algn="l" pos="4186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0.1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0.53125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-0.023291658021360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328760"/>
                <a:tab algn="l" pos="4186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0.01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0.54296875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0.00875170166735839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328760"/>
                <a:tab algn="l" pos="4186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0.001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0.53955078125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-6.429358394135498E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328760"/>
                <a:tab algn="l" pos="4186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1.0E-4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0.539764404296875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-5.694561728719627E-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328760"/>
                <a:tab algn="l" pos="4186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1.0E-5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0.5397834777832031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-4.617447294963384E-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328760"/>
                <a:tab algn="l" pos="4186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1.0E-6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0.5397849082946777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-6.92784223765841E-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328760"/>
                <a:tab algn="l" pos="4186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1.0E-7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0.5397851765155792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4.309088375009651E-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328760"/>
                <a:tab algn="l" pos="4186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1.0E-8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0.5397851578891277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-8.011562524501414E-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328760"/>
                <a:tab algn="l" pos="4186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1.0E-9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0.5397851611487567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9.31365429224229E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328760"/>
                <a:tab algn="l" pos="4186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1.0E-10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0.5397851608286146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5.3042237269096404E-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328760"/>
                <a:tab algn="l" pos="4186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1.0E-11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0.5397851608104247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3.1377123121956174E-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328760"/>
                <a:tab algn="l" pos="4186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1.0E-12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0.5397851608090605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-6.052935930256353E-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328760"/>
                <a:tab algn="l" pos="4186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1.0E-13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0.5397851608092594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-5.950795411990839E-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328760"/>
                <a:tab algn="l" pos="4186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1.0E-14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0.5397851608092843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8.659739592076221E-1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328760"/>
                <a:tab algn="l" pos="4186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1.0E-15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0.5397851608092812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2.220446049250313E-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328760"/>
                <a:tab algn="l" pos="4186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1.0E-16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0.5397851608092812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2.220446049250313E-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328760"/>
                <a:tab algn="l" pos="4186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1.0E-17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fr-FR" sz="2000" spc="-1" strike="noStrike">
                <a:solidFill>
                  <a:srgbClr val="000000"/>
                </a:solidFill>
                <a:latin typeface="Times New Roman"/>
              </a:rPr>
              <a:t>ne termine jamais 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600200" y="5867280"/>
            <a:ext cx="2743200" cy="701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809880" y="2133720"/>
            <a:ext cx="533520" cy="3733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925760" y="2121840"/>
            <a:ext cx="1681920" cy="2466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Problè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d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au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doubles 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Times New Roman"/>
              </a:rPr>
              <a:t>Exemple pour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1701000" y="1443600"/>
            <a:ext cx="54464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Pour chercher une sol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On coupe l’</a:t>
            </a:r>
            <a:r>
              <a:rPr b="0" i="1" lang="fr-FR" sz="2800" spc="-1" strike="noStrike">
                <a:solidFill>
                  <a:srgbClr val="000000"/>
                </a:solidFill>
                <a:latin typeface="Times New Roman"/>
              </a:rPr>
              <a:t>espace de recherche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 en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31000" y="3308040"/>
            <a:ext cx="3948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En gardant la partie où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il doit y avoir une sol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411520" y="3308040"/>
            <a:ext cx="347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En écartant la partie où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il n’y a pas de sol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0" name=""/>
          <p:cNvCxnSpPr>
            <a:stCxn id="147" idx="2"/>
            <a:endCxn id="148" idx="0"/>
          </p:cNvCxnSpPr>
          <p:nvPr/>
        </p:nvCxnSpPr>
        <p:spPr>
          <a:xfrm flipH="1">
            <a:off x="2504520" y="2607840"/>
            <a:ext cx="1919880" cy="700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1" name=""/>
          <p:cNvCxnSpPr>
            <a:stCxn id="147" idx="2"/>
            <a:endCxn id="149" idx="0"/>
          </p:cNvCxnSpPr>
          <p:nvPr/>
        </p:nvCxnSpPr>
        <p:spPr>
          <a:xfrm>
            <a:off x="4424040" y="2607840"/>
            <a:ext cx="2724840" cy="700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2" name=""/>
          <p:cNvSpPr/>
          <p:nvPr/>
        </p:nvSpPr>
        <p:spPr>
          <a:xfrm>
            <a:off x="1446840" y="4620960"/>
            <a:ext cx="6717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En on recommence jusqu’à avoir une solution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ou ne plus rien avoi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1400" y="5942880"/>
            <a:ext cx="677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Exemple type : recherche dans un dictionnai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Times New Roman"/>
              </a:rPr>
              <a:t>Plus généralemen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217400" y="2727360"/>
            <a:ext cx="5554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 u="sng">
                <a:solidFill>
                  <a:srgbClr val="000000"/>
                </a:solidFill>
                <a:uFillTx/>
                <a:latin typeface="Arial"/>
              </a:rPr>
              <a:t>so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3432240" y="913680"/>
            <a:ext cx="263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Recherche de 33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534960" y="1065960"/>
            <a:ext cx="8450280" cy="5013720"/>
            <a:chOff x="534960" y="1065960"/>
            <a:chExt cx="8450280" cy="5013720"/>
          </a:xfrm>
        </p:grpSpPr>
        <p:sp>
          <p:nvSpPr>
            <p:cNvPr id="158" name=""/>
            <p:cNvSpPr/>
            <p:nvPr/>
          </p:nvSpPr>
          <p:spPr>
            <a:xfrm>
              <a:off x="534960" y="1601280"/>
              <a:ext cx="471600" cy="45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004760" y="1601280"/>
              <a:ext cx="470160" cy="45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473120" y="1601280"/>
              <a:ext cx="471600" cy="45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943280" y="1601280"/>
              <a:ext cx="469800" cy="45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411280" y="1601280"/>
              <a:ext cx="471600" cy="45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881440" y="1601280"/>
              <a:ext cx="471240" cy="45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351240" y="1601280"/>
              <a:ext cx="469800" cy="45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19600" y="1601280"/>
              <a:ext cx="471240" cy="45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289400" y="1601280"/>
              <a:ext cx="469800" cy="45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0000"/>
                  </a:solidFill>
                  <a:latin typeface="Times New Roman"/>
                </a:rPr>
                <a:t>2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759200" y="1601280"/>
              <a:ext cx="470160" cy="45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0000"/>
                  </a:solidFill>
                  <a:latin typeface="Times New Roman"/>
                </a:rPr>
                <a:t>29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227560" y="1601280"/>
              <a:ext cx="471600" cy="45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0000"/>
                  </a:solidFill>
                  <a:latin typeface="Times New Roman"/>
                </a:rPr>
                <a:t>3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697360" y="1601280"/>
              <a:ext cx="470160" cy="45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0000"/>
                  </a:solidFill>
                  <a:latin typeface="Times New Roman"/>
                </a:rPr>
                <a:t>37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165720" y="1601280"/>
              <a:ext cx="471600" cy="45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0000"/>
                  </a:solidFill>
                  <a:latin typeface="Times New Roman"/>
                </a:rPr>
                <a:t>4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635880" y="1601280"/>
              <a:ext cx="471240" cy="45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0000"/>
                  </a:solidFill>
                  <a:latin typeface="Times New Roman"/>
                </a:rPr>
                <a:t>4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105680" y="1601280"/>
              <a:ext cx="469800" cy="45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0000"/>
                  </a:solidFill>
                  <a:latin typeface="Times New Roman"/>
                </a:rPr>
                <a:t>47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574040" y="1601280"/>
              <a:ext cx="471240" cy="45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0000"/>
                  </a:solidFill>
                  <a:latin typeface="Times New Roman"/>
                </a:rPr>
                <a:t>5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043840" y="1601280"/>
              <a:ext cx="469800" cy="45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0000"/>
                  </a:solidFill>
                  <a:latin typeface="Times New Roman"/>
                </a:rPr>
                <a:t>59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510760" y="1601280"/>
              <a:ext cx="471240" cy="45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0000"/>
                  </a:solidFill>
                  <a:latin typeface="Times New Roman"/>
                </a:rPr>
                <a:t>6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82640" y="1244520"/>
              <a:ext cx="0" cy="32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782640" y="1065960"/>
              <a:ext cx="1162080" cy="4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</a:rPr>
                <a:t>iCoura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34960" y="2530440"/>
              <a:ext cx="471600" cy="456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004760" y="2530440"/>
              <a:ext cx="470160" cy="456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473120" y="2530440"/>
              <a:ext cx="471600" cy="456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943280" y="2530440"/>
              <a:ext cx="469800" cy="456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413080" y="2530440"/>
              <a:ext cx="469800" cy="456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881440" y="2530440"/>
              <a:ext cx="471240" cy="456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51240" y="2530440"/>
              <a:ext cx="469800" cy="456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819600" y="2530440"/>
              <a:ext cx="471240" cy="456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289400" y="2530440"/>
              <a:ext cx="471600" cy="456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0000"/>
                  </a:solidFill>
                  <a:latin typeface="Times New Roman"/>
                </a:rPr>
                <a:t>2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759200" y="2530440"/>
              <a:ext cx="470160" cy="456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0000"/>
                  </a:solidFill>
                  <a:latin typeface="Times New Roman"/>
                </a:rPr>
                <a:t>29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227560" y="2530440"/>
              <a:ext cx="471600" cy="456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0000"/>
                  </a:solidFill>
                  <a:latin typeface="Times New Roman"/>
                </a:rPr>
                <a:t>3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697360" y="2530440"/>
              <a:ext cx="471600" cy="456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0000"/>
                  </a:solidFill>
                  <a:latin typeface="Times New Roman"/>
                </a:rPr>
                <a:t>37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167520" y="2530440"/>
              <a:ext cx="469800" cy="456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0000"/>
                  </a:solidFill>
                  <a:latin typeface="Times New Roman"/>
                </a:rPr>
                <a:t>4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635880" y="2530440"/>
              <a:ext cx="471240" cy="456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0000"/>
                  </a:solidFill>
                  <a:latin typeface="Times New Roman"/>
                </a:rPr>
                <a:t>4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105680" y="2530440"/>
              <a:ext cx="469800" cy="456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0000"/>
                  </a:solidFill>
                  <a:latin typeface="Times New Roman"/>
                </a:rPr>
                <a:t>47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574040" y="2530440"/>
              <a:ext cx="471240" cy="456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0000"/>
                  </a:solidFill>
                  <a:latin typeface="Times New Roman"/>
                </a:rPr>
                <a:t>5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043840" y="2530440"/>
              <a:ext cx="471600" cy="456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0000"/>
                  </a:solidFill>
                  <a:latin typeface="Times New Roman"/>
                </a:rPr>
                <a:t>59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8512200" y="2530440"/>
              <a:ext cx="469800" cy="456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0000"/>
                  </a:solidFill>
                  <a:latin typeface="Times New Roman"/>
                </a:rPr>
                <a:t>6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36400" y="3481920"/>
              <a:ext cx="471600" cy="456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006560" y="3481920"/>
              <a:ext cx="469800" cy="456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474920" y="3481920"/>
              <a:ext cx="471240" cy="456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944720" y="3481920"/>
              <a:ext cx="469800" cy="456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414520" y="3481920"/>
              <a:ext cx="469800" cy="456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882880" y="3481920"/>
              <a:ext cx="471600" cy="456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352680" y="3481920"/>
              <a:ext cx="470160" cy="456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821040" y="3481920"/>
              <a:ext cx="471600" cy="456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290840" y="3481920"/>
              <a:ext cx="471600" cy="456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0000"/>
                  </a:solidFill>
                  <a:latin typeface="Times New Roman"/>
                </a:rPr>
                <a:t>2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761000" y="3481920"/>
              <a:ext cx="469800" cy="456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0000"/>
                  </a:solidFill>
                  <a:latin typeface="Times New Roman"/>
                </a:rPr>
                <a:t>29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229360" y="3481920"/>
              <a:ext cx="471240" cy="456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0000"/>
                  </a:solidFill>
                  <a:latin typeface="Times New Roman"/>
                </a:rPr>
                <a:t>3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699160" y="3481920"/>
              <a:ext cx="471600" cy="456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0000"/>
                  </a:solidFill>
                  <a:latin typeface="Times New Roman"/>
                </a:rPr>
                <a:t>37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168960" y="3481920"/>
              <a:ext cx="469800" cy="456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0000"/>
                  </a:solidFill>
                  <a:latin typeface="Times New Roman"/>
                </a:rPr>
                <a:t>4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637320" y="3481920"/>
              <a:ext cx="471600" cy="456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0000"/>
                  </a:solidFill>
                  <a:latin typeface="Times New Roman"/>
                </a:rPr>
                <a:t>4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107120" y="3481920"/>
              <a:ext cx="470160" cy="456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0000"/>
                  </a:solidFill>
                  <a:latin typeface="Times New Roman"/>
                </a:rPr>
                <a:t>47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575480" y="3481920"/>
              <a:ext cx="471600" cy="456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0000"/>
                  </a:solidFill>
                  <a:latin typeface="Times New Roman"/>
                </a:rPr>
                <a:t>5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8045280" y="3481920"/>
              <a:ext cx="471600" cy="456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0000"/>
                  </a:solidFill>
                  <a:latin typeface="Times New Roman"/>
                </a:rPr>
                <a:t>59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8513640" y="3481920"/>
              <a:ext cx="470160" cy="456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0000"/>
                  </a:solidFill>
                  <a:latin typeface="Times New Roman"/>
                </a:rPr>
                <a:t>6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38200" y="4731120"/>
              <a:ext cx="471600" cy="456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008000" y="4731120"/>
              <a:ext cx="469800" cy="456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476360" y="4731120"/>
              <a:ext cx="471600" cy="456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946160" y="4731120"/>
              <a:ext cx="470160" cy="456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416320" y="4731120"/>
              <a:ext cx="469800" cy="456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884320" y="4731120"/>
              <a:ext cx="471600" cy="456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354480" y="4731120"/>
              <a:ext cx="469800" cy="456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822840" y="4731120"/>
              <a:ext cx="471240" cy="456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292640" y="4731120"/>
              <a:ext cx="471600" cy="456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0000"/>
                  </a:solidFill>
                  <a:latin typeface="Times New Roman"/>
                </a:rPr>
                <a:t>2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762440" y="4731120"/>
              <a:ext cx="469800" cy="456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0000"/>
                  </a:solidFill>
                  <a:latin typeface="Times New Roman"/>
                </a:rPr>
                <a:t>29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230800" y="4731120"/>
              <a:ext cx="471600" cy="456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0000"/>
                  </a:solidFill>
                  <a:latin typeface="Times New Roman"/>
                </a:rPr>
                <a:t>3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700600" y="4731120"/>
              <a:ext cx="471600" cy="456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0000"/>
                  </a:solidFill>
                  <a:latin typeface="Times New Roman"/>
                </a:rPr>
                <a:t>37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170760" y="4731120"/>
              <a:ext cx="469800" cy="456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0000"/>
                  </a:solidFill>
                  <a:latin typeface="Times New Roman"/>
                </a:rPr>
                <a:t>4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638760" y="4731120"/>
              <a:ext cx="471600" cy="456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0000"/>
                  </a:solidFill>
                  <a:latin typeface="Times New Roman"/>
                </a:rPr>
                <a:t>4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108920" y="4731120"/>
              <a:ext cx="469800" cy="456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0000"/>
                  </a:solidFill>
                  <a:latin typeface="Times New Roman"/>
                </a:rPr>
                <a:t>47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7577280" y="4731120"/>
              <a:ext cx="471240" cy="456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0000"/>
                  </a:solidFill>
                  <a:latin typeface="Times New Roman"/>
                </a:rPr>
                <a:t>5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8047080" y="4731120"/>
              <a:ext cx="471600" cy="456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0000"/>
                  </a:solidFill>
                  <a:latin typeface="Times New Roman"/>
                </a:rPr>
                <a:t>59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8515440" y="4731120"/>
              <a:ext cx="469800" cy="456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0000"/>
                  </a:solidFill>
                  <a:latin typeface="Times New Roman"/>
                </a:rPr>
                <a:t>6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38200" y="5622840"/>
              <a:ext cx="471600" cy="45684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008000" y="5622840"/>
              <a:ext cx="469800" cy="45684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476360" y="5622840"/>
              <a:ext cx="471600" cy="45684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946160" y="5622840"/>
              <a:ext cx="470160" cy="45684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416320" y="5622840"/>
              <a:ext cx="469800" cy="45684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884320" y="5622840"/>
              <a:ext cx="471600" cy="45684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354480" y="5622840"/>
              <a:ext cx="469800" cy="45684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822840" y="5622840"/>
              <a:ext cx="471240" cy="45684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292640" y="5622840"/>
              <a:ext cx="471600" cy="45684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0000"/>
                  </a:solidFill>
                  <a:latin typeface="Times New Roman"/>
                </a:rPr>
                <a:t>2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762440" y="5622840"/>
              <a:ext cx="469800" cy="45684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0000"/>
                  </a:solidFill>
                  <a:latin typeface="Times New Roman"/>
                </a:rPr>
                <a:t>29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230800" y="5622840"/>
              <a:ext cx="471600" cy="45684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0000"/>
                  </a:solidFill>
                  <a:latin typeface="Times New Roman"/>
                </a:rPr>
                <a:t>3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700600" y="5622840"/>
              <a:ext cx="471600" cy="456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0000"/>
                  </a:solidFill>
                  <a:latin typeface="Times New Roman"/>
                </a:rPr>
                <a:t>37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170760" y="5622840"/>
              <a:ext cx="469800" cy="456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0000"/>
                  </a:solidFill>
                  <a:latin typeface="Times New Roman"/>
                </a:rPr>
                <a:t>4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638760" y="5622840"/>
              <a:ext cx="471600" cy="456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0000"/>
                  </a:solidFill>
                  <a:latin typeface="Times New Roman"/>
                </a:rPr>
                <a:t>4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108920" y="5622840"/>
              <a:ext cx="469800" cy="456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0000"/>
                  </a:solidFill>
                  <a:latin typeface="Times New Roman"/>
                </a:rPr>
                <a:t>47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577280" y="5622840"/>
              <a:ext cx="471240" cy="456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0000"/>
                  </a:solidFill>
                  <a:latin typeface="Times New Roman"/>
                </a:rPr>
                <a:t>5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8047080" y="5622840"/>
              <a:ext cx="471600" cy="456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0000"/>
                  </a:solidFill>
                  <a:latin typeface="Times New Roman"/>
                </a:rPr>
                <a:t>59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8515440" y="5622840"/>
              <a:ext cx="469800" cy="456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0000"/>
                  </a:solidFill>
                  <a:latin typeface="Times New Roman"/>
                </a:rPr>
                <a:t>6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249200" y="2205360"/>
              <a:ext cx="0" cy="32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249200" y="2028240"/>
              <a:ext cx="1162080" cy="4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</a:rPr>
                <a:t>i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731960" y="3156840"/>
              <a:ext cx="0" cy="32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731960" y="2978280"/>
              <a:ext cx="1162080" cy="4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</a:rPr>
                <a:t>i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477040" y="4406040"/>
              <a:ext cx="0" cy="32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477040" y="4227480"/>
              <a:ext cx="1161720" cy="4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</a:rPr>
                <a:t>i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950080" y="5298120"/>
              <a:ext cx="0" cy="32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950080" y="5119560"/>
              <a:ext cx="1162080" cy="4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</a:rPr>
                <a:t>i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896560" y="3781440"/>
              <a:ext cx="1067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40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r>
                <a:rPr b="1" lang="fr-FR" sz="40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410160" y="5357520"/>
              <a:ext cx="2107440" cy="525240"/>
            </a:xfrm>
            <a:custGeom>
              <a:avLst/>
              <a:gdLst>
                <a:gd name="textAreaLeft" fmla="*/ 526680 w 2107440"/>
                <a:gd name="textAreaRight" fmla="*/ 1580760 w 2107440"/>
                <a:gd name="textAreaTop" fmla="*/ 0 h 525240"/>
                <a:gd name="textAreaBottom" fmla="*/ 459720 h 525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8100" y="18900"/>
                  </a:moveTo>
                  <a:lnTo>
                    <a:pt x="8100" y="20925"/>
                  </a:lnTo>
                  <a:cubicBezTo>
                    <a:pt x="8100" y="21263"/>
                    <a:pt x="7680" y="21600"/>
                    <a:pt x="7260" y="21600"/>
                  </a:cubicBezTo>
                  <a:lnTo>
                    <a:pt x="0" y="21600"/>
                  </a:lnTo>
                  <a:lnTo>
                    <a:pt x="2750" y="12150"/>
                  </a:lnTo>
                  <a:lnTo>
                    <a:pt x="0" y="2700"/>
                  </a:lnTo>
                  <a:lnTo>
                    <a:pt x="5400" y="2700"/>
                  </a:lnTo>
                  <a:lnTo>
                    <a:pt x="5400" y="675"/>
                  </a:lnTo>
                  <a:cubicBezTo>
                    <a:pt x="5400" y="338"/>
                    <a:pt x="5820" y="0"/>
                    <a:pt x="6240" y="0"/>
                  </a:cubicBezTo>
                  <a:lnTo>
                    <a:pt x="15360" y="0"/>
                  </a:lnTo>
                  <a:cubicBezTo>
                    <a:pt x="15780" y="0"/>
                    <a:pt x="16200" y="338"/>
                    <a:pt x="16200" y="675"/>
                  </a:cubicBezTo>
                  <a:lnTo>
                    <a:pt x="16200" y="2700"/>
                  </a:lnTo>
                  <a:lnTo>
                    <a:pt x="21600" y="2700"/>
                  </a:lnTo>
                  <a:lnTo>
                    <a:pt x="18850" y="12150"/>
                  </a:lnTo>
                  <a:lnTo>
                    <a:pt x="21600" y="21600"/>
                  </a:lnTo>
                  <a:lnTo>
                    <a:pt x="14340" y="21600"/>
                  </a:lnTo>
                  <a:cubicBezTo>
                    <a:pt x="13920" y="21600"/>
                    <a:pt x="13500" y="21263"/>
                    <a:pt x="13500" y="20925"/>
                  </a:cubicBezTo>
                  <a:lnTo>
                    <a:pt x="13500" y="18900"/>
                  </a:lnTo>
                  <a:close/>
                </a:path>
                <a:path fill="darkenLess" w="21600" h="21600">
                  <a:moveTo>
                    <a:pt x="8100" y="18900"/>
                  </a:moveTo>
                  <a:lnTo>
                    <a:pt x="8100" y="20925"/>
                  </a:lnTo>
                  <a:cubicBezTo>
                    <a:pt x="8100" y="20588"/>
                    <a:pt x="7680" y="20250"/>
                    <a:pt x="7260" y="20250"/>
                  </a:cubicBezTo>
                  <a:lnTo>
                    <a:pt x="6240" y="20250"/>
                  </a:lnTo>
                  <a:cubicBezTo>
                    <a:pt x="5820" y="20250"/>
                    <a:pt x="5400" y="19913"/>
                    <a:pt x="5400" y="19575"/>
                  </a:cubicBezTo>
                  <a:cubicBezTo>
                    <a:pt x="5400" y="19238"/>
                    <a:pt x="5820" y="18900"/>
                    <a:pt x="6240" y="18900"/>
                  </a:cubicBezTo>
                  <a:close/>
                </a:path>
                <a:path fill="darkenLess" w="21600" h="21600">
                  <a:moveTo>
                    <a:pt x="13500" y="18900"/>
                  </a:moveTo>
                  <a:lnTo>
                    <a:pt x="13500" y="20925"/>
                  </a:lnTo>
                  <a:cubicBezTo>
                    <a:pt x="13500" y="20588"/>
                    <a:pt x="13920" y="20250"/>
                    <a:pt x="14340" y="20250"/>
                  </a:cubicBezTo>
                  <a:lnTo>
                    <a:pt x="15360" y="20250"/>
                  </a:lnTo>
                  <a:cubicBezTo>
                    <a:pt x="15780" y="20250"/>
                    <a:pt x="16200" y="19913"/>
                    <a:pt x="16200" y="19575"/>
                  </a:cubicBezTo>
                  <a:cubicBezTo>
                    <a:pt x="16200" y="19238"/>
                    <a:pt x="15780" y="18900"/>
                    <a:pt x="15360" y="18900"/>
                  </a:cubicBezTo>
                  <a:close/>
                </a:path>
                <a:path fill="darkenLess" w="21600" h="21600">
                  <a:moveTo>
                    <a:pt x="5400" y="19575"/>
                  </a:moveTo>
                  <a:lnTo>
                    <a:pt x="5400" y="2700"/>
                  </a:lnTo>
                </a:path>
                <a:path fill="darkenLess" w="21600" h="21600">
                  <a:moveTo>
                    <a:pt x="16200" y="19575"/>
                  </a:moveTo>
                  <a:lnTo>
                    <a:pt x="16200" y="270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Comic Sans MS"/>
                </a:rPr>
                <a:t>éche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Times New Roman"/>
              </a:rPr>
              <a:t>Recherche séquentielle </a:t>
            </a:r>
            <a:r>
              <a:rPr b="1" lang="fr-FR" sz="3600" spc="-1" strike="noStrike">
                <a:solidFill>
                  <a:srgbClr val="000000"/>
                </a:solidFill>
                <a:latin typeface="Times New Roman"/>
              </a:rPr>
              <a:t>dans un tableau trié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477800" y="6185880"/>
            <a:ext cx="652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Complexité en </a:t>
            </a:r>
            <a:r>
              <a:rPr b="0" i="1" lang="fr-FR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( nombres de valeur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685800" y="1352160"/>
            <a:ext cx="8229600" cy="51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r" pos="3244680"/>
                <a:tab algn="l" pos="33321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Conditions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fr-FR" sz="2400" spc="-1" strike="noStrike" u="sng">
                <a:solidFill>
                  <a:srgbClr val="000000"/>
                </a:solidFill>
                <a:uFillTx/>
                <a:latin typeface="Times New Roman"/>
              </a:rPr>
              <a:t>tableau trié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et </a:t>
            </a:r>
            <a:r>
              <a:rPr b="0" lang="fr-FR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cherche compatible avec l’ord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r" pos="3244680"/>
                <a:tab algn="l" pos="33321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Exemples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(ordre alphabétique) recherches de : 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- « DICHOTOMIE » dans un dictionnaire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- « SUMATRA » dans l’index d’un atl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r" pos="3244680"/>
                <a:tab algn="l" pos="33321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Principe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: on regarde à chaque fois au milieu de la zone de recherche et selon ce que l’on trouve on recommence dans la première moitié ou la secon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r" pos="3244680"/>
                <a:tab algn="l" pos="33321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A chaque fois on divise par deux la zone de recherche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4 coups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pour 2</a:t>
            </a:r>
            <a:r>
              <a:rPr b="0" lang="fr-FR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entrées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10 coups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pour 2</a:t>
            </a:r>
            <a:r>
              <a:rPr b="0" lang="fr-FR" sz="2400" spc="-1" strike="noStrike" baseline="30000">
                <a:solidFill>
                  <a:srgbClr val="000000"/>
                </a:solidFill>
                <a:latin typeface="Times New Roman"/>
              </a:rPr>
              <a:t>10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= 1024 entrées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n coups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pour 2</a:t>
            </a:r>
            <a:r>
              <a:rPr b="0" lang="fr-FR" sz="24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entrées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(n) coups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pour n entré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Times New Roman"/>
              </a:rPr>
              <a:t>Recherche dichotomique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3480120" y="1065960"/>
            <a:ext cx="254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Recherche de 3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8731080" y="1466280"/>
            <a:ext cx="914400" cy="552960"/>
            <a:chOff x="8731080" y="1466280"/>
            <a:chExt cx="914400" cy="552960"/>
          </a:xfrm>
        </p:grpSpPr>
        <p:sp>
          <p:nvSpPr>
            <p:cNvPr id="266" name=""/>
            <p:cNvSpPr/>
            <p:nvPr/>
          </p:nvSpPr>
          <p:spPr>
            <a:xfrm>
              <a:off x="8731080" y="163836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731080" y="1466280"/>
              <a:ext cx="914400" cy="4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</a:rPr>
                <a:t>iFi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533520" y="2019240"/>
            <a:ext cx="8446680" cy="474840"/>
            <a:chOff x="533520" y="2019240"/>
            <a:chExt cx="8446680" cy="474840"/>
          </a:xfrm>
        </p:grpSpPr>
        <p:sp>
          <p:nvSpPr>
            <p:cNvPr id="269" name=""/>
            <p:cNvSpPr/>
            <p:nvPr/>
          </p:nvSpPr>
          <p:spPr>
            <a:xfrm>
              <a:off x="533520" y="2019240"/>
              <a:ext cx="470520" cy="474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002600" y="2019240"/>
              <a:ext cx="470520" cy="474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472040" y="2019240"/>
              <a:ext cx="470520" cy="474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941120" y="2019240"/>
              <a:ext cx="470520" cy="474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410560" y="2019240"/>
              <a:ext cx="470520" cy="474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879640" y="2019240"/>
              <a:ext cx="470880" cy="474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348720" y="2019240"/>
              <a:ext cx="470880" cy="474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818160" y="2019240"/>
              <a:ext cx="470880" cy="474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287240" y="2019240"/>
              <a:ext cx="470880" cy="474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0000"/>
                  </a:solidFill>
                  <a:latin typeface="Times New Roman"/>
                </a:rPr>
                <a:t>2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756680" y="2019240"/>
              <a:ext cx="470880" cy="474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0000"/>
                  </a:solidFill>
                  <a:latin typeface="Times New Roman"/>
                </a:rPr>
                <a:t>29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226120" y="2019240"/>
              <a:ext cx="470880" cy="474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0000"/>
                  </a:solidFill>
                  <a:latin typeface="Times New Roman"/>
                </a:rPr>
                <a:t>3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695200" y="2019240"/>
              <a:ext cx="470880" cy="474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0000"/>
                  </a:solidFill>
                  <a:latin typeface="Times New Roman"/>
                </a:rPr>
                <a:t>37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164640" y="2019240"/>
              <a:ext cx="470880" cy="474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0000"/>
                  </a:solidFill>
                  <a:latin typeface="Times New Roman"/>
                </a:rPr>
                <a:t>4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633720" y="2019240"/>
              <a:ext cx="470880" cy="474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0000"/>
                  </a:solidFill>
                  <a:latin typeface="Times New Roman"/>
                </a:rPr>
                <a:t>4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7103160" y="2019240"/>
              <a:ext cx="470880" cy="474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0000"/>
                  </a:solidFill>
                  <a:latin typeface="Times New Roman"/>
                </a:rPr>
                <a:t>47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7572600" y="2019240"/>
              <a:ext cx="470880" cy="474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0000"/>
                  </a:solidFill>
                  <a:latin typeface="Times New Roman"/>
                </a:rPr>
                <a:t>5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8041680" y="2019240"/>
              <a:ext cx="470520" cy="474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0000"/>
                  </a:solidFill>
                  <a:latin typeface="Times New Roman"/>
                </a:rPr>
                <a:t>59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8509680" y="2019240"/>
              <a:ext cx="470520" cy="474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0000"/>
                  </a:solidFill>
                  <a:latin typeface="Times New Roman"/>
                </a:rPr>
                <a:t>6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779400" y="1505520"/>
            <a:ext cx="885960" cy="513360"/>
            <a:chOff x="779400" y="1505520"/>
            <a:chExt cx="885960" cy="513360"/>
          </a:xfrm>
        </p:grpSpPr>
        <p:sp>
          <p:nvSpPr>
            <p:cNvPr id="288" name=""/>
            <p:cNvSpPr/>
            <p:nvPr/>
          </p:nvSpPr>
          <p:spPr>
            <a:xfrm>
              <a:off x="779400" y="1683000"/>
              <a:ext cx="0" cy="335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779400" y="1505520"/>
              <a:ext cx="885960" cy="4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</a:rPr>
                <a:t>iDébu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521240" y="1352880"/>
            <a:ext cx="887400" cy="754200"/>
            <a:chOff x="4521240" y="1352880"/>
            <a:chExt cx="887400" cy="754200"/>
          </a:xfrm>
        </p:grpSpPr>
        <p:sp>
          <p:nvSpPr>
            <p:cNvPr id="291" name=""/>
            <p:cNvSpPr/>
            <p:nvPr/>
          </p:nvSpPr>
          <p:spPr>
            <a:xfrm>
              <a:off x="4521240" y="1683000"/>
              <a:ext cx="0" cy="335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521240" y="1352880"/>
              <a:ext cx="887400" cy="75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</a:rPr>
                <a:t>iMilieu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533520" y="2981160"/>
            <a:ext cx="471240" cy="4734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003320" y="2981160"/>
            <a:ext cx="469800" cy="4734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471680" y="2981160"/>
            <a:ext cx="471600" cy="4734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941480" y="2981160"/>
            <a:ext cx="469800" cy="4734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411280" y="2981160"/>
            <a:ext cx="470160" cy="4734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879640" y="2981160"/>
            <a:ext cx="471600" cy="4734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49800" y="2981160"/>
            <a:ext cx="469800" cy="4734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817800" y="2981160"/>
            <a:ext cx="471600" cy="4734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287960" y="2981160"/>
            <a:ext cx="471240" cy="4734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757760" y="2981160"/>
            <a:ext cx="469800" cy="473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2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26120" y="2981160"/>
            <a:ext cx="471240" cy="473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3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695920" y="2981160"/>
            <a:ext cx="471600" cy="473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3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165720" y="2981160"/>
            <a:ext cx="470160" cy="473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4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634080" y="2981160"/>
            <a:ext cx="471600" cy="473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4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7104240" y="2981160"/>
            <a:ext cx="469800" cy="473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4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572240" y="2981160"/>
            <a:ext cx="471600" cy="473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5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8042400" y="2981160"/>
            <a:ext cx="471240" cy="473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5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8510760" y="2981160"/>
            <a:ext cx="469800" cy="473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6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5037120" y="2468160"/>
            <a:ext cx="887400" cy="512640"/>
            <a:chOff x="5037120" y="2468160"/>
            <a:chExt cx="887400" cy="512640"/>
          </a:xfrm>
        </p:grpSpPr>
        <p:sp>
          <p:nvSpPr>
            <p:cNvPr id="312" name=""/>
            <p:cNvSpPr/>
            <p:nvPr/>
          </p:nvSpPr>
          <p:spPr>
            <a:xfrm>
              <a:off x="5037120" y="2644920"/>
              <a:ext cx="0" cy="335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037120" y="2468160"/>
              <a:ext cx="887400" cy="4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</a:rPr>
                <a:t>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4" name=""/>
          <p:cNvGrpSpPr/>
          <p:nvPr/>
        </p:nvGrpSpPr>
        <p:grpSpPr>
          <a:xfrm>
            <a:off x="6811920" y="2493720"/>
            <a:ext cx="885960" cy="512640"/>
            <a:chOff x="6811920" y="2493720"/>
            <a:chExt cx="885960" cy="512640"/>
          </a:xfrm>
        </p:grpSpPr>
        <p:sp>
          <p:nvSpPr>
            <p:cNvPr id="315" name=""/>
            <p:cNvSpPr/>
            <p:nvPr/>
          </p:nvSpPr>
          <p:spPr>
            <a:xfrm>
              <a:off x="6811920" y="2670480"/>
              <a:ext cx="0" cy="335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6811920" y="2493720"/>
              <a:ext cx="885960" cy="4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</a:rPr>
                <a:t>i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7" name=""/>
          <p:cNvGrpSpPr/>
          <p:nvPr/>
        </p:nvGrpSpPr>
        <p:grpSpPr>
          <a:xfrm>
            <a:off x="8731080" y="2468160"/>
            <a:ext cx="517680" cy="512640"/>
            <a:chOff x="8731080" y="2468160"/>
            <a:chExt cx="517680" cy="512640"/>
          </a:xfrm>
        </p:grpSpPr>
        <p:sp>
          <p:nvSpPr>
            <p:cNvPr id="318" name=""/>
            <p:cNvSpPr/>
            <p:nvPr/>
          </p:nvSpPr>
          <p:spPr>
            <a:xfrm>
              <a:off x="8731080" y="2644920"/>
              <a:ext cx="0" cy="335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8731080" y="2468160"/>
              <a:ext cx="517680" cy="4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</a:rPr>
                <a:t>i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533520" y="4016520"/>
            <a:ext cx="471240" cy="4730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003320" y="4016520"/>
            <a:ext cx="469800" cy="4730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471680" y="4016520"/>
            <a:ext cx="471600" cy="4730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941480" y="4016520"/>
            <a:ext cx="469800" cy="4730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2411280" y="4016520"/>
            <a:ext cx="470160" cy="4730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879640" y="4016520"/>
            <a:ext cx="471600" cy="4730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349800" y="4016520"/>
            <a:ext cx="469800" cy="4730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17800" y="4016520"/>
            <a:ext cx="471600" cy="4730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287960" y="4016520"/>
            <a:ext cx="471240" cy="4730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757760" y="4016520"/>
            <a:ext cx="469800" cy="473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2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226120" y="4016520"/>
            <a:ext cx="471240" cy="473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3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695920" y="4016520"/>
            <a:ext cx="471600" cy="473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3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6165720" y="4016520"/>
            <a:ext cx="470160" cy="473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4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634080" y="4016520"/>
            <a:ext cx="471600" cy="4730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4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7104240" y="4016520"/>
            <a:ext cx="469800" cy="4730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4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7572240" y="4016520"/>
            <a:ext cx="471600" cy="4730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5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8042400" y="4016520"/>
            <a:ext cx="471240" cy="4730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5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8510760" y="4016520"/>
            <a:ext cx="469800" cy="4730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6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8" name=""/>
          <p:cNvGrpSpPr/>
          <p:nvPr/>
        </p:nvGrpSpPr>
        <p:grpSpPr>
          <a:xfrm>
            <a:off x="5037120" y="3501000"/>
            <a:ext cx="887400" cy="515160"/>
            <a:chOff x="5037120" y="3501000"/>
            <a:chExt cx="887400" cy="515160"/>
          </a:xfrm>
        </p:grpSpPr>
        <p:sp>
          <p:nvSpPr>
            <p:cNvPr id="339" name=""/>
            <p:cNvSpPr/>
            <p:nvPr/>
          </p:nvSpPr>
          <p:spPr>
            <a:xfrm>
              <a:off x="5037120" y="3679920"/>
              <a:ext cx="0" cy="336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5037120" y="3501000"/>
              <a:ext cx="887400" cy="4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</a:rPr>
                <a:t>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1" name=""/>
          <p:cNvGrpSpPr/>
          <p:nvPr/>
        </p:nvGrpSpPr>
        <p:grpSpPr>
          <a:xfrm>
            <a:off x="5556240" y="3501000"/>
            <a:ext cx="885960" cy="515160"/>
            <a:chOff x="5556240" y="3501000"/>
            <a:chExt cx="885960" cy="515160"/>
          </a:xfrm>
        </p:grpSpPr>
        <p:sp>
          <p:nvSpPr>
            <p:cNvPr id="342" name=""/>
            <p:cNvSpPr/>
            <p:nvPr/>
          </p:nvSpPr>
          <p:spPr>
            <a:xfrm>
              <a:off x="5556240" y="3679920"/>
              <a:ext cx="0" cy="336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556240" y="3501000"/>
              <a:ext cx="885960" cy="4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</a:rPr>
                <a:t>i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4" name=""/>
          <p:cNvGrpSpPr/>
          <p:nvPr/>
        </p:nvGrpSpPr>
        <p:grpSpPr>
          <a:xfrm>
            <a:off x="6442200" y="3501000"/>
            <a:ext cx="517320" cy="515160"/>
            <a:chOff x="6442200" y="3501000"/>
            <a:chExt cx="517320" cy="515160"/>
          </a:xfrm>
        </p:grpSpPr>
        <p:sp>
          <p:nvSpPr>
            <p:cNvPr id="345" name=""/>
            <p:cNvSpPr/>
            <p:nvPr/>
          </p:nvSpPr>
          <p:spPr>
            <a:xfrm>
              <a:off x="6442200" y="3679920"/>
              <a:ext cx="0" cy="336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442200" y="3501000"/>
              <a:ext cx="517320" cy="4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</a:rPr>
                <a:t>i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533520" y="4975200"/>
            <a:ext cx="471240" cy="4730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003320" y="4975200"/>
            <a:ext cx="469800" cy="4730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471680" y="4975200"/>
            <a:ext cx="471600" cy="4730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941480" y="4975200"/>
            <a:ext cx="469800" cy="4730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411280" y="4975200"/>
            <a:ext cx="470160" cy="4730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879640" y="4975200"/>
            <a:ext cx="471600" cy="4730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349800" y="4975200"/>
            <a:ext cx="469800" cy="4730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817800" y="4975200"/>
            <a:ext cx="471600" cy="4730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287960" y="4975200"/>
            <a:ext cx="471240" cy="4730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757760" y="4975200"/>
            <a:ext cx="469800" cy="4730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2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226120" y="4975200"/>
            <a:ext cx="471240" cy="4730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3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695920" y="4975200"/>
            <a:ext cx="471600" cy="473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3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6165720" y="4975200"/>
            <a:ext cx="470160" cy="473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4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6634080" y="4975200"/>
            <a:ext cx="471600" cy="4730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4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7104240" y="4975200"/>
            <a:ext cx="469800" cy="4730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4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7572240" y="4975200"/>
            <a:ext cx="471600" cy="4730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5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042400" y="4975200"/>
            <a:ext cx="471240" cy="4730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5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8510760" y="4975200"/>
            <a:ext cx="469800" cy="4730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6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556240" y="4463280"/>
            <a:ext cx="10256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iD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6" name=""/>
          <p:cNvGrpSpPr/>
          <p:nvPr/>
        </p:nvGrpSpPr>
        <p:grpSpPr>
          <a:xfrm>
            <a:off x="5924520" y="4462920"/>
            <a:ext cx="887400" cy="513360"/>
            <a:chOff x="5924520" y="4462920"/>
            <a:chExt cx="887400" cy="513360"/>
          </a:xfrm>
        </p:grpSpPr>
        <p:sp>
          <p:nvSpPr>
            <p:cNvPr id="367" name=""/>
            <p:cNvSpPr/>
            <p:nvPr/>
          </p:nvSpPr>
          <p:spPr>
            <a:xfrm>
              <a:off x="5924520" y="4640400"/>
              <a:ext cx="0" cy="335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924520" y="4462920"/>
              <a:ext cx="887400" cy="4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</a:rPr>
                <a:t>i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442200" y="4462920"/>
            <a:ext cx="517320" cy="513360"/>
            <a:chOff x="6442200" y="4462920"/>
            <a:chExt cx="517320" cy="513360"/>
          </a:xfrm>
        </p:grpSpPr>
        <p:sp>
          <p:nvSpPr>
            <p:cNvPr id="370" name=""/>
            <p:cNvSpPr/>
            <p:nvPr/>
          </p:nvSpPr>
          <p:spPr>
            <a:xfrm>
              <a:off x="6442200" y="4640400"/>
              <a:ext cx="0" cy="335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6442200" y="4462920"/>
              <a:ext cx="517320" cy="4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</a:rPr>
                <a:t>i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2" name=""/>
          <p:cNvSpPr/>
          <p:nvPr/>
        </p:nvSpPr>
        <p:spPr>
          <a:xfrm>
            <a:off x="533520" y="5899320"/>
            <a:ext cx="471240" cy="4730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003320" y="5899320"/>
            <a:ext cx="469800" cy="4730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471680" y="5899320"/>
            <a:ext cx="471600" cy="4730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941480" y="5899320"/>
            <a:ext cx="469800" cy="4730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411280" y="5899320"/>
            <a:ext cx="470160" cy="4730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2879640" y="5899320"/>
            <a:ext cx="471600" cy="4730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349800" y="5899320"/>
            <a:ext cx="469800" cy="4730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817800" y="5899320"/>
            <a:ext cx="471600" cy="4730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287960" y="5899320"/>
            <a:ext cx="471240" cy="4730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757760" y="5899320"/>
            <a:ext cx="469800" cy="4730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2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226120" y="5899320"/>
            <a:ext cx="471240" cy="4730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3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695920" y="5899320"/>
            <a:ext cx="471600" cy="4730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3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165720" y="5899320"/>
            <a:ext cx="470160" cy="4730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4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6634080" y="5899320"/>
            <a:ext cx="471600" cy="4730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4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104240" y="5899320"/>
            <a:ext cx="469800" cy="4730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4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7572240" y="5899320"/>
            <a:ext cx="471600" cy="4730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5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8042400" y="5899320"/>
            <a:ext cx="471240" cy="4730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5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8510760" y="5899320"/>
            <a:ext cx="469800" cy="4730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6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0" name=""/>
          <p:cNvGrpSpPr/>
          <p:nvPr/>
        </p:nvGrpSpPr>
        <p:grpSpPr>
          <a:xfrm>
            <a:off x="5408640" y="5384520"/>
            <a:ext cx="885960" cy="514440"/>
            <a:chOff x="5408640" y="5384520"/>
            <a:chExt cx="885960" cy="514440"/>
          </a:xfrm>
        </p:grpSpPr>
        <p:sp>
          <p:nvSpPr>
            <p:cNvPr id="391" name=""/>
            <p:cNvSpPr/>
            <p:nvPr/>
          </p:nvSpPr>
          <p:spPr>
            <a:xfrm>
              <a:off x="5408640" y="5562000"/>
              <a:ext cx="0" cy="336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408640" y="5384520"/>
              <a:ext cx="885960" cy="4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</a:rPr>
                <a:t>i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3" name=""/>
          <p:cNvGrpSpPr/>
          <p:nvPr/>
        </p:nvGrpSpPr>
        <p:grpSpPr>
          <a:xfrm>
            <a:off x="5924520" y="5421960"/>
            <a:ext cx="517680" cy="513360"/>
            <a:chOff x="5924520" y="5421960"/>
            <a:chExt cx="517680" cy="513360"/>
          </a:xfrm>
        </p:grpSpPr>
        <p:sp>
          <p:nvSpPr>
            <p:cNvPr id="394" name=""/>
            <p:cNvSpPr/>
            <p:nvPr/>
          </p:nvSpPr>
          <p:spPr>
            <a:xfrm>
              <a:off x="5924520" y="5599440"/>
              <a:ext cx="0" cy="335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924520" y="5421960"/>
              <a:ext cx="517680" cy="4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</a:rPr>
                <a:t>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Times New Roman"/>
              </a:rPr>
              <a:t>Exemple de recherche dichotomique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457200" y="832320"/>
            <a:ext cx="8229600" cy="5284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477720"/>
                <a:tab algn="l" pos="952560"/>
                <a:tab algn="l" pos="1433520"/>
                <a:tab algn="l" pos="1806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 u="sng">
                <a:solidFill>
                  <a:srgbClr val="000000"/>
                </a:solidFill>
                <a:uFillTx/>
                <a:latin typeface="Comic Sans MS"/>
              </a:rPr>
              <a:t>Données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un tableau trié (en ordre croissant)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un critère de recherche (compatible avec l’ordre du tableau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477720"/>
                <a:tab algn="l" pos="952560"/>
                <a:tab algn="l" pos="1433520"/>
                <a:tab algn="l" pos="1806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 u="sng">
                <a:solidFill>
                  <a:srgbClr val="000000"/>
                </a:solidFill>
                <a:uFillTx/>
                <a:latin typeface="Comic Sans MS"/>
              </a:rPr>
              <a:t>Variables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iDébut, iFin, iMilieu : enti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477720"/>
                <a:tab algn="l" pos="952560"/>
                <a:tab algn="l" pos="1433520"/>
                <a:tab algn="l" pos="1806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 u="sng">
                <a:solidFill>
                  <a:srgbClr val="000000"/>
                </a:solidFill>
                <a:uFillTx/>
                <a:latin typeface="Comic Sans MS"/>
              </a:rPr>
              <a:t>Valeur</a:t>
            </a:r>
            <a:r>
              <a:rPr b="0" lang="fr-FR" sz="2000" spc="-1" strike="noStrike" u="sng">
                <a:solidFill>
                  <a:srgbClr val="000000"/>
                </a:solidFill>
                <a:uFillTx/>
                <a:latin typeface="Comic Sans MS"/>
              </a:rPr>
              <a:t> renvoyée</a:t>
            </a:r>
            <a:br>
              <a:rPr sz="2000"/>
            </a:br>
            <a:r>
              <a:rPr b="0" lang="fr-FR" sz="2000" spc="-1" strike="noStrike" u="sng">
                <a:solidFill>
                  <a:srgbClr val="000000"/>
                </a:solidFill>
                <a:uFillTx/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réponse : enti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477720"/>
                <a:tab algn="l" pos="952560"/>
                <a:tab algn="l" pos="1433520"/>
                <a:tab algn="l" pos="1806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 u="sng">
                <a:solidFill>
                  <a:srgbClr val="000000"/>
                </a:solidFill>
                <a:uFillTx/>
                <a:latin typeface="Comic Sans MS"/>
              </a:rPr>
              <a:t>Algorithme</a:t>
            </a:r>
            <a:r>
              <a:rPr b="0" lang="fr-FR" sz="2000" spc="-1" strike="noStrike" u="sng">
                <a:solidFill>
                  <a:srgbClr val="000000"/>
                </a:solidFill>
                <a:uFillTx/>
                <a:latin typeface="Comic Sans MS"/>
              </a:rPr>
              <a:t> recherche dichotomique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Comic Sans MS"/>
              </a:rPr>
              <a:t>tant que 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iDébut &lt;= iFin</a:t>
            </a:r>
            <a:r>
              <a:rPr b="1" lang="fr-F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iMilieu </a:t>
            </a:r>
            <a:r>
              <a:rPr b="1" lang="fr-FR" sz="20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1" lang="fr-F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( iDébut + iFin ) / 2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Comic Sans MS"/>
              </a:rPr>
              <a:t>si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 la case iMileu contient la valeur cherchée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fin de l’algorithme, la réponse est iMilieu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Comic Sans MS"/>
              </a:rPr>
              <a:t>sinon si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 la valeur en iMilieu est avant celle recherchée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iDébut </a:t>
            </a:r>
            <a:r>
              <a:rPr b="1" lang="fr-FR" sz="20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1" lang="fr-F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iMilieu + 1</a:t>
            </a:r>
            <a:br>
              <a:rPr sz="2000"/>
            </a:br>
            <a:r>
              <a:rPr b="1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Comic Sans MS"/>
              </a:rPr>
              <a:t>sinon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iFin </a:t>
            </a:r>
            <a:r>
              <a:rPr b="1" lang="fr-FR" sz="20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1" lang="fr-F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iMilieu - 1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Recherche infructueu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1308600" y="6112800"/>
            <a:ext cx="656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Complexité en </a:t>
            </a:r>
            <a:r>
              <a:rPr b="0" i="1" lang="fr-FR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0" i="1" lang="fr-FR" sz="28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 (nombres de valeurs)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7726680" y="3407400"/>
            <a:ext cx="1851120" cy="1084680"/>
          </a:xfrm>
          <a:prstGeom prst="cloudCallout">
            <a:avLst>
              <a:gd name="adj1" fmla="val -83888"/>
              <a:gd name="adj2" fmla="val 3367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Fin quand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on trou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6781680" y="5014080"/>
            <a:ext cx="2894040" cy="1084680"/>
          </a:xfrm>
          <a:prstGeom prst="cloudCallout">
            <a:avLst>
              <a:gd name="adj1" fmla="val -144175"/>
              <a:gd name="adj2" fmla="val 2634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Fin quand on ne trouve p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257800" y="1504800"/>
            <a:ext cx="4417920" cy="2024640"/>
          </a:xfrm>
          <a:prstGeom prst="cloudCallout">
            <a:avLst>
              <a:gd name="adj1" fmla="val -50069"/>
              <a:gd name="adj2" fmla="val 6720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À chaque itération, la différence entre  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iDébut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et 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iFin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est divisée par deu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Times New Roman"/>
              </a:rPr>
              <a:t>Recherche dichotomique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/>
          <p:nvPr/>
        </p:nvSpPr>
        <p:spPr>
          <a:xfrm>
            <a:off x="533520" y="456120"/>
            <a:ext cx="8148240" cy="5946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71400"/>
                <a:tab algn="l" pos="1528920"/>
                <a:tab algn="l" pos="2281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static final int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NON_TROUVE = -1;</a:t>
            </a:r>
            <a:br>
              <a:rPr sz="2400"/>
            </a:b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static int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rechercherDichotomique(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double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[] t,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double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v 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71400"/>
                <a:tab algn="l" pos="1528920"/>
                <a:tab algn="l" pos="2281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debut = 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71400"/>
                <a:tab algn="l" pos="1528920"/>
                <a:tab algn="l" pos="2281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fin = t.length -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71400"/>
                <a:tab algn="l" pos="1528920"/>
                <a:tab algn="l" pos="2281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while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( debut &lt;= fin 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71400"/>
                <a:tab algn="l" pos="1528920"/>
                <a:tab algn="l" pos="2281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milieu = ( debut + fin ) / 2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71400"/>
                <a:tab algn="l" pos="1528920"/>
                <a:tab algn="l" pos="2281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( t[ milieu ] == v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71400"/>
                <a:tab algn="l" pos="1528920"/>
                <a:tab algn="l" pos="2281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return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milieu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71400"/>
                <a:tab algn="l" pos="1528920"/>
                <a:tab algn="l" pos="2281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else if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( t[ milieu ] &lt; v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71400"/>
                <a:tab algn="l" pos="1528920"/>
                <a:tab algn="l" pos="2281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ebut = milieu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71400"/>
                <a:tab algn="l" pos="1528920"/>
                <a:tab algn="l" pos="2281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71400"/>
                <a:tab algn="l" pos="1528920"/>
                <a:tab algn="l" pos="2281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fin = milieu -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71400"/>
                <a:tab algn="l" pos="1528920"/>
                <a:tab algn="l" pos="2281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71400"/>
                <a:tab algn="l" pos="1528920"/>
                <a:tab algn="l" pos="2281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return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NON_TROUV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71400"/>
                <a:tab algn="l" pos="1528920"/>
                <a:tab algn="l" pos="2281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6306480" y="2000880"/>
            <a:ext cx="3276720" cy="1836360"/>
          </a:xfrm>
          <a:prstGeom prst="cloudCallout">
            <a:avLst>
              <a:gd name="adj1" fmla="val -91685"/>
              <a:gd name="adj2" fmla="val 3425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Valeur trouvée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return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met fin à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la méth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553080" y="4363200"/>
            <a:ext cx="2610000" cy="1836360"/>
          </a:xfrm>
          <a:prstGeom prst="cloudCallout">
            <a:avLst>
              <a:gd name="adj1" fmla="val -122500"/>
              <a:gd name="adj2" fmla="val 2647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Tout a été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parcouru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sans succè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2344680" y="1550520"/>
            <a:ext cx="5209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Courier New"/>
              </a:rPr>
              <a:t>D   o    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344680" y="2311200"/>
            <a:ext cx="5209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Courier New"/>
              </a:rPr>
              <a:t>D c o o  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346480" y="3071520"/>
            <a:ext cx="5209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Courier New"/>
              </a:rPr>
              <a:t>Dichotom 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161800" y="3769920"/>
            <a:ext cx="5642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800" spc="-1" strike="noStrike">
                <a:solidFill>
                  <a:srgbClr val="000000"/>
                </a:solidFill>
                <a:latin typeface="Times New Roman"/>
              </a:rPr>
              <a:t>Dichotomie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46480" y="790200"/>
            <a:ext cx="5209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Courier New"/>
              </a:rPr>
              <a:t>D        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378720" y="1391040"/>
            <a:ext cx="733896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Se joue à deu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L’un décide d’un chiff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L’autre doit le deviner le plus rapidement possi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Il propose un chiffre, 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on lui dit si c’est le bon, plus grand, ou plus pet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Jouons ensemble 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Times New Roman"/>
              </a:rPr>
              <a:t>Deviner un nombre entre 1 et 127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"/>
          <p:cNvGrpSpPr/>
          <p:nvPr/>
        </p:nvGrpSpPr>
        <p:grpSpPr>
          <a:xfrm>
            <a:off x="3443400" y="380880"/>
            <a:ext cx="3084480" cy="5867280"/>
            <a:chOff x="3443400" y="380880"/>
            <a:chExt cx="3084480" cy="5867280"/>
          </a:xfrm>
        </p:grpSpPr>
        <p:sp>
          <p:nvSpPr>
            <p:cNvPr id="89" name=""/>
            <p:cNvSpPr/>
            <p:nvPr/>
          </p:nvSpPr>
          <p:spPr>
            <a:xfrm>
              <a:off x="3443400" y="380880"/>
              <a:ext cx="0" cy="586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527880" y="380880"/>
              <a:ext cx="0" cy="586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" name=""/>
          <p:cNvSpPr/>
          <p:nvPr/>
        </p:nvSpPr>
        <p:spPr>
          <a:xfrm>
            <a:off x="970560" y="882720"/>
            <a:ext cx="1645200" cy="11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Proposition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359120" y="882720"/>
            <a:ext cx="1480680" cy="10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Maximu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12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274280" y="882720"/>
            <a:ext cx="1422720" cy="10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Minimu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066680" y="1205280"/>
            <a:ext cx="7925040" cy="4941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477720"/>
                <a:tab algn="l" pos="952560"/>
                <a:tab algn="l" pos="1433520"/>
                <a:tab algn="l" pos="1806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 u="sng">
                <a:solidFill>
                  <a:srgbClr val="000000"/>
                </a:solidFill>
                <a:uFillTx/>
                <a:latin typeface="Comic Sans MS"/>
              </a:rPr>
              <a:t>Variables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v : entier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min : entier = 1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max : entier = 1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477720"/>
                <a:tab algn="l" pos="952560"/>
                <a:tab algn="l" pos="1433520"/>
                <a:tab algn="l" pos="1806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 u="sng">
                <a:solidFill>
                  <a:srgbClr val="000000"/>
                </a:solidFill>
                <a:uFillTx/>
                <a:latin typeface="Comic Sans MS"/>
              </a:rPr>
              <a:t>Algorithme</a:t>
            </a:r>
            <a:r>
              <a:rPr b="0" lang="fr-FR" sz="2400" spc="-1" strike="noStrike" u="sng">
                <a:solidFill>
                  <a:srgbClr val="000000"/>
                </a:solidFill>
                <a:uFillTx/>
                <a:latin typeface="Comic Sans MS"/>
              </a:rPr>
              <a:t> pour deviner la valeur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Comic Sans MS"/>
              </a:rPr>
              <a:t>répéter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1" lang="fr-F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 ( min + max ) divisé par 2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Comic Sans MS"/>
              </a:rPr>
              <a:t>si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 v est la valeur à deviner </a:t>
            </a:r>
            <a:r>
              <a:rPr b="1" lang="fr-FR" sz="2400" spc="-1" strike="noStrike">
                <a:solidFill>
                  <a:srgbClr val="000000"/>
                </a:solidFill>
                <a:latin typeface="Comic Sans MS"/>
              </a:rPr>
              <a:t>alors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afficher v et sortir de la boucle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Comic Sans MS"/>
              </a:rPr>
              <a:t>si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 v est plus petit la valeur à deviner </a:t>
            </a:r>
            <a:r>
              <a:rPr b="1" lang="fr-FR" sz="2400" spc="-1" strike="noStrike">
                <a:solidFill>
                  <a:srgbClr val="000000"/>
                </a:solidFill>
                <a:latin typeface="Comic Sans MS"/>
              </a:rPr>
              <a:t>alors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min </a:t>
            </a:r>
            <a:r>
              <a:rPr b="0" lang="fr-FR" sz="24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 v</a:t>
            </a:r>
            <a:r>
              <a:rPr b="1" lang="fr-F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Comic Sans MS"/>
              </a:rPr>
              <a:t>si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 v est plus grand que la valeur à deviner </a:t>
            </a:r>
            <a:r>
              <a:rPr b="1" lang="fr-FR" sz="2400" spc="-1" strike="noStrike">
                <a:solidFill>
                  <a:srgbClr val="000000"/>
                </a:solidFill>
                <a:latin typeface="Comic Sans MS"/>
              </a:rPr>
              <a:t>alors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max </a:t>
            </a:r>
            <a:r>
              <a:rPr b="0" lang="fr-FR" sz="24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 v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Comic Sans MS"/>
              </a:rPr>
              <a:t>fin répé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Times New Roman"/>
              </a:rPr>
              <a:t>Algorithme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400800" y="1426680"/>
            <a:ext cx="3274920" cy="1598040"/>
          </a:xfrm>
          <a:prstGeom prst="cloudCallout">
            <a:avLst>
              <a:gd name="adj1" fmla="val -29648"/>
              <a:gd name="adj2" fmla="val 11125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Seule sortie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e la boucle !</a:t>
            </a:r>
            <a:br>
              <a:rPr sz="2400"/>
            </a:b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break, return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?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62160" y="1186920"/>
            <a:ext cx="9090000" cy="438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Times New Roman"/>
              </a:rPr>
              <a:t>Hypothèses :</a:t>
            </a:r>
            <a:br>
              <a:rPr sz="2800"/>
            </a:br>
            <a:r>
              <a:rPr b="0" i="1" lang="fr-FR" sz="2800" spc="-1" strike="noStrike">
                <a:solidFill>
                  <a:srgbClr val="000000"/>
                </a:solidFill>
                <a:latin typeface="Times New Roman"/>
              </a:rPr>
              <a:t>* f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 continue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* on connaît </a:t>
            </a:r>
            <a:r>
              <a:rPr b="0" i="1" lang="fr-FR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 et </a:t>
            </a:r>
            <a:r>
              <a:rPr b="0" i="1" lang="fr-FR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 tels que </a:t>
            </a:r>
            <a:r>
              <a:rPr b="0" i="1" lang="fr-FR" sz="2800" spc="-1" strike="noStrike">
                <a:solidFill>
                  <a:srgbClr val="000000"/>
                </a:solidFill>
                <a:latin typeface="Times New Roman"/>
              </a:rPr>
              <a:t>f(a)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 et </a:t>
            </a:r>
            <a:r>
              <a:rPr b="0" i="1" lang="fr-FR" sz="2800" spc="-1" strike="noStrike">
                <a:solidFill>
                  <a:srgbClr val="000000"/>
                </a:solidFill>
                <a:latin typeface="Times New Roman"/>
              </a:rPr>
              <a:t>f(b) 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sont </a:t>
            </a:r>
            <a:r>
              <a:rPr b="0" lang="fr-FR" sz="2800" spc="-1" strike="noStrike" u="sng">
                <a:solidFill>
                  <a:srgbClr val="000000"/>
                </a:solidFill>
                <a:uFillTx/>
                <a:latin typeface="Times New Roman"/>
              </a:rPr>
              <a:t>de signes différ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Times New Roman"/>
              </a:rPr>
              <a:t>But :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trouver une bonne approximation d’une racine de </a:t>
            </a:r>
            <a:r>
              <a:rPr b="0" i="1" lang="fr-FR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doit s’annuler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au moins une fois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différents cas 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entre </a:t>
            </a:r>
            <a:r>
              <a:rPr b="0" i="1" lang="fr-FR" sz="2800" spc="-1" strike="noStrike">
                <a:solidFill>
                  <a:srgbClr val="000000"/>
                </a:solidFill>
                <a:latin typeface="Times New Roman"/>
              </a:rPr>
              <a:t>a et 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2967120" y="5326200"/>
            <a:ext cx="2133360" cy="770760"/>
            <a:chOff x="2967120" y="5326200"/>
            <a:chExt cx="2133360" cy="770760"/>
          </a:xfrm>
        </p:grpSpPr>
        <p:sp>
          <p:nvSpPr>
            <p:cNvPr id="99" name=""/>
            <p:cNvSpPr/>
            <p:nvPr/>
          </p:nvSpPr>
          <p:spPr>
            <a:xfrm>
              <a:off x="2967120" y="5592600"/>
              <a:ext cx="2133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195720" y="532620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041640" y="5698080"/>
              <a:ext cx="311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2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943520" y="532620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789440" y="5698080"/>
              <a:ext cx="311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2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5257800" y="5326200"/>
            <a:ext cx="2133360" cy="770760"/>
            <a:chOff x="5257800" y="5326200"/>
            <a:chExt cx="2133360" cy="770760"/>
          </a:xfrm>
        </p:grpSpPr>
        <p:sp>
          <p:nvSpPr>
            <p:cNvPr id="105" name=""/>
            <p:cNvSpPr/>
            <p:nvPr/>
          </p:nvSpPr>
          <p:spPr>
            <a:xfrm>
              <a:off x="5257800" y="5592600"/>
              <a:ext cx="2133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532620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332320" y="5698080"/>
              <a:ext cx="311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2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34200" y="532620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080120" y="5698080"/>
              <a:ext cx="311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2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7543800" y="5326200"/>
            <a:ext cx="2133360" cy="770760"/>
            <a:chOff x="7543800" y="5326200"/>
            <a:chExt cx="2133360" cy="770760"/>
          </a:xfrm>
        </p:grpSpPr>
        <p:sp>
          <p:nvSpPr>
            <p:cNvPr id="111" name=""/>
            <p:cNvSpPr/>
            <p:nvPr/>
          </p:nvSpPr>
          <p:spPr>
            <a:xfrm>
              <a:off x="7543800" y="5592600"/>
              <a:ext cx="2133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772400" y="532620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618320" y="5698080"/>
              <a:ext cx="311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2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9520200" y="532620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9366120" y="5698080"/>
              <a:ext cx="311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2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3124080" y="4863960"/>
            <a:ext cx="1828800" cy="1384560"/>
          </a:xfrm>
          <a:custGeom>
            <a:avLst/>
            <a:gdLst/>
            <a:ahLst/>
            <a:rect l="l" t="t" r="r" b="b"/>
            <a:pathLst>
              <a:path w="1152" h="872">
                <a:moveTo>
                  <a:pt x="0" y="872"/>
                </a:moveTo>
                <a:cubicBezTo>
                  <a:pt x="104" y="812"/>
                  <a:pt x="208" y="752"/>
                  <a:pt x="288" y="632"/>
                </a:cubicBezTo>
                <a:cubicBezTo>
                  <a:pt x="368" y="512"/>
                  <a:pt x="376" y="256"/>
                  <a:pt x="480" y="152"/>
                </a:cubicBezTo>
                <a:cubicBezTo>
                  <a:pt x="584" y="48"/>
                  <a:pt x="800" y="0"/>
                  <a:pt x="912" y="8"/>
                </a:cubicBezTo>
                <a:cubicBezTo>
                  <a:pt x="1024" y="16"/>
                  <a:pt x="1112" y="168"/>
                  <a:pt x="1152" y="2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486400" y="5181480"/>
            <a:ext cx="1676520" cy="990720"/>
          </a:xfrm>
          <a:custGeom>
            <a:avLst/>
            <a:gdLst/>
            <a:ahLst/>
            <a:rect l="l" t="t" r="r" b="b"/>
            <a:pathLst>
              <a:path w="1056" h="624">
                <a:moveTo>
                  <a:pt x="0" y="0"/>
                </a:moveTo>
                <a:cubicBezTo>
                  <a:pt x="83" y="62"/>
                  <a:pt x="323" y="266"/>
                  <a:pt x="499" y="370"/>
                </a:cubicBezTo>
                <a:cubicBezTo>
                  <a:pt x="675" y="474"/>
                  <a:pt x="963" y="582"/>
                  <a:pt x="105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772400" y="5029200"/>
            <a:ext cx="1676520" cy="1143000"/>
          </a:xfrm>
          <a:custGeom>
            <a:avLst/>
            <a:gdLst/>
            <a:ahLst/>
            <a:rect l="l" t="t" r="r" b="b"/>
            <a:pathLst>
              <a:path w="1056" h="720">
                <a:moveTo>
                  <a:pt x="0" y="720"/>
                </a:moveTo>
                <a:cubicBezTo>
                  <a:pt x="48" y="664"/>
                  <a:pt x="96" y="608"/>
                  <a:pt x="144" y="528"/>
                </a:cubicBezTo>
                <a:cubicBezTo>
                  <a:pt x="192" y="448"/>
                  <a:pt x="216" y="248"/>
                  <a:pt x="288" y="240"/>
                </a:cubicBezTo>
                <a:cubicBezTo>
                  <a:pt x="360" y="232"/>
                  <a:pt x="448" y="520"/>
                  <a:pt x="576" y="480"/>
                </a:cubicBezTo>
                <a:cubicBezTo>
                  <a:pt x="704" y="440"/>
                  <a:pt x="880" y="220"/>
                  <a:pt x="105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Times New Roman"/>
              </a:rPr>
              <a:t>Recherche d’un zéro d’une fonction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345240" y="1593000"/>
            <a:ext cx="9030240" cy="30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On calcule  </a:t>
            </a:r>
            <a:r>
              <a:rPr b="0" i="1" lang="fr-FR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S’il est de signe différent de </a:t>
            </a:r>
            <a:r>
              <a:rPr b="0" i="1" lang="fr-FR" sz="2800" spc="-1" strike="noStrike">
                <a:solidFill>
                  <a:srgbClr val="000000"/>
                </a:solidFill>
                <a:latin typeface="Times New Roman"/>
              </a:rPr>
              <a:t>f(a)</a:t>
            </a:r>
            <a:br>
              <a:rPr sz="2800"/>
            </a:br>
            <a:r>
              <a:rPr b="0" i="1" lang="fr-F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on recommence avec </a:t>
            </a:r>
            <a:r>
              <a:rPr b="0" i="1" lang="fr-FR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 et  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sinon 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on recommence avec         et </a:t>
            </a:r>
            <a:r>
              <a:rPr b="0" i="1" lang="fr-FR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Jusqu’à ce que | </a:t>
            </a:r>
            <a:r>
              <a:rPr b="0" i="1" lang="fr-FR" sz="2800" spc="-1" strike="noStrike">
                <a:solidFill>
                  <a:srgbClr val="000000"/>
                </a:solidFill>
                <a:latin typeface="Times New Roman"/>
              </a:rPr>
              <a:t>a-b 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| soit plus petit que la précision demandé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2363760" y="1446840"/>
            <a:ext cx="912960" cy="787320"/>
            <a:chOff x="2363760" y="1446840"/>
            <a:chExt cx="912960" cy="787320"/>
          </a:xfrm>
        </p:grpSpPr>
        <p:sp>
          <p:nvSpPr>
            <p:cNvPr id="122" name=""/>
            <p:cNvSpPr/>
            <p:nvPr/>
          </p:nvSpPr>
          <p:spPr>
            <a:xfrm>
              <a:off x="2514600" y="144684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2000" spc="-1" strike="noStrike">
                  <a:solidFill>
                    <a:srgbClr val="000000"/>
                  </a:solidFill>
                  <a:latin typeface="Times New Roman"/>
                </a:rPr>
                <a:t>a+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667960" y="183528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514600" y="184428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363760" y="1447920"/>
              <a:ext cx="912960" cy="785520"/>
            </a:xfrm>
            <a:prstGeom prst="bracketPair">
              <a:avLst>
                <a:gd name="adj" fmla="val 1494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4459320" y="3451680"/>
            <a:ext cx="609480" cy="788040"/>
            <a:chOff x="4459320" y="3451680"/>
            <a:chExt cx="609480" cy="788040"/>
          </a:xfrm>
        </p:grpSpPr>
        <p:sp>
          <p:nvSpPr>
            <p:cNvPr id="127" name=""/>
            <p:cNvSpPr/>
            <p:nvPr/>
          </p:nvSpPr>
          <p:spPr>
            <a:xfrm>
              <a:off x="4459320" y="345168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2000" spc="-1" strike="noStrike">
                  <a:solidFill>
                    <a:srgbClr val="000000"/>
                  </a:solidFill>
                  <a:latin typeface="Times New Roman"/>
                </a:rPr>
                <a:t>a+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612680" y="384084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459320" y="384948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5221440" y="2665800"/>
            <a:ext cx="609480" cy="788040"/>
            <a:chOff x="5221440" y="2665800"/>
            <a:chExt cx="609480" cy="788040"/>
          </a:xfrm>
        </p:grpSpPr>
        <p:sp>
          <p:nvSpPr>
            <p:cNvPr id="131" name=""/>
            <p:cNvSpPr/>
            <p:nvPr/>
          </p:nvSpPr>
          <p:spPr>
            <a:xfrm>
              <a:off x="5221440" y="26658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2000" spc="-1" strike="noStrike">
                  <a:solidFill>
                    <a:srgbClr val="000000"/>
                  </a:solidFill>
                  <a:latin typeface="Times New Roman"/>
                </a:rPr>
                <a:t>a+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374800" y="305496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221440" y="306360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347760" y="5529960"/>
            <a:ext cx="790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À chaque fois, la distance entre </a:t>
            </a:r>
            <a:r>
              <a:rPr b="0" i="1" lang="fr-FR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 et </a:t>
            </a:r>
            <a:r>
              <a:rPr b="0" i="1" lang="fr-FR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 est divisée par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Times New Roman"/>
              </a:rPr>
              <a:t>Méthode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533520" y="1276560"/>
            <a:ext cx="9144000" cy="546084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477720"/>
                <a:tab algn="l" pos="952560"/>
                <a:tab algn="l" pos="1433520"/>
                <a:tab algn="l" pos="1806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 u="sng">
                <a:solidFill>
                  <a:srgbClr val="000000"/>
                </a:solidFill>
                <a:uFillTx/>
                <a:latin typeface="Comic Sans MS"/>
              </a:rPr>
              <a:t>Données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a : nombre approché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b : nombre approché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e : nombre approch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477720"/>
                <a:tab algn="l" pos="952560"/>
                <a:tab algn="l" pos="1433520"/>
                <a:tab algn="l" pos="1806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 u="sng">
                <a:solidFill>
                  <a:srgbClr val="000000"/>
                </a:solidFill>
                <a:uFillTx/>
                <a:latin typeface="Comic Sans MS"/>
              </a:rPr>
              <a:t>Valeur renvoyée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résultat  : nombre approch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477720"/>
                <a:tab algn="l" pos="952560"/>
                <a:tab algn="l" pos="1433520"/>
                <a:tab algn="l" pos="1806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 u="sng">
                <a:solidFill>
                  <a:srgbClr val="000000"/>
                </a:solidFill>
                <a:uFillTx/>
                <a:latin typeface="Comic Sans MS"/>
              </a:rPr>
              <a:t>Algorithme</a:t>
            </a:r>
            <a:r>
              <a:rPr b="0" lang="fr-FR" sz="2400" spc="-1" strike="noStrike" u="sng">
                <a:solidFill>
                  <a:srgbClr val="000000"/>
                </a:solidFill>
                <a:uFillTx/>
                <a:latin typeface="Comic Sans MS"/>
              </a:rPr>
              <a:t> pour trouver un zéro d ’une fonction par dichotomie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Comic Sans MS"/>
              </a:rPr>
              <a:t>tant que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 | a-b | &lt; e </a:t>
            </a:r>
            <a:r>
              <a:rPr b="1" lang="fr-FR" sz="2400" spc="-1" strike="noStrike">
                <a:solidFill>
                  <a:srgbClr val="000000"/>
                </a:solidFill>
                <a:latin typeface="Comic Sans MS"/>
              </a:rPr>
              <a:t>faire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Comic Sans MS"/>
              </a:rPr>
              <a:t>si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 f( a ) et f ( (a+b)/2 ) sont de signes différents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b </a:t>
            </a:r>
            <a:r>
              <a:rPr b="1" lang="fr-FR" sz="24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 ( a +  b ) / 2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Comic Sans MS"/>
              </a:rPr>
              <a:t>sinon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1" lang="fr-FR" sz="24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 ( a + b ) / 2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fr-F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Comic Sans MS"/>
              </a:rPr>
              <a:t>fin tant que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résultat </a:t>
            </a:r>
            <a:r>
              <a:rPr b="1" lang="fr-FR" sz="24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 ( a + b ) /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Times New Roman"/>
              </a:rPr>
              <a:t>Algorithme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457200" y="1301400"/>
            <a:ext cx="9220320" cy="5265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5000"/>
                <a:tab algn="l" pos="1528920"/>
                <a:tab algn="l" pos="2185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static double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f(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double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x 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5000"/>
                <a:tab algn="l" pos="1528920"/>
                <a:tab algn="l" pos="2185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.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5000"/>
                <a:tab algn="l" pos="1528920"/>
                <a:tab algn="l" pos="2185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5000"/>
                <a:tab algn="l" pos="1528920"/>
                <a:tab algn="l" pos="2185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5000"/>
                <a:tab algn="l" pos="1528920"/>
                <a:tab algn="l" pos="2185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static double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dichotomieRacine(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double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a,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double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b,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double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e 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5000"/>
                <a:tab algn="l" pos="1528920"/>
                <a:tab algn="l" pos="2185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while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( a + e &lt; b )  {   </a:t>
            </a:r>
            <a:r>
              <a:rPr b="0" i="1" lang="fr-FR" sz="2400" spc="-1" strike="noStrike">
                <a:solidFill>
                  <a:srgbClr val="000000"/>
                </a:solidFill>
                <a:latin typeface="Arial"/>
              </a:rPr>
              <a:t>//  e &lt; | a-b |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5000"/>
                <a:tab algn="l" pos="1528920"/>
                <a:tab algn="l" pos="2185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double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c = ( a + b ) / 2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5000"/>
                <a:tab algn="l" pos="1528920"/>
                <a:tab algn="l" pos="2185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( f( a ) * f( c ) &lt; 0 )    </a:t>
            </a:r>
            <a:r>
              <a:rPr b="0" i="1" lang="fr-FR" sz="2400" spc="-1" strike="noStrike">
                <a:solidFill>
                  <a:srgbClr val="000000"/>
                </a:solidFill>
                <a:latin typeface="Arial"/>
              </a:rPr>
              <a:t>// f(a) et f(c) sont de signes !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5000"/>
                <a:tab algn="l" pos="1528920"/>
                <a:tab algn="l" pos="2185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b = c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5000"/>
                <a:tab algn="l" pos="1528920"/>
                <a:tab algn="l" pos="2185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else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i="1" lang="fr-FR" sz="2400" spc="-1" strike="noStrike">
                <a:solidFill>
                  <a:srgbClr val="000000"/>
                </a:solidFill>
                <a:latin typeface="Arial"/>
              </a:rPr>
              <a:t>// f(c) et f(b) sont de signes !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5000"/>
                <a:tab algn="l" pos="1528920"/>
                <a:tab algn="l" pos="2185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a = c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5000"/>
                <a:tab algn="l" pos="1528920"/>
                <a:tab algn="l" pos="2185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5000"/>
                <a:tab algn="l" pos="1528920"/>
                <a:tab algn="l" pos="2185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return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( a + b ) / 2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5000"/>
                <a:tab algn="l" pos="1528920"/>
                <a:tab algn="l" pos="2185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Times New Roman"/>
              </a:rPr>
              <a:t>Fonction en Java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3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28T09:28:32Z</dcterms:created>
  <dc:creator/>
  <dc:description/>
  <dc:language>en-US</dc:language>
  <cp:lastModifiedBy>DeptInfo</cp:lastModifiedBy>
  <cp:lastPrinted>2001-12-16T16:37:15Z</cp:lastPrinted>
  <dcterms:modified xsi:type="dcterms:W3CDTF">2001-12-16T16:37:46Z</dcterms:modified>
  <cp:revision>168</cp:revision>
  <dc:subject/>
  <dc:title>Aucun titre de diapositive</dc:title>
</cp:coreProperties>
</file>