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8-</a:t>
            </a:r>
            <a:fld id="{F4A01149-6592-407B-BCE6-7949D7227109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527920"/>
            <a:ext cx="14401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8520" y="5322600"/>
            <a:ext cx="7833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dre sur les caractèr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’A’ &lt; ’Z’ &lt; ’a’ &lt; ’z’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0’ &lt; ’1’ &lt; ’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le codage n’est pas inno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36320"/>
            <a:ext cx="8534520" cy="24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 = ’A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 = ( c == ’a’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PlusUn =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(c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=" + c + " b=" + b + " c+1=" + cPLusU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ode de A = " +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 ’A'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harmant".charAt ( 0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19480" y="3752640"/>
            <a:ext cx="3591000" cy="1587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=A   b=false   c+1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de de A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tilisation des caractè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1289520"/>
            <a:ext cx="815364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un caractère, une lettre majus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alage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B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I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J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… 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S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Z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ucis pou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T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U’, ..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Z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lcul sur 0..25 modulo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 + 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avec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 ≤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≤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- ’A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représente l’écart entre les codes de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'A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49370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4784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4784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508860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08860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6767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0960" y="431064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ajuscule vers 0..2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382760"/>
            <a:ext cx="89154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ette valeur entre 0 et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alag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Ajout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’A ’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e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c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modulo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un char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har) (’A’ + ( (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- ‘A’ ) +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c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) % 26 )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enthèse sont-elles utile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ui, par sécurité, car il se méfier des priorités des opér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15560" y="3407040"/>
            <a:ext cx="4303080" cy="708480"/>
          </a:xfrm>
          <a:prstGeom prst="cloudCallout">
            <a:avLst>
              <a:gd name="adj1" fmla="val -115740"/>
              <a:gd name="adj2" fmla="val 65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ddition est sur 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al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978480"/>
            <a:ext cx="8305920" cy="54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onction retournant une lettre majuscule décalée circulairement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cal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ettre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e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( lettre &lt; 'A' ) || (lettre &gt; 'Z' 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ettre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e n'est pas une majus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( 'A' + ( ( ( lettre - 'A' ) + ( clef - ‘A’ )  ) % 26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onction retournant le texte chiffré selon le chiffre de Cæ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eules les majuscules sont chiffrées.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tring chiffre ( String texte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le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ing texteChiffr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; i&lt; texte.length()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eChiffre = texteChiffre + decale ( texte.charAt( i ), clef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exteChiff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onction de décalage et de chiff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8560" y="3053160"/>
            <a:ext cx="6769440" cy="273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rocédure affichant un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our un (dé)chiffrement/vérification man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fficheTabl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ef )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 = 'A'; c &lt;= 'Z'; c 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.out.println( c + " =&gt; " + chiffre ( c, clef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9320" y="-54000"/>
            <a:ext cx="1139760" cy="6874200"/>
          </a:xfrm>
          <a:prstGeom prst="horizontalScroll">
            <a:avLst>
              <a:gd name="adj" fmla="val 17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&gt;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&gt;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 =&gt;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 =&gt;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 =&gt;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 =&gt;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 =&gt;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 =&gt;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=&gt;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 =&gt;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K =&gt;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=&gt;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 =&gt;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=&gt;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 =&gt;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 =&gt;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 =&gt;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 =&gt;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 =&gt;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 =&gt;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 =&gt;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 =&gt;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 =&gt;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&gt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&gt;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&gt;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2720" y="1569600"/>
            <a:ext cx="6328440" cy="86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chaque majus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en quoi elle est transform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 de cod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5920" y="2164680"/>
            <a:ext cx="79912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test, 1 affectation, 1 multiplication…   temps « constan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dage et le décodage se f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temps proportionnel à la longueur du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chaîne de longueur 1000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0 fois plus d’op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’une chaîne de longue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arle d’algorith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mplexité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99240" y="48708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099200" y="3359160"/>
            <a:ext cx="1800000" cy="925560"/>
            <a:chOff x="7099200" y="3359160"/>
            <a:chExt cx="1800000" cy="925560"/>
          </a:xfrm>
        </p:grpSpPr>
        <p:sp>
          <p:nvSpPr>
            <p:cNvPr id="151" name=""/>
            <p:cNvSpPr/>
            <p:nvPr/>
          </p:nvSpPr>
          <p:spPr>
            <a:xfrm>
              <a:off x="7099200" y="3359160"/>
              <a:ext cx="1800000" cy="92556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53200" y="3654000"/>
              <a:ext cx="169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structions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099200" y="2468520"/>
            <a:ext cx="97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26120" y="3763440"/>
            <a:ext cx="971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9240" y="559584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86480" y="2776320"/>
            <a:ext cx="126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&lt;con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7760" y="3763800"/>
            <a:ext cx="0" cy="174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282240" y="212364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 flipH="1">
            <a:off x="6192360" y="2123640"/>
            <a:ext cx="308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360" y="1447920"/>
            <a:ext cx="445752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it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àj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it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àj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99200" y="4894200"/>
            <a:ext cx="1800000" cy="609480"/>
            <a:chOff x="7099200" y="4894200"/>
            <a:chExt cx="1800000" cy="609480"/>
          </a:xfrm>
        </p:grpSpPr>
        <p:sp>
          <p:nvSpPr>
            <p:cNvPr id="162" name=""/>
            <p:cNvSpPr/>
            <p:nvPr/>
          </p:nvSpPr>
          <p:spPr>
            <a:xfrm>
              <a:off x="7099200" y="4894200"/>
              <a:ext cx="1800000" cy="60948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6680" y="5030640"/>
              <a:ext cx="1632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fr-FR" sz="2200" spc="-1" strike="noStrike">
                  <a:solidFill>
                    <a:srgbClr val="000000"/>
                  </a:solidFill>
                  <a:latin typeface="Times New Roman"/>
                </a:rPr>
                <a:t>mise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 à jour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999560" y="4284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99560" y="550404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0"/>
            <a:endCxn id="158" idx="0"/>
          </p:cNvCxnSpPr>
          <p:nvPr/>
        </p:nvCxnSpPr>
        <p:spPr>
          <a:xfrm flipH="1" flipV="1" rot="5400000">
            <a:off x="7241040" y="3890520"/>
            <a:ext cx="2797920" cy="1283400"/>
          </a:xfrm>
          <a:prstGeom prst="bentConnector3">
            <a:avLst>
              <a:gd name="adj1" fmla="val -3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99560" y="2989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08840" y="2989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9200" y="1066680"/>
            <a:ext cx="1800000" cy="609480"/>
            <a:chOff x="5299200" y="1066680"/>
            <a:chExt cx="1800000" cy="609480"/>
          </a:xfrm>
        </p:grpSpPr>
        <p:sp>
          <p:nvSpPr>
            <p:cNvPr id="170" name=""/>
            <p:cNvSpPr/>
            <p:nvPr/>
          </p:nvSpPr>
          <p:spPr>
            <a:xfrm>
              <a:off x="5299200" y="1066680"/>
              <a:ext cx="1800000" cy="60948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8400" y="1203120"/>
              <a:ext cx="749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it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80200" y="2160720"/>
            <a:ext cx="1628640" cy="1603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97760" y="167652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97760" y="822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71880" y="3063960"/>
            <a:ext cx="12952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général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143000"/>
            <a:ext cx="8629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5000"/>
              </a:spcBef>
              <a:buNone/>
              <a:tabLst>
                <a:tab algn="l" pos="0"/>
                <a:tab algn="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Itérations et</a:t>
            </a:r>
            <a:br>
              <a:rPr sz="8000"/>
            </a:b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Manipulation de texte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630800"/>
            <a:ext cx="9220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cune des 35 perso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voyer un carton d’inv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fois de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ancer de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rner de 144 deg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les positions 1 à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ai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n’est plu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tant qu’une condition est vérifié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pour un nombre de fois connu à l’a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âches répétitives dont on connaît le nomb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2232000"/>
            <a:ext cx="5105520" cy="181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pteur 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aleur init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ur &lt;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aleur fina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ur augmente de 1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structions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19200" y="4507200"/>
            <a:ext cx="4348080" cy="174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pplication avec une tort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7 fois de sui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vancer de 10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rner de 3*360.0 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0000" y="4489560"/>
            <a:ext cx="3535200" cy="1272240"/>
          </a:xfrm>
          <a:prstGeom prst="cloudCallout">
            <a:avLst>
              <a:gd name="adj1" fmla="val -76055"/>
              <a:gd name="adj2" fmla="val 46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faire 3 tou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7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7120"/>
            <a:ext cx="5267160" cy="1554480"/>
          </a:xfrm>
          <a:prstGeom prst="cloudCallout">
            <a:avLst>
              <a:gd name="adj1" fmla="val -64310"/>
              <a:gd name="adj2" fmla="val 70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teu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’existe que dans la boucle. Elle n’a plus aucun sens aprè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oucl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2225520"/>
            <a:ext cx="502920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rtle etoile =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urtle(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r ( i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&lt;= 7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++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oile.forward( 10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oile.left( 3 * 360 / 7.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44960" y="288360"/>
            <a:ext cx="2615040" cy="2470680"/>
          </a:xfrm>
          <a:prstGeom prst="wedgeEllipseCallout">
            <a:avLst>
              <a:gd name="adj1" fmla="val -133523"/>
              <a:gd name="adj2" fmla="val 63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vaut don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orDessin" descr=""/>
          <p:cNvPicPr/>
          <p:nvPr/>
        </p:nvPicPr>
        <p:blipFill>
          <a:blip r:embed="rId1"/>
          <a:stretch/>
        </p:blipFill>
        <p:spPr>
          <a:xfrm>
            <a:off x="6324480" y="3171960"/>
            <a:ext cx="2998800" cy="2685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oucl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1908360"/>
            <a:ext cx="6590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chaîne de caractère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ite de caractères de longueur con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4760" y="3500640"/>
            <a:ext cx="7998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naître le nombre d’espace  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parcourir la chaî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175360"/>
            <a:ext cx="7667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 plus compliqu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iffrer et déchiffrer avec un cod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courir les caractères d’une chaî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6480" y="4105440"/>
            <a:ext cx="1839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14840" y="213228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280" y="2132280"/>
            <a:ext cx="9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ff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692360"/>
            <a:ext cx="6477120" cy="441360"/>
          </a:xfrm>
          <a:custGeom>
            <a:avLst/>
            <a:gdLst>
              <a:gd name="textAreaLeft" fmla="*/ 1133280 w 6477120"/>
              <a:gd name="textAreaRight" fmla="*/ 4695840 w 6477120"/>
              <a:gd name="textAreaTop" fmla="*/ 59040 h 441360"/>
              <a:gd name="textAreaBottom" fmla="*/ 382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142640" y="2955600"/>
            <a:ext cx="6296040" cy="441360"/>
          </a:xfrm>
          <a:custGeom>
            <a:avLst/>
            <a:gdLst>
              <a:gd name="textAreaLeft" fmla="*/ 1101600 w 6296040"/>
              <a:gd name="textAreaRight" fmla="*/ 4564800 w 6296040"/>
              <a:gd name="textAreaTop" fmla="*/ 59040 h 441360"/>
              <a:gd name="textAreaBottom" fmla="*/ 382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7920" y="18277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ff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5280" y="2818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hiff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05560"/>
            <a:ext cx="878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lé : « 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majuscules sont remplacées sel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 B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 C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 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Z,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, ...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minuscules et les autres caractères ne sont pas codés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hiffre de Cæs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276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lgorithme de chiff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9040" y="14468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« LE RIRE EST LE PROPRE DE L'HOMM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9040" y="2132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« SL YPYL LZA SL WYVWYL KL S'OVTTL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520" y="4270680"/>
            <a:ext cx="8430120" cy="1618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chaîne de caractères = chaîne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end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s caractères du mot à cod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u premier au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der le caractère et l ’ajouter à la fi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43560"/>
            <a:ext cx="9448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dage comme entier (ASCII sur 7 bits, unicode sur 2 octets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ièrement géré par l’ordinateur (heureusement 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294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Alerte !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1"/>
            <a:endCxn id="113" idx="3"/>
          </p:cNvCxnSpPr>
          <p:nvPr/>
        </p:nvCxnSpPr>
        <p:spPr>
          <a:xfrm flipH="1">
            <a:off x="2685240" y="1523520"/>
            <a:ext cx="1544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15" name=""/>
          <p:cNvSpPr/>
          <p:nvPr/>
        </p:nvSpPr>
        <p:spPr>
          <a:xfrm>
            <a:off x="4226400" y="1294200"/>
            <a:ext cx="46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Chaîne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è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43296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58680" y="2819520"/>
            <a:ext cx="66934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b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z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B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Z’, ’à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â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ç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ù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1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2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\’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!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: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(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+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*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§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$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#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&amp;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\n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\t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1840" y="193392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primitif (comm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3"/>
            <a:endCxn id="118" idx="1"/>
          </p:cNvCxnSpPr>
          <p:nvPr/>
        </p:nvCxnSpPr>
        <p:spPr>
          <a:xfrm flipV="1">
            <a:off x="1639440" y="2162880"/>
            <a:ext cx="932760" cy="15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6" idx="3"/>
            <a:endCxn id="121" idx="1"/>
          </p:cNvCxnSpPr>
          <p:nvPr/>
        </p:nvCxnSpPr>
        <p:spPr>
          <a:xfrm>
            <a:off x="1639800" y="3693960"/>
            <a:ext cx="92304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71840" y="4875840"/>
            <a:ext cx="38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 entière (son « code 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6" idx="3"/>
            <a:endCxn id="122" idx="1"/>
          </p:cNvCxnSpPr>
          <p:nvPr/>
        </p:nvCxnSpPr>
        <p:spPr>
          <a:xfrm>
            <a:off x="1639440" y="3693600"/>
            <a:ext cx="932760" cy="141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71840" y="2819520"/>
            <a:ext cx="171360" cy="1807920"/>
          </a:xfrm>
          <a:custGeom>
            <a:avLst/>
            <a:gdLst>
              <a:gd name="textAreaLeft" fmla="*/ 109440 w 171360"/>
              <a:gd name="textAreaRight" fmla="*/ 171720 w 171360"/>
              <a:gd name="textAreaTop" fmla="*/ 46800 h 1807920"/>
              <a:gd name="textAreaBottom" fmla="*/ 1761120 h 180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Qu’est-ce qu’un caractère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23T14:58:48Z</cp:lastPrinted>
  <dcterms:modified xsi:type="dcterms:W3CDTF">2001-11-23T14:58:49Z</dcterms:modified>
  <cp:revision>74</cp:revision>
  <dc:subject/>
  <dc:title>Aucun titre de diapositive</dc:title>
</cp:coreProperties>
</file>