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5360"/>
            <a:ext cx="217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-</a:t>
            </a:r>
            <a:fld id="{2C6F5227-B2C3-4116-AFE3-3F296788913A}" type="slidenum"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4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é 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48360"/>
            <a:ext cx="30510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URS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8640" y="1351440"/>
            <a:ext cx="906480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77720"/>
                <a:tab algn="l" pos="952560"/>
                <a:tab algn="l" pos="14335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tableau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ouver la case avec la plus petite valeur de la case courante 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la dernière ca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changer le contenu de cette case avec celui de la case cour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8640" y="2741760"/>
            <a:ext cx="9064800" cy="3634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387520"/>
                <a:tab algn="l" pos="24811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able : tableau (à tr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387520"/>
                <a:tab algn="l" pos="24811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Min : entier (indice du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387520"/>
                <a:tab algn="l" pos="24811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 pour le tri par sélec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tableau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fair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Min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indice de la case courant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tableau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puis la case courante (exclue)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fair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valeur de la case courante est plus petit que celui de la case iMi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alor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Min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indice de la case couran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fin faire parcours intern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échanger les valeurs de la case courante et de la case iMi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fin faire ext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100480" y="2994120"/>
            <a:ext cx="4141800" cy="2468520"/>
            <a:chOff x="5100480" y="2994120"/>
            <a:chExt cx="4141800" cy="2468520"/>
          </a:xfrm>
        </p:grpSpPr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5100480" y="2994120"/>
              <a:ext cx="41418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400800" y="3065040"/>
              <a:ext cx="20620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« case courante »…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 quel parcours ?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riable loc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1880" y="1166400"/>
            <a:ext cx="5248440" cy="530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triSelection (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[] table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arcours englob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0" lang="fr-FR" sz="1800" spc="-1" strike="noStrike">
                <a:solidFill>
                  <a:srgbClr val="009900"/>
                </a:solidFill>
                <a:latin typeface="Arial"/>
              </a:rPr>
              <a:t> (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9900"/>
                </a:solidFill>
                <a:latin typeface="Arial"/>
              </a:rPr>
              <a:t> i = 0; i &lt; table.length ; i++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ur trouver le ième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Min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 (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 j = i + 1 ; j &lt; table.length; j++ 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</a:rPr>
              <a:t>if</a:t>
            </a:r>
            <a:r>
              <a:rPr b="0" lang="fr-FR" sz="1800" spc="-1" strike="noStrike">
                <a:solidFill>
                  <a:srgbClr val="990033"/>
                </a:solidFill>
                <a:latin typeface="Arial"/>
              </a:rPr>
              <a:t> ( table [ j ] &lt; table [ iMin 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in =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échange des val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val = table [ iMin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ble [ iMin ] = table [ i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ble [ i ]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9900"/>
                </a:solidFill>
                <a:latin typeface="Arial"/>
              </a:rPr>
              <a:t>} // </a:t>
            </a:r>
            <a:r>
              <a:rPr b="0" i="1" lang="fr-FR" sz="1800" spc="-1" strike="noStrike">
                <a:solidFill>
                  <a:srgbClr val="009900"/>
                </a:solidFill>
                <a:latin typeface="Arial"/>
              </a:rPr>
              <a:t>fin parcours englob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in procédure tri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8800" y="1395000"/>
            <a:ext cx="4336920" cy="360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table : tableau (à tri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1600"/>
            </a:b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iMin : in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 tri par sélection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Comic Sans MS"/>
              </a:rPr>
              <a:t>parcourir </a:t>
            </a:r>
            <a:r>
              <a:rPr b="0" lang="fr-FR" sz="1600" spc="-1" strike="noStrike">
                <a:solidFill>
                  <a:srgbClr val="009900"/>
                </a:solidFill>
                <a:latin typeface="Comic Sans MS"/>
              </a:rPr>
              <a:t>le tableau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iMin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indice de la case ..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Comic Sans MS"/>
              </a:rPr>
              <a:t>parcourir </a:t>
            </a:r>
            <a:r>
              <a:rPr b="0" lang="fr-FR" sz="1600" spc="-1" strike="noStrike">
                <a:solidFill>
                  <a:srgbClr val="0000ff"/>
                </a:solidFill>
                <a:latin typeface="Comic Sans MS"/>
              </a:rPr>
              <a:t>le tableau</a:t>
            </a:r>
            <a:r>
              <a:rPr b="1" lang="fr-FR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ff"/>
                </a:solidFill>
                <a:latin typeface="Comic Sans MS"/>
              </a:rPr>
              <a:t>depuis ..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Comic Sans MS"/>
              </a:rPr>
              <a:t>si</a:t>
            </a:r>
            <a:r>
              <a:rPr b="0" lang="fr-FR" sz="1600" spc="-1" strike="noStrike">
                <a:solidFill>
                  <a:srgbClr val="990033"/>
                </a:solidFill>
                <a:latin typeface="Comic Sans MS"/>
              </a:rPr>
              <a:t> la valeur de la case</a:t>
            </a:r>
            <a:r>
              <a:rPr b="0" lang="fr-FR" sz="1600" spc="-1" strike="noStrike">
                <a:solidFill>
                  <a:srgbClr val="cc0000"/>
                </a:solidFill>
                <a:latin typeface="Comic Sans MS"/>
              </a:rPr>
              <a:t> ...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iMin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indice de la ...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échanger les valeurs d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4573080" y="1601640"/>
            <a:ext cx="11415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668680" y="1525320"/>
            <a:ext cx="3046320" cy="13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4116240" y="2439720"/>
            <a:ext cx="1640160" cy="912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030280" y="3354120"/>
            <a:ext cx="1217880" cy="531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4573080" y="3735000"/>
            <a:ext cx="2132280" cy="53172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802040" y="4800600"/>
            <a:ext cx="1446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3360" y="4268880"/>
            <a:ext cx="461880" cy="1068120"/>
          </a:xfrm>
          <a:custGeom>
            <a:avLst/>
            <a:gdLst/>
            <a:ahLst/>
            <a:rect l="l" t="t" r="r" b="b"/>
            <a:pathLst>
              <a:path w="291" h="673">
                <a:moveTo>
                  <a:pt x="0" y="0"/>
                </a:moveTo>
                <a:lnTo>
                  <a:pt x="60" y="5"/>
                </a:lnTo>
                <a:lnTo>
                  <a:pt x="106" y="16"/>
                </a:lnTo>
                <a:lnTo>
                  <a:pt x="124" y="27"/>
                </a:lnTo>
                <a:lnTo>
                  <a:pt x="138" y="32"/>
                </a:lnTo>
                <a:lnTo>
                  <a:pt x="142" y="43"/>
                </a:lnTo>
                <a:lnTo>
                  <a:pt x="147" y="54"/>
                </a:lnTo>
                <a:lnTo>
                  <a:pt x="147" y="279"/>
                </a:lnTo>
                <a:lnTo>
                  <a:pt x="152" y="290"/>
                </a:lnTo>
                <a:lnTo>
                  <a:pt x="156" y="301"/>
                </a:lnTo>
                <a:lnTo>
                  <a:pt x="170" y="312"/>
                </a:lnTo>
                <a:lnTo>
                  <a:pt x="189" y="317"/>
                </a:lnTo>
                <a:lnTo>
                  <a:pt x="235" y="328"/>
                </a:lnTo>
                <a:lnTo>
                  <a:pt x="290" y="333"/>
                </a:lnTo>
                <a:lnTo>
                  <a:pt x="235" y="339"/>
                </a:lnTo>
                <a:lnTo>
                  <a:pt x="189" y="349"/>
                </a:lnTo>
                <a:lnTo>
                  <a:pt x="170" y="360"/>
                </a:lnTo>
                <a:lnTo>
                  <a:pt x="156" y="371"/>
                </a:lnTo>
                <a:lnTo>
                  <a:pt x="152" y="382"/>
                </a:lnTo>
                <a:lnTo>
                  <a:pt x="147" y="392"/>
                </a:lnTo>
                <a:lnTo>
                  <a:pt x="147" y="613"/>
                </a:lnTo>
                <a:lnTo>
                  <a:pt x="142" y="624"/>
                </a:lnTo>
                <a:lnTo>
                  <a:pt x="138" y="634"/>
                </a:lnTo>
                <a:lnTo>
                  <a:pt x="124" y="645"/>
                </a:lnTo>
                <a:lnTo>
                  <a:pt x="106" y="656"/>
                </a:lnTo>
                <a:lnTo>
                  <a:pt x="60" y="667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gorithme et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04920" y="1582200"/>
            <a:ext cx="9372600" cy="46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trouver position du minimum d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ernières ) 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 + c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permuter deux valeurs ) 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itératio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-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boucle )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-i + ct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i variant de 1 à n 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0" i="1" lang="fr-F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lgorithme de tri par insertion est « 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quadratique »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nombre d’opérations faites est de l’ordre du carré du nombre d’éléments du tabl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ut-on faire mieux ?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ui mais c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ût du tri par 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790720" y="1714680"/>
            <a:ext cx="228600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stTri.main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7360" y="3772080"/>
            <a:ext cx="2133360" cy="761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stTri.affiche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34120" y="3772080"/>
            <a:ext cx="2238480" cy="761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stTri.affiche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81440" y="3772080"/>
            <a:ext cx="2819520" cy="761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i.triSelectio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935160" y="954000"/>
            <a:ext cx="1801800" cy="760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54280" y="3011400"/>
            <a:ext cx="1675080" cy="760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45000" y="3011400"/>
            <a:ext cx="3046320" cy="760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030400" y="3011400"/>
            <a:ext cx="1039680" cy="760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28960" y="5753160"/>
            <a:ext cx="7110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39960" y="5753160"/>
            <a:ext cx="71136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51320" y="5753160"/>
            <a:ext cx="7110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62320" y="5753160"/>
            <a:ext cx="71136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3680" y="5753160"/>
            <a:ext cx="7110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84680" y="5753160"/>
            <a:ext cx="71136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87600" y="4002120"/>
            <a:ext cx="252360" cy="1751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697280" y="4002120"/>
            <a:ext cx="1446480" cy="1751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144840" y="4002120"/>
            <a:ext cx="2894040" cy="1751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71880" y="2173320"/>
            <a:ext cx="1089000" cy="646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71280" bIns="71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tab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0560" y="2630520"/>
            <a:ext cx="0" cy="31226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29400" y="691920"/>
            <a:ext cx="2876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ement du program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du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87680" y="2187000"/>
            <a:ext cx="318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deux appels 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ch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t distinc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258640" y="3011400"/>
            <a:ext cx="988920" cy="760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35520" y="3011400"/>
            <a:ext cx="1598400" cy="760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78520" y="3011400"/>
            <a:ext cx="2944800" cy="760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16040" y="1135080"/>
            <a:ext cx="1420920" cy="579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age par valeu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67560" y="1528200"/>
            <a:ext cx="506484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Premier tri</a:t>
            </a:r>
            <a:br>
              <a:rPr sz="8000"/>
            </a:b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erPmier tri</a:t>
            </a:r>
            <a:br>
              <a:rPr sz="5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ePmirr tri</a:t>
            </a:r>
            <a:br>
              <a:rPr sz="48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eimPrr tri</a:t>
            </a:r>
            <a:br>
              <a:rPr sz="4000"/>
            </a:b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eiiPrr trm</a:t>
            </a:r>
            <a:br>
              <a:rPr sz="36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eiimrr trP</a:t>
            </a:r>
            <a:br>
              <a:rPr sz="32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eiimrrr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71880" y="4363920"/>
            <a:ext cx="56116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er une collection tri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er par sé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89560" y="2082960"/>
            <a:ext cx="7386120" cy="30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r un tableau trié simplifie la recherc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nnuaire, dictionnaire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garder le tableau trié qu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enlève ou ajoute un élém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trier un tableau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ction tri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8560" y="4346640"/>
            <a:ext cx="3120840" cy="31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2640" y="4346640"/>
            <a:ext cx="2228760" cy="31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68560" y="3083040"/>
            <a:ext cx="3120840" cy="311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89640" y="3083040"/>
            <a:ext cx="2228760" cy="311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40240" y="2603520"/>
            <a:ext cx="1784520" cy="477720"/>
            <a:chOff x="4440240" y="2603520"/>
            <a:chExt cx="1784520" cy="477720"/>
          </a:xfrm>
        </p:grpSpPr>
        <p:sp>
          <p:nvSpPr>
            <p:cNvPr id="90" name=""/>
            <p:cNvSpPr/>
            <p:nvPr/>
          </p:nvSpPr>
          <p:spPr>
            <a:xfrm>
              <a:off x="4440240" y="27874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40240" y="2603520"/>
              <a:ext cx="17845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Sup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37000" y="3625560"/>
            <a:ext cx="2163960" cy="374760"/>
            <a:chOff x="4437000" y="3625560"/>
            <a:chExt cx="2163960" cy="374760"/>
          </a:xfrm>
        </p:grpSpPr>
        <p:sp>
          <p:nvSpPr>
            <p:cNvPr id="93" name=""/>
            <p:cNvSpPr/>
            <p:nvPr/>
          </p:nvSpPr>
          <p:spPr>
            <a:xfrm flipV="1">
              <a:off x="443700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71492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989600" y="3625560"/>
              <a:ext cx="22212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26896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54688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821200" y="3625560"/>
              <a:ext cx="2224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10092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38028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292640" y="3083040"/>
            <a:ext cx="295200" cy="312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058160" y="2529000"/>
            <a:ext cx="914400" cy="552240"/>
            <a:chOff x="7058160" y="2529000"/>
            <a:chExt cx="914400" cy="552240"/>
          </a:xfrm>
        </p:grpSpPr>
        <p:sp>
          <p:nvSpPr>
            <p:cNvPr id="103" name=""/>
            <p:cNvSpPr/>
            <p:nvPr/>
          </p:nvSpPr>
          <p:spPr>
            <a:xfrm>
              <a:off x="7058160" y="27874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58160" y="252900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9280" y="1600200"/>
            <a:ext cx="910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caler pour « écraser » la valeur à supprimer et éviter un tr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560" y="5024880"/>
            <a:ext cx="8302680" cy="96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ableau de iSupression inclus à iLibre exclu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le contenu de la case suivante dans la case courant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inu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600960" y="3792600"/>
            <a:ext cx="914400" cy="552240"/>
            <a:chOff x="6600960" y="3792600"/>
            <a:chExt cx="914400" cy="552240"/>
          </a:xfrm>
        </p:grpSpPr>
        <p:sp>
          <p:nvSpPr>
            <p:cNvPr id="108" name=""/>
            <p:cNvSpPr/>
            <p:nvPr/>
          </p:nvSpPr>
          <p:spPr>
            <a:xfrm>
              <a:off x="6600960" y="405144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00960" y="379260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21640" y="3083040"/>
            <a:ext cx="1854000" cy="31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4640" y="4346640"/>
            <a:ext cx="2151000" cy="31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ppression dans un tableau tri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771000"/>
            <a:ext cx="32083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faire de la place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sser les aut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ucle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tion à l’ord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173400" y="3801960"/>
            <a:ext cx="5353200" cy="723960"/>
            <a:chOff x="3173400" y="3801960"/>
            <a:chExt cx="5353200" cy="723960"/>
          </a:xfrm>
        </p:grpSpPr>
        <p:sp>
          <p:nvSpPr>
            <p:cNvPr id="115" name=""/>
            <p:cNvSpPr/>
            <p:nvPr/>
          </p:nvSpPr>
          <p:spPr>
            <a:xfrm>
              <a:off x="3173400" y="4249800"/>
              <a:ext cx="3121200" cy="276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97480" y="4249800"/>
              <a:ext cx="2229120" cy="276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445080" y="3801960"/>
              <a:ext cx="1791000" cy="447840"/>
              <a:chOff x="6445080" y="3801960"/>
              <a:chExt cx="1791000" cy="447840"/>
            </a:xfrm>
          </p:grpSpPr>
          <p:sp>
            <p:nvSpPr>
              <p:cNvPr id="118" name=""/>
              <p:cNvSpPr/>
              <p:nvPr/>
            </p:nvSpPr>
            <p:spPr>
              <a:xfrm>
                <a:off x="6445080" y="39895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45080" y="3801960"/>
                <a:ext cx="179100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 = iM = 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297480" y="4249800"/>
              <a:ext cx="295560" cy="27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173400" y="977760"/>
            <a:ext cx="6246720" cy="723960"/>
            <a:chOff x="3173400" y="977760"/>
            <a:chExt cx="6246720" cy="723960"/>
          </a:xfrm>
        </p:grpSpPr>
        <p:sp>
          <p:nvSpPr>
            <p:cNvPr id="122" name=""/>
            <p:cNvSpPr/>
            <p:nvPr/>
          </p:nvSpPr>
          <p:spPr>
            <a:xfrm>
              <a:off x="3173400" y="14256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02400" y="1425600"/>
              <a:ext cx="2952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31040" y="1425600"/>
              <a:ext cx="2955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0400" y="1425600"/>
              <a:ext cx="2228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21000" y="977760"/>
              <a:ext cx="966960" cy="447840"/>
              <a:chOff x="3321000" y="977760"/>
              <a:chExt cx="966960" cy="447840"/>
            </a:xfrm>
          </p:grpSpPr>
          <p:sp>
            <p:nvSpPr>
              <p:cNvPr id="127" name=""/>
              <p:cNvSpPr/>
              <p:nvPr/>
            </p:nvSpPr>
            <p:spPr>
              <a:xfrm>
                <a:off x="3321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21000" y="977760"/>
                <a:ext cx="9669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éb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000840" y="1425600"/>
              <a:ext cx="22273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379000" y="977760"/>
              <a:ext cx="1041120" cy="447840"/>
              <a:chOff x="8379000" y="977760"/>
              <a:chExt cx="1041120" cy="447840"/>
            </a:xfrm>
          </p:grpSpPr>
          <p:sp>
            <p:nvSpPr>
              <p:cNvPr id="131" name=""/>
              <p:cNvSpPr/>
              <p:nvPr/>
            </p:nvSpPr>
            <p:spPr>
              <a:xfrm>
                <a:off x="8379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79000" y="977760"/>
                <a:ext cx="10411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F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850000" y="977760"/>
              <a:ext cx="892080" cy="447840"/>
              <a:chOff x="5850000" y="977760"/>
              <a:chExt cx="892080" cy="447840"/>
            </a:xfrm>
          </p:grpSpPr>
          <p:sp>
            <p:nvSpPr>
              <p:cNvPr id="134" name=""/>
              <p:cNvSpPr/>
              <p:nvPr/>
            </p:nvSpPr>
            <p:spPr>
              <a:xfrm>
                <a:off x="5850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50000" y="977760"/>
                <a:ext cx="89208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ilie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173400" y="1919160"/>
            <a:ext cx="5576760" cy="723960"/>
            <a:chOff x="3173400" y="1919160"/>
            <a:chExt cx="5576760" cy="723960"/>
          </a:xfrm>
        </p:grpSpPr>
        <p:sp>
          <p:nvSpPr>
            <p:cNvPr id="137" name=""/>
            <p:cNvSpPr/>
            <p:nvPr/>
          </p:nvSpPr>
          <p:spPr>
            <a:xfrm>
              <a:off x="570240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6744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3104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2367000"/>
              <a:ext cx="9651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64440" y="2367000"/>
              <a:ext cx="9637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850000" y="1919160"/>
              <a:ext cx="2900160" cy="447840"/>
              <a:chOff x="5850000" y="1919160"/>
              <a:chExt cx="2900160" cy="4478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850000" y="1919160"/>
                <a:ext cx="595080" cy="447840"/>
                <a:chOff x="5850000" y="1919160"/>
                <a:chExt cx="595080" cy="447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85000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850000" y="1919160"/>
                  <a:ext cx="59508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379000" y="1919160"/>
                <a:ext cx="371160" cy="447840"/>
                <a:chOff x="8379000" y="1919160"/>
                <a:chExt cx="371160" cy="4478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37900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379000" y="1919160"/>
                  <a:ext cx="3711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151760" y="1919160"/>
                <a:ext cx="520560" cy="447840"/>
                <a:chOff x="7151760" y="1919160"/>
                <a:chExt cx="520560" cy="4478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5176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51760" y="1919160"/>
                  <a:ext cx="5205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3173400" y="2367000"/>
              <a:ext cx="2525760" cy="276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73400" y="4743360"/>
            <a:ext cx="5353200" cy="723960"/>
            <a:chOff x="3173400" y="4743360"/>
            <a:chExt cx="5353200" cy="723960"/>
          </a:xfrm>
        </p:grpSpPr>
        <p:sp>
          <p:nvSpPr>
            <p:cNvPr id="154" name=""/>
            <p:cNvSpPr/>
            <p:nvPr/>
          </p:nvSpPr>
          <p:spPr>
            <a:xfrm>
              <a:off x="3173400" y="5191200"/>
              <a:ext cx="3121200" cy="276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97480" y="5191200"/>
              <a:ext cx="2229120" cy="276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445080" y="4743360"/>
              <a:ext cx="1791000" cy="447840"/>
              <a:chOff x="6445080" y="4743360"/>
              <a:chExt cx="1791000" cy="447840"/>
            </a:xfrm>
          </p:grpSpPr>
          <p:sp>
            <p:nvSpPr>
              <p:cNvPr id="157" name=""/>
              <p:cNvSpPr/>
              <p:nvPr/>
            </p:nvSpPr>
            <p:spPr>
              <a:xfrm>
                <a:off x="6445080" y="49309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45080" y="4743360"/>
                <a:ext cx="179100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 = iM = 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297480" y="5191200"/>
              <a:ext cx="295560" cy="27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173400" y="5684760"/>
            <a:ext cx="5649840" cy="846360"/>
            <a:chOff x="3173400" y="5684760"/>
            <a:chExt cx="5649840" cy="846360"/>
          </a:xfrm>
        </p:grpSpPr>
        <p:sp>
          <p:nvSpPr>
            <p:cNvPr id="161" name=""/>
            <p:cNvSpPr/>
            <p:nvPr/>
          </p:nvSpPr>
          <p:spPr>
            <a:xfrm>
              <a:off x="3173400" y="6134040"/>
              <a:ext cx="3121200" cy="274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6134040"/>
              <a:ext cx="2228760" cy="274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445080" y="5684760"/>
              <a:ext cx="1784520" cy="447840"/>
              <a:chOff x="6445080" y="5684760"/>
              <a:chExt cx="1784520" cy="447840"/>
            </a:xfrm>
          </p:grpSpPr>
          <p:sp>
            <p:nvSpPr>
              <p:cNvPr id="164" name=""/>
              <p:cNvSpPr/>
              <p:nvPr/>
            </p:nvSpPr>
            <p:spPr>
              <a:xfrm>
                <a:off x="6445080" y="587376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45080" y="5684760"/>
                <a:ext cx="17845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296040" y="6012000"/>
              <a:ext cx="297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521400" y="5711760"/>
            <a:ext cx="2163960" cy="331920"/>
            <a:chOff x="6521400" y="5711760"/>
            <a:chExt cx="2163960" cy="331920"/>
          </a:xfrm>
        </p:grpSpPr>
        <p:sp>
          <p:nvSpPr>
            <p:cNvPr id="168" name=""/>
            <p:cNvSpPr/>
            <p:nvPr/>
          </p:nvSpPr>
          <p:spPr>
            <a:xfrm>
              <a:off x="652140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9932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75440" y="5711760"/>
              <a:ext cx="2221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5336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1280" y="5711760"/>
              <a:ext cx="2203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07400" y="5711760"/>
              <a:ext cx="2221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85320" y="5711760"/>
              <a:ext cx="2203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6468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63800" y="1762200"/>
            <a:ext cx="3051360" cy="496800"/>
            <a:chOff x="2863800" y="1762200"/>
            <a:chExt cx="3051360" cy="496800"/>
          </a:xfrm>
        </p:grpSpPr>
        <p:pic>
          <p:nvPicPr>
            <p:cNvPr id="177" name="" descr=""/>
            <p:cNvPicPr/>
            <p:nvPr/>
          </p:nvPicPr>
          <p:blipFill>
            <a:blip r:embed="rId8"/>
            <a:stretch/>
          </p:blipFill>
          <p:spPr>
            <a:xfrm>
              <a:off x="2863800" y="1762200"/>
              <a:ext cx="305136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904120" y="1804680"/>
              <a:ext cx="117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[iM] &lt;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855880" y="2695680"/>
            <a:ext cx="4336920" cy="496800"/>
            <a:chOff x="2855880" y="2695680"/>
            <a:chExt cx="4336920" cy="496800"/>
          </a:xfrm>
        </p:grpSpPr>
        <p:pic>
          <p:nvPicPr>
            <p:cNvPr id="180" name="" descr=""/>
            <p:cNvPicPr/>
            <p:nvPr/>
          </p:nvPicPr>
          <p:blipFill>
            <a:blip r:embed="rId9"/>
            <a:stretch/>
          </p:blipFill>
          <p:spPr>
            <a:xfrm>
              <a:off x="2855880" y="2695680"/>
              <a:ext cx="433692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864880" y="2738160"/>
              <a:ext cx="1236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[iM]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658360" y="3730680"/>
            <a:ext cx="914400" cy="514440"/>
            <a:chOff x="8658360" y="3730680"/>
            <a:chExt cx="914400" cy="514440"/>
          </a:xfrm>
        </p:grpSpPr>
        <p:sp>
          <p:nvSpPr>
            <p:cNvPr id="183" name=""/>
            <p:cNvSpPr/>
            <p:nvPr/>
          </p:nvSpPr>
          <p:spPr>
            <a:xfrm>
              <a:off x="8658360" y="390996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58360" y="37306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8962920" y="5529240"/>
            <a:ext cx="914400" cy="514440"/>
            <a:chOff x="8962920" y="5529240"/>
            <a:chExt cx="914400" cy="514440"/>
          </a:xfrm>
        </p:grpSpPr>
        <p:sp>
          <p:nvSpPr>
            <p:cNvPr id="186" name=""/>
            <p:cNvSpPr/>
            <p:nvPr/>
          </p:nvSpPr>
          <p:spPr>
            <a:xfrm>
              <a:off x="8962920" y="570852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962920" y="552924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174840" y="2860560"/>
            <a:ext cx="5349960" cy="714600"/>
            <a:chOff x="3174840" y="2860560"/>
            <a:chExt cx="5349960" cy="714600"/>
          </a:xfrm>
        </p:grpSpPr>
        <p:grpSp>
          <p:nvGrpSpPr>
            <p:cNvPr id="189" name=""/>
            <p:cNvGrpSpPr/>
            <p:nvPr/>
          </p:nvGrpSpPr>
          <p:grpSpPr>
            <a:xfrm>
              <a:off x="5775480" y="2860560"/>
              <a:ext cx="520560" cy="447840"/>
              <a:chOff x="5775480" y="2860560"/>
              <a:chExt cx="520560" cy="447840"/>
            </a:xfrm>
          </p:grpSpPr>
          <p:sp>
            <p:nvSpPr>
              <p:cNvPr id="190" name=""/>
              <p:cNvSpPr/>
              <p:nvPr/>
            </p:nvSpPr>
            <p:spPr>
              <a:xfrm>
                <a:off x="577548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75480" y="2860560"/>
                <a:ext cx="5205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107120" y="2860560"/>
              <a:ext cx="489240" cy="447840"/>
              <a:chOff x="7107120" y="2860560"/>
              <a:chExt cx="489240" cy="447840"/>
            </a:xfrm>
          </p:grpSpPr>
          <p:sp>
            <p:nvSpPr>
              <p:cNvPr id="193" name=""/>
              <p:cNvSpPr/>
              <p:nvPr/>
            </p:nvSpPr>
            <p:spPr>
              <a:xfrm>
                <a:off x="710712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07120" y="2860560"/>
                <a:ext cx="48924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443640" y="2860560"/>
              <a:ext cx="453960" cy="447840"/>
              <a:chOff x="6443640" y="2860560"/>
              <a:chExt cx="453960" cy="447840"/>
            </a:xfrm>
          </p:grpSpPr>
          <p:sp>
            <p:nvSpPr>
              <p:cNvPr id="196" name=""/>
              <p:cNvSpPr/>
              <p:nvPr/>
            </p:nvSpPr>
            <p:spPr>
              <a:xfrm>
                <a:off x="644364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43640" y="2860560"/>
                <a:ext cx="4539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703840" y="3298680"/>
              <a:ext cx="2937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69240" y="3298680"/>
              <a:ext cx="29340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0840" y="3298680"/>
              <a:ext cx="9651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65880" y="3298680"/>
              <a:ext cx="1258920" cy="276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74840" y="3298680"/>
              <a:ext cx="2525760" cy="276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529480" y="142704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29480" y="23670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29480" y="329868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29480" y="42498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29480" y="51912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826480" y="6134040"/>
            <a:ext cx="592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685360" y="738360"/>
            <a:ext cx="914400" cy="682560"/>
            <a:chOff x="8685360" y="738360"/>
            <a:chExt cx="914400" cy="682560"/>
          </a:xfrm>
        </p:grpSpPr>
        <p:sp>
          <p:nvSpPr>
            <p:cNvPr id="210" name=""/>
            <p:cNvSpPr/>
            <p:nvPr/>
          </p:nvSpPr>
          <p:spPr>
            <a:xfrm>
              <a:off x="8685360" y="890640"/>
              <a:ext cx="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85360" y="73836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658360" y="1766880"/>
            <a:ext cx="914400" cy="598320"/>
            <a:chOff x="8658360" y="1766880"/>
            <a:chExt cx="914400" cy="598320"/>
          </a:xfrm>
        </p:grpSpPr>
        <p:sp>
          <p:nvSpPr>
            <p:cNvPr id="213" name=""/>
            <p:cNvSpPr/>
            <p:nvPr/>
          </p:nvSpPr>
          <p:spPr>
            <a:xfrm>
              <a:off x="8658360" y="193356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58360" y="17668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658360" y="2793960"/>
            <a:ext cx="914400" cy="514440"/>
            <a:chOff x="8658360" y="2793960"/>
            <a:chExt cx="914400" cy="514440"/>
          </a:xfrm>
        </p:grpSpPr>
        <p:sp>
          <p:nvSpPr>
            <p:cNvPr id="216" name=""/>
            <p:cNvSpPr/>
            <p:nvPr/>
          </p:nvSpPr>
          <p:spPr>
            <a:xfrm>
              <a:off x="8658360" y="297324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58360" y="279396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658360" y="4702320"/>
            <a:ext cx="914400" cy="514080"/>
            <a:chOff x="8658360" y="4702320"/>
            <a:chExt cx="914400" cy="514080"/>
          </a:xfrm>
        </p:grpSpPr>
        <p:sp>
          <p:nvSpPr>
            <p:cNvPr id="219" name=""/>
            <p:cNvSpPr/>
            <p:nvPr/>
          </p:nvSpPr>
          <p:spPr>
            <a:xfrm>
              <a:off x="8658360" y="4881600"/>
              <a:ext cx="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58360" y="470232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5280" y="2057040"/>
            <a:ext cx="2506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où insérer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7560" y="1331640"/>
            <a:ext cx="2506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eur à insé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 tableau tri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6360" y="1523160"/>
            <a:ext cx="9140760" cy="430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délisation d’un tableau de taille vari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 plus petit que la taille du t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em : élément à insé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Insertion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Insertion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’un élément à sa plac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Insertion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osition où élem doit être inséré (trouvée par dichotomie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u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variant de iLibre-1 à iInsertion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fai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le contenu de la case i dans la case suivant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faire po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tre élem dans la case d’indice iInser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 tableau tri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72960" y="1470600"/>
            <a:ext cx="865836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 insertion d’un élément dans un tableau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as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 recherche dichotomique dans un tableau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ses 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 déplacer entre 0 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as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O (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n ) + O (n ) = O ( 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urait eu la même complexité avec une recherche séquenti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technique de la dichotomie est utilisée dans toute une famill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algorithmes (« 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ivide and conquer »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généralement assez effic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ût  de l’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1066680"/>
            <a:ext cx="9144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réquent en informatiqu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des données dans un tableau et on voudrait les avoir dans un certain or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é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emière case contient la plus petite valeu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econde case contient la plus petite valeur d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rnières ca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que case contient la plus petite valeur de la case et de toutes l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ég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ver la plus petite valeur et l’échanger avec la première vale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cer mais en ignorant la premièr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eut prouver par récurrence qu’à la fin le tableau est tri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qu’il contient les mêmes élé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 par séle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1687680" y="4967280"/>
            <a:ext cx="4263840" cy="341280"/>
            <a:chOff x="1687680" y="4967280"/>
            <a:chExt cx="4263840" cy="341280"/>
          </a:xfrm>
        </p:grpSpPr>
        <p:sp>
          <p:nvSpPr>
            <p:cNvPr id="231" name=""/>
            <p:cNvSpPr/>
            <p:nvPr/>
          </p:nvSpPr>
          <p:spPr>
            <a:xfrm>
              <a:off x="1687680" y="4967280"/>
              <a:ext cx="42638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9724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0824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1960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3060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4196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39724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87680" y="150804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87680" y="237168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98680" y="237168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87680" y="323676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98680" y="323676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10040" y="323676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87680" y="4102200"/>
            <a:ext cx="707760" cy="3394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98680" y="4102200"/>
            <a:ext cx="708120" cy="3394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10040" y="4102200"/>
            <a:ext cx="707760" cy="3394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7680" y="496728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98680" y="496728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87680" y="1508040"/>
            <a:ext cx="426384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0824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3060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196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98680" y="150804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10040" y="150804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21040" y="150804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2400" y="150804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43400" y="150804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687680" y="2371680"/>
            <a:ext cx="4263840" cy="341280"/>
            <a:chOff x="1687680" y="2371680"/>
            <a:chExt cx="4263840" cy="341280"/>
          </a:xfrm>
        </p:grpSpPr>
        <p:sp>
          <p:nvSpPr>
            <p:cNvPr id="260" name=""/>
            <p:cNvSpPr/>
            <p:nvPr/>
          </p:nvSpPr>
          <p:spPr>
            <a:xfrm>
              <a:off x="1687680" y="2371680"/>
              <a:ext cx="42638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9724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0824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1960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3060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4196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110040" y="237168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1040" y="237168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32400" y="237168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687680" y="3236760"/>
            <a:ext cx="4263840" cy="341640"/>
            <a:chOff x="1687680" y="3236760"/>
            <a:chExt cx="4263840" cy="341640"/>
          </a:xfrm>
        </p:grpSpPr>
        <p:sp>
          <p:nvSpPr>
            <p:cNvPr id="270" name=""/>
            <p:cNvSpPr/>
            <p:nvPr/>
          </p:nvSpPr>
          <p:spPr>
            <a:xfrm>
              <a:off x="1687680" y="3236760"/>
              <a:ext cx="42638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9724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824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1960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060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4196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821040" y="323676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87680" y="4102200"/>
            <a:ext cx="4263840" cy="341280"/>
            <a:chOff x="1687680" y="4102200"/>
            <a:chExt cx="4263840" cy="341280"/>
          </a:xfrm>
        </p:grpSpPr>
        <p:sp>
          <p:nvSpPr>
            <p:cNvPr id="278" name=""/>
            <p:cNvSpPr/>
            <p:nvPr/>
          </p:nvSpPr>
          <p:spPr>
            <a:xfrm>
              <a:off x="1687680" y="4102200"/>
              <a:ext cx="426384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9724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0824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1960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3060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4196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687680" y="5832360"/>
            <a:ext cx="4263840" cy="341280"/>
            <a:chOff x="1687680" y="5832360"/>
            <a:chExt cx="4263840" cy="341280"/>
          </a:xfrm>
        </p:grpSpPr>
        <p:sp>
          <p:nvSpPr>
            <p:cNvPr id="285" name=""/>
            <p:cNvSpPr/>
            <p:nvPr/>
          </p:nvSpPr>
          <p:spPr>
            <a:xfrm>
              <a:off x="1687680" y="5832360"/>
              <a:ext cx="42638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9724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0824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1960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060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4196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822400" y="1030320"/>
            <a:ext cx="997200" cy="476280"/>
            <a:chOff x="2822400" y="1030320"/>
            <a:chExt cx="997200" cy="476280"/>
          </a:xfrm>
        </p:grpSpPr>
        <p:sp>
          <p:nvSpPr>
            <p:cNvPr id="292" name=""/>
            <p:cNvSpPr/>
            <p:nvPr/>
          </p:nvSpPr>
          <p:spPr>
            <a:xfrm>
              <a:off x="2822400" y="12142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22400" y="1030320"/>
              <a:ext cx="99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972800" y="1851120"/>
            <a:ext cx="849600" cy="474480"/>
            <a:chOff x="1972800" y="1851120"/>
            <a:chExt cx="849600" cy="474480"/>
          </a:xfrm>
        </p:grpSpPr>
        <p:sp>
          <p:nvSpPr>
            <p:cNvPr id="295" name=""/>
            <p:cNvSpPr/>
            <p:nvPr/>
          </p:nvSpPr>
          <p:spPr>
            <a:xfrm>
              <a:off x="1973160" y="1851120"/>
              <a:ext cx="849240" cy="469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72800" y="1851120"/>
              <a:ext cx="849240" cy="474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766600" y="2760840"/>
            <a:ext cx="1421280" cy="474480"/>
            <a:chOff x="2766600" y="2760840"/>
            <a:chExt cx="1421280" cy="474480"/>
          </a:xfrm>
        </p:grpSpPr>
        <p:sp>
          <p:nvSpPr>
            <p:cNvPr id="298" name=""/>
            <p:cNvSpPr/>
            <p:nvPr/>
          </p:nvSpPr>
          <p:spPr>
            <a:xfrm>
              <a:off x="2766960" y="2760840"/>
              <a:ext cx="1420920" cy="469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766600" y="2760840"/>
              <a:ext cx="1420920" cy="474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89440" y="1270080"/>
            <a:ext cx="735120" cy="474480"/>
            <a:chOff x="6589440" y="1270080"/>
            <a:chExt cx="735120" cy="474480"/>
          </a:xfrm>
        </p:grpSpPr>
        <p:sp>
          <p:nvSpPr>
            <p:cNvPr id="301" name=""/>
            <p:cNvSpPr/>
            <p:nvPr/>
          </p:nvSpPr>
          <p:spPr>
            <a:xfrm>
              <a:off x="6589800" y="1270080"/>
              <a:ext cx="734760" cy="469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589440" y="1270080"/>
              <a:ext cx="734760" cy="474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395520" y="3598920"/>
            <a:ext cx="2214720" cy="474480"/>
            <a:chOff x="3395520" y="3598920"/>
            <a:chExt cx="2214720" cy="474480"/>
          </a:xfrm>
        </p:grpSpPr>
        <p:sp>
          <p:nvSpPr>
            <p:cNvPr id="304" name=""/>
            <p:cNvSpPr/>
            <p:nvPr/>
          </p:nvSpPr>
          <p:spPr>
            <a:xfrm>
              <a:off x="3395520" y="3598920"/>
              <a:ext cx="2214720" cy="469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3395520" y="3598920"/>
              <a:ext cx="2214720" cy="474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302960" y="1213920"/>
            <a:ext cx="1482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change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x val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1040" y="4102200"/>
            <a:ext cx="70812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10040" y="496728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1040" y="496728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32400" y="496728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87680" y="583236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98680" y="583236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10040" y="583236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21040" y="583236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32400" y="583236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43400" y="583236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43400" y="237168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32400" y="323676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3400" y="323676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2400" y="4102200"/>
            <a:ext cx="7077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43400" y="4102200"/>
            <a:ext cx="70812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43400" y="496728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2760" y="380844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10240" y="2759040"/>
            <a:ext cx="977760" cy="476280"/>
            <a:chOff x="5610240" y="2759040"/>
            <a:chExt cx="977760" cy="476280"/>
          </a:xfrm>
        </p:grpSpPr>
        <p:sp>
          <p:nvSpPr>
            <p:cNvPr id="325" name=""/>
            <p:cNvSpPr/>
            <p:nvPr/>
          </p:nvSpPr>
          <p:spPr>
            <a:xfrm>
              <a:off x="5610240" y="2943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10240" y="2759040"/>
              <a:ext cx="97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976640" y="5356080"/>
            <a:ext cx="735120" cy="474840"/>
            <a:chOff x="4976640" y="5356080"/>
            <a:chExt cx="735120" cy="474840"/>
          </a:xfrm>
        </p:grpSpPr>
        <p:sp>
          <p:nvSpPr>
            <p:cNvPr id="328" name=""/>
            <p:cNvSpPr/>
            <p:nvPr/>
          </p:nvSpPr>
          <p:spPr>
            <a:xfrm>
              <a:off x="4976640" y="5356080"/>
              <a:ext cx="735120" cy="4701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976640" y="5356080"/>
              <a:ext cx="735120" cy="4748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884240" y="114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2920" y="1103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610240" y="4489560"/>
            <a:ext cx="977760" cy="476280"/>
            <a:chOff x="5610240" y="4489560"/>
            <a:chExt cx="977760" cy="476280"/>
          </a:xfrm>
        </p:grpSpPr>
        <p:sp>
          <p:nvSpPr>
            <p:cNvPr id="333" name=""/>
            <p:cNvSpPr/>
            <p:nvPr/>
          </p:nvSpPr>
          <p:spPr>
            <a:xfrm>
              <a:off x="5610240" y="46735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10240" y="4489560"/>
              <a:ext cx="97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187880" y="1893960"/>
            <a:ext cx="977760" cy="476280"/>
            <a:chOff x="4187880" y="1893960"/>
            <a:chExt cx="977760" cy="476280"/>
          </a:xfrm>
        </p:grpSpPr>
        <p:sp>
          <p:nvSpPr>
            <p:cNvPr id="336" name=""/>
            <p:cNvSpPr/>
            <p:nvPr/>
          </p:nvSpPr>
          <p:spPr>
            <a:xfrm>
              <a:off x="4187880" y="20779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87880" y="1893960"/>
              <a:ext cx="97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786200" y="3624120"/>
            <a:ext cx="978120" cy="476280"/>
            <a:chOff x="4786200" y="3624120"/>
            <a:chExt cx="978120" cy="476280"/>
          </a:xfrm>
        </p:grpSpPr>
        <p:sp>
          <p:nvSpPr>
            <p:cNvPr id="339" name=""/>
            <p:cNvSpPr/>
            <p:nvPr/>
          </p:nvSpPr>
          <p:spPr>
            <a:xfrm>
              <a:off x="4786200" y="3808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86200" y="3624120"/>
              <a:ext cx="97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ce du tri par 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1-16T08:33:31Z</cp:lastPrinted>
  <dcterms:modified xsi:type="dcterms:W3CDTF">2001-11-16T08:33:37Z</dcterms:modified>
  <cp:revision>163</cp:revision>
  <dc:subject/>
  <dc:title>Aucun titre de diapositive</dc:title>
</cp:coreProperties>
</file>