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F369-3123-4D62-B085-2366DF1F3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333A-3C99-46A7-A282-8B4586F85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95E4-61BF-4F5C-AFA9-C97233DD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ADC3D-C8E1-450A-B7DB-B7C9BFB7E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1CC-BCCE-4217-9F5C-756EC540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F1AA-C545-41CC-94AD-D2BD8BAF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672-B446-437E-92FE-BC2E3109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C52E-C8C6-41D5-A374-9586D9DB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3A94-93F9-4E60-B16E-96466766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7412-1900-4CE7-AB7E-75F1B52A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6026-07D5-4301-AEF6-2CD78AC0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06AF-ACF1-45AF-8863-F5C92430F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9A8C-5991-4371-BFB0-29DFAEA18C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876920" y="609480"/>
            <a:ext cx="2514600" cy="419112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533520"/>
            <a:ext cx="4267080" cy="4267080"/>
          </a:xfrm>
          <a:prstGeom prst="flowChartAlternate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81560" y="118116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66000" y="83808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N_S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962520" y="129528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790600" y="1143000"/>
            <a:ext cx="105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comman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81560" y="194328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266000" y="1600200"/>
            <a:ext cx="106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MON_R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3962520" y="2057400"/>
            <a:ext cx="182880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789520" y="1905120"/>
            <a:ext cx="10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espon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0666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moni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289548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ll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81560" y="339084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34400" y="30481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ARA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114440" y="3505320"/>
            <a:ext cx="1676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66560" y="33526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20574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sk_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429000"/>
            <a:ext cx="114300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ask_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81560" y="2476440"/>
            <a:ext cx="838080" cy="228600"/>
          </a:xfrm>
          <a:prstGeom prst="flowChartMagneticDrum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09280" y="2209680"/>
            <a:ext cx="78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TR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2209320" y="2590920"/>
            <a:ext cx="358164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866560" y="2438280"/>
            <a:ext cx="89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2209680" y="2590560"/>
            <a:ext cx="615960" cy="1066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H="1">
            <a:off x="2285640" y="3657600"/>
            <a:ext cx="68580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2209320" y="2819520"/>
            <a:ext cx="762120" cy="3808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762120"/>
            <a:ext cx="2209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eal-time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 modu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260320" y="403848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cl-Tk pan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(a Linux proces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30T15:31:35Z</dcterms:created>
  <dc:creator>andre</dc:creator>
  <dc:description/>
  <dc:language>en-US</dc:language>
  <cp:lastModifiedBy>andre</cp:lastModifiedBy>
  <dcterms:modified xsi:type="dcterms:W3CDTF">2000-06-30T15:33:07Z</dcterms:modified>
  <cp:revision>1</cp:revision>
  <dc:subject/>
  <dc:title>Présentation PowerPoint</dc:title>
</cp:coreProperties>
</file>