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5360"/>
            <a:ext cx="217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-</a:t>
            </a:r>
            <a:fld id="{F38FC1E2-B949-46EE-AE2F-2B55FDEDCB8A}" type="slidenum"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é 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48360"/>
            <a:ext cx="3051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URS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1066680"/>
            <a:ext cx="9144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réquent en informatiqu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des données dans un tableau et on voudrait les avoir dans un certain ord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é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rer partie des collections triées et de leurs possibilité d’in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é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r d’une collection vide (donc trié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érer les éléments les uns après les aut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pier la collection triée dans le tableau de dé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 par 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352760" y="38084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ce du tri par inser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remière vers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492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5638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5638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956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276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596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0060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6360" y="1563840"/>
            <a:ext cx="6717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81360" y="1563840"/>
            <a:ext cx="6696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420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27400" y="1563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0204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5324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15638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0108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7392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48560" y="1563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54680" y="1563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2932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0252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75720" y="1563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50360" y="1563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0492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22496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22496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7956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5276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2596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060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06360" y="22496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81360" y="2249640"/>
            <a:ext cx="6696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5420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27400" y="22496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0204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5324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2496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2788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0108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7392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48560" y="2249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4680" y="22496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2932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0252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75720" y="22496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50360" y="22496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0492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36212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36212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7956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276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2596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6360" y="36212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81360" y="3621240"/>
            <a:ext cx="6696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54200" y="36212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27400" y="36212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204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324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8148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1480" y="36212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2788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0108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392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48560" y="36212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4680" y="36212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2932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0252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5720" y="36212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50360" y="36212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92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29354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29354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7956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5276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2596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0060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06360" y="29354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81360" y="2935440"/>
            <a:ext cx="6696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420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7400" y="29354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204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5324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29354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2788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0108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7392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48560" y="29354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54680" y="29354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2932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0252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75720" y="29354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50360" y="29354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492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43070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43070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7956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5276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2596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0060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06360" y="43070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81360" y="4307040"/>
            <a:ext cx="6696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54200" y="43070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27400" y="4307040"/>
            <a:ext cx="6714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204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5324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81480" y="43070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2788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0108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7392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48560" y="4307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54680" y="43070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932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0252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75720" y="43070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50360" y="43070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0492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9928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992840"/>
            <a:ext cx="40384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956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5276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2596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0060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06360" y="4992840"/>
            <a:ext cx="6717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81360" y="4992840"/>
            <a:ext cx="6696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54200" y="49928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27400" y="4992840"/>
            <a:ext cx="67140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02040" y="4992840"/>
            <a:ext cx="669960" cy="33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5324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4992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4992840"/>
            <a:ext cx="40388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2788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0108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87392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548560" y="49928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4680" y="4992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29320" y="4992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02520" y="4992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75720" y="4992840"/>
            <a:ext cx="67140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550360" y="4992840"/>
            <a:ext cx="6699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5324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5830920"/>
            <a:ext cx="403884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2788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0108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87392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4856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54680" y="5830920"/>
            <a:ext cx="67140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2932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0252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75720" y="5830920"/>
            <a:ext cx="67140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55036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0492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5830920"/>
            <a:ext cx="40384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7956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5276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2596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00600" y="58309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06360" y="5830920"/>
            <a:ext cx="671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81360" y="5830920"/>
            <a:ext cx="66960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5420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27400" y="5830920"/>
            <a:ext cx="67140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02040" y="5830920"/>
            <a:ext cx="6699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57600" y="10047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1066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au à t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au ann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733920" y="236880"/>
            <a:ext cx="5943600" cy="112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76200"/>
                <a:tab algn="l" pos="952560"/>
                <a:tab algn="l" pos="14335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éer une collection trié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tableau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érer la valeur courante dans la collection trié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pier la collection triée dans le tableau de dé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526400"/>
            <a:ext cx="9064800" cy="51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 (à tr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 : tableau de même taille que t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 (indice de la première case vide dans tableAnnexe) = 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le tri par inserti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fai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Lib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ant qu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&gt; 0 et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[ i - 1 ] &gt; case courante de tabl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air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[ i ]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[ i - 1 ]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inuer i de 1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Annexe[ i ]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e courante de tabl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parcourir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tableAnnexe dans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tableau de moi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546560"/>
            <a:ext cx="93726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s la trac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artie grisée (valeurs déjà rangé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t 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artie utile de l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ut-on utiliser un seul tableau 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i, il faut « sortir » la valeur à insérer, cela fait une place lib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écale ensuite jusqu’à insérer la va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352760" y="38084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ce du tri par 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895480" y="1563840"/>
            <a:ext cx="4038480" cy="341280"/>
            <a:chOff x="2895480" y="1563840"/>
            <a:chExt cx="4038480" cy="341280"/>
          </a:xfrm>
        </p:grpSpPr>
        <p:sp>
          <p:nvSpPr>
            <p:cNvPr id="417" name=""/>
            <p:cNvSpPr/>
            <p:nvPr/>
          </p:nvSpPr>
          <p:spPr>
            <a:xfrm>
              <a:off x="356688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95480" y="156384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156384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4152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1472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8792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62560" y="15638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8320" y="1563840"/>
              <a:ext cx="6717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43320" y="1563840"/>
              <a:ext cx="6696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16160" y="156384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89360" y="1563840"/>
              <a:ext cx="6714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64000" y="156384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895480" y="2401920"/>
            <a:ext cx="4038480" cy="341280"/>
            <a:chOff x="2895480" y="2401920"/>
            <a:chExt cx="4038480" cy="341280"/>
          </a:xfrm>
        </p:grpSpPr>
        <p:sp>
          <p:nvSpPr>
            <p:cNvPr id="430" name=""/>
            <p:cNvSpPr/>
            <p:nvPr/>
          </p:nvSpPr>
          <p:spPr>
            <a:xfrm>
              <a:off x="356688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95480" y="240192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95480" y="240192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4152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1472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792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62560" y="24019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8320" y="2401920"/>
              <a:ext cx="6717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43320" y="2401920"/>
              <a:ext cx="6696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16160" y="240192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89360" y="2401920"/>
              <a:ext cx="6714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64000" y="240192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95480" y="4078440"/>
            <a:ext cx="4038480" cy="341280"/>
            <a:chOff x="2895480" y="4078440"/>
            <a:chExt cx="4038480" cy="341280"/>
          </a:xfrm>
        </p:grpSpPr>
        <p:sp>
          <p:nvSpPr>
            <p:cNvPr id="443" name=""/>
            <p:cNvSpPr/>
            <p:nvPr/>
          </p:nvSpPr>
          <p:spPr>
            <a:xfrm>
              <a:off x="356688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07844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95480" y="407844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4152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1472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8792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2560" y="4078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68320" y="4078440"/>
              <a:ext cx="6717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43320" y="4078440"/>
              <a:ext cx="66960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16160" y="407844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89360" y="4078440"/>
              <a:ext cx="6714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64000" y="407844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95480" y="3240000"/>
            <a:ext cx="4038480" cy="341280"/>
            <a:chOff x="2895480" y="3240000"/>
            <a:chExt cx="4038480" cy="341280"/>
          </a:xfrm>
        </p:grpSpPr>
        <p:sp>
          <p:nvSpPr>
            <p:cNvPr id="456" name=""/>
            <p:cNvSpPr/>
            <p:nvPr/>
          </p:nvSpPr>
          <p:spPr>
            <a:xfrm>
              <a:off x="356688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95480" y="324000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95480" y="324000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4152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1472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8792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62560" y="32400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8320" y="3240000"/>
              <a:ext cx="6717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43320" y="3240000"/>
              <a:ext cx="66960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16160" y="324000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89360" y="3240000"/>
              <a:ext cx="67140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64000" y="324000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895480" y="4916520"/>
            <a:ext cx="4038480" cy="341280"/>
            <a:chOff x="2895480" y="4916520"/>
            <a:chExt cx="4038480" cy="341280"/>
          </a:xfrm>
        </p:grpSpPr>
        <p:sp>
          <p:nvSpPr>
            <p:cNvPr id="469" name=""/>
            <p:cNvSpPr/>
            <p:nvPr/>
          </p:nvSpPr>
          <p:spPr>
            <a:xfrm>
              <a:off x="356688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95480" y="491652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95480" y="4916520"/>
              <a:ext cx="4038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152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1472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8792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62560" y="49165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68320" y="4916520"/>
              <a:ext cx="6717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3320" y="4916520"/>
              <a:ext cx="66960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16160" y="4916520"/>
              <a:ext cx="66996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89360" y="4916520"/>
              <a:ext cx="671400" cy="339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64000" y="4916520"/>
              <a:ext cx="66996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895480" y="5754600"/>
            <a:ext cx="4038480" cy="341280"/>
            <a:chOff x="2895480" y="5754600"/>
            <a:chExt cx="4038480" cy="341280"/>
          </a:xfrm>
        </p:grpSpPr>
        <p:sp>
          <p:nvSpPr>
            <p:cNvPr id="482" name=""/>
            <p:cNvSpPr/>
            <p:nvPr/>
          </p:nvSpPr>
          <p:spPr>
            <a:xfrm>
              <a:off x="356688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95480" y="5754600"/>
              <a:ext cx="66996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95480" y="5754600"/>
              <a:ext cx="403848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152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1472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8792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62560" y="57546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68320" y="5754600"/>
              <a:ext cx="67176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43320" y="5754600"/>
              <a:ext cx="66960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16160" y="5754600"/>
              <a:ext cx="66996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89360" y="5754600"/>
              <a:ext cx="67140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64000" y="5754600"/>
              <a:ext cx="669960" cy="339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380880" y="3886200"/>
            <a:ext cx="1828800" cy="1905120"/>
          </a:xfrm>
          <a:prstGeom prst="cloudCallout">
            <a:avLst>
              <a:gd name="adj1" fmla="val 82379"/>
              <a:gd name="adj2" fmla="val -3575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0120" y="1295280"/>
            <a:ext cx="1981080" cy="1981440"/>
          </a:xfrm>
          <a:prstGeom prst="cloudCallout">
            <a:avLst>
              <a:gd name="adj1" fmla="val -77486"/>
              <a:gd name="adj2" fmla="val 4527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eu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nt 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57200" y="1345320"/>
            <a:ext cx="9144000" cy="491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riInsertion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[] table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; i &lt; table.length ; i++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Cher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vaI = table[ i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( 0 &lt; iCher ) &amp;&amp; ( table[ iCher - 1 ] &gt; vaI ) 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le[ iCher ] = table[ iCher - 1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Cher 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le[ iCher ] = vaI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10280" y="609480"/>
            <a:ext cx="2667240" cy="1143000"/>
          </a:xfrm>
          <a:prstGeom prst="cloudCallout">
            <a:avLst>
              <a:gd name="adj1" fmla="val -70712"/>
              <a:gd name="adj2" fmla="val 6902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tous 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2133720"/>
            <a:ext cx="3276720" cy="1066680"/>
          </a:xfrm>
          <a:prstGeom prst="cloudCallout">
            <a:avLst>
              <a:gd name="adj1" fmla="val -75583"/>
              <a:gd name="adj2" fmla="val 2663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cop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leur à ins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77120" y="4343400"/>
            <a:ext cx="2666880" cy="1066680"/>
          </a:xfrm>
          <a:prstGeom prst="cloudCallout">
            <a:avLst>
              <a:gd name="adj1" fmla="val -91847"/>
              <a:gd name="adj2" fmla="val -632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« recule 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val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715000"/>
            <a:ext cx="3581640" cy="762120"/>
          </a:xfrm>
          <a:prstGeom prst="cloudCallout">
            <a:avLst>
              <a:gd name="adj1" fmla="val -62189"/>
              <a:gd name="adj2" fmla="val -99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insère la v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152280"/>
            <a:ext cx="2819520" cy="1067040"/>
          </a:xfrm>
          <a:prstGeom prst="cloudCallout">
            <a:avLst>
              <a:gd name="adj1" fmla="val -29222"/>
              <a:gd name="adj2" fmla="val 678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-t-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tablea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0880" y="1241280"/>
            <a:ext cx="937260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ré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décaler et trouver la position pour la valeur 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entre 0 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O( i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ré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tri 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 i )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 pou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nt de 1 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 1 + 2 + 3 + … +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lgorithme de tri par insertion est «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dratique 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nombre d’opérations faites est de l’ordre d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 nombre d’éléments du tabl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ut-on faire mieux 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i mais c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urée / complexité du tri par 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75440" y="1372320"/>
            <a:ext cx="506484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Premier tri</a:t>
            </a:r>
            <a:br>
              <a:rPr sz="8000"/>
            </a:br>
            <a:r>
              <a:rPr b="0" lang="fr-FR" sz="5400" spc="-1" strike="noStrike" u="sng">
                <a:solidFill>
                  <a:srgbClr val="000000"/>
                </a:solidFill>
                <a:uFillTx/>
                <a:latin typeface="Times New Roman"/>
              </a:rPr>
              <a:t>Pr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emiertri</a:t>
            </a:r>
            <a:br>
              <a:rPr sz="4800"/>
            </a:br>
            <a:r>
              <a:rPr b="0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ePr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iertri</a:t>
            </a:r>
            <a:br>
              <a:rPr sz="4400"/>
            </a:br>
            <a:r>
              <a:rPr b="0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emPr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ertri</a:t>
            </a:r>
            <a:br>
              <a:rPr sz="3600"/>
            </a:br>
            <a:r>
              <a:rPr b="0" lang="fr-FR" sz="3600" spc="-1" strike="noStrike" u="sng">
                <a:solidFill>
                  <a:srgbClr val="000000"/>
                </a:solidFill>
                <a:uFillTx/>
                <a:latin typeface="Times New Roman"/>
              </a:rPr>
              <a:t>eimPr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rtri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eimP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tri</a:t>
            </a:r>
            <a:br>
              <a:rPr sz="28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eimPr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ri</a:t>
            </a:r>
            <a:br>
              <a:rPr sz="2800"/>
            </a:b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eimPrr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br>
              <a:rPr sz="2800"/>
            </a:b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eimPrrr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eiimPrr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72240" y="4363920"/>
            <a:ext cx="55094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er une collection tri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er par inse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06960"/>
            <a:ext cx="830880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r une collection (ou un tableau) trié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e la recherc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ichotomie sur annuaire, dictionnaire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garder une collection trié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 on enlève ou ajoute un élém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trier un tableau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8560" y="4255920"/>
            <a:ext cx="3120840" cy="31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2640" y="4255920"/>
            <a:ext cx="2228760" cy="31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68560" y="2992320"/>
            <a:ext cx="3120840" cy="31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89640" y="2992320"/>
            <a:ext cx="2228760" cy="31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40240" y="2513160"/>
            <a:ext cx="1784520" cy="477720"/>
            <a:chOff x="4440240" y="2513160"/>
            <a:chExt cx="1784520" cy="477720"/>
          </a:xfrm>
        </p:grpSpPr>
        <p:sp>
          <p:nvSpPr>
            <p:cNvPr id="90" name=""/>
            <p:cNvSpPr/>
            <p:nvPr/>
          </p:nvSpPr>
          <p:spPr>
            <a:xfrm>
              <a:off x="4440240" y="269712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40240" y="2513160"/>
              <a:ext cx="17845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Sup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37000" y="3534840"/>
            <a:ext cx="2163960" cy="374760"/>
            <a:chOff x="4437000" y="3534840"/>
            <a:chExt cx="2163960" cy="374760"/>
          </a:xfrm>
        </p:grpSpPr>
        <p:sp>
          <p:nvSpPr>
            <p:cNvPr id="93" name=""/>
            <p:cNvSpPr/>
            <p:nvPr/>
          </p:nvSpPr>
          <p:spPr>
            <a:xfrm flipV="1">
              <a:off x="443700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71492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989600" y="3534840"/>
              <a:ext cx="22212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26896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54688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821200" y="3534840"/>
              <a:ext cx="2224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10092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380280" y="353484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92640" y="2992320"/>
            <a:ext cx="295200" cy="312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058160" y="2438280"/>
            <a:ext cx="914400" cy="552240"/>
            <a:chOff x="7058160" y="2438280"/>
            <a:chExt cx="914400" cy="552240"/>
          </a:xfrm>
        </p:grpSpPr>
        <p:sp>
          <p:nvSpPr>
            <p:cNvPr id="103" name=""/>
            <p:cNvSpPr/>
            <p:nvPr/>
          </p:nvSpPr>
          <p:spPr>
            <a:xfrm>
              <a:off x="7058160" y="269676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8160" y="24382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9280" y="1600200"/>
            <a:ext cx="910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caler pour « écraser » la valeur à supprimer et éviter un tr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560" y="5024880"/>
            <a:ext cx="8302680" cy="96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ableau de iSupression inclus à iLibre exclu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le contenu de la case suivante dans la case courant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inu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00960" y="3701880"/>
            <a:ext cx="914400" cy="552240"/>
            <a:chOff x="6600960" y="3701880"/>
            <a:chExt cx="914400" cy="552240"/>
          </a:xfrm>
        </p:grpSpPr>
        <p:sp>
          <p:nvSpPr>
            <p:cNvPr id="108" name=""/>
            <p:cNvSpPr/>
            <p:nvPr/>
          </p:nvSpPr>
          <p:spPr>
            <a:xfrm>
              <a:off x="6600960" y="396072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00960" y="37018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21640" y="2992320"/>
            <a:ext cx="1854000" cy="3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4640" y="4255920"/>
            <a:ext cx="2151000" cy="3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ppression dans une 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771000"/>
            <a:ext cx="32083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faire de la place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sser les aut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ucle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tion à l’ord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173400" y="3801960"/>
            <a:ext cx="5353200" cy="723960"/>
            <a:chOff x="3173400" y="3801960"/>
            <a:chExt cx="5353200" cy="723960"/>
          </a:xfrm>
        </p:grpSpPr>
        <p:sp>
          <p:nvSpPr>
            <p:cNvPr id="115" name=""/>
            <p:cNvSpPr/>
            <p:nvPr/>
          </p:nvSpPr>
          <p:spPr>
            <a:xfrm>
              <a:off x="3173400" y="4249800"/>
              <a:ext cx="3121200" cy="276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97480" y="4249800"/>
              <a:ext cx="2229120" cy="276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445080" y="3801960"/>
              <a:ext cx="1791000" cy="447840"/>
              <a:chOff x="6445080" y="3801960"/>
              <a:chExt cx="1791000" cy="447840"/>
            </a:xfrm>
          </p:grpSpPr>
          <p:sp>
            <p:nvSpPr>
              <p:cNvPr id="118" name=""/>
              <p:cNvSpPr/>
              <p:nvPr/>
            </p:nvSpPr>
            <p:spPr>
              <a:xfrm>
                <a:off x="6445080" y="39895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45080" y="3801960"/>
                <a:ext cx="179100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297480" y="4249800"/>
              <a:ext cx="29556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173400" y="977760"/>
            <a:ext cx="6246720" cy="723960"/>
            <a:chOff x="3173400" y="977760"/>
            <a:chExt cx="6246720" cy="723960"/>
          </a:xfrm>
        </p:grpSpPr>
        <p:sp>
          <p:nvSpPr>
            <p:cNvPr id="122" name=""/>
            <p:cNvSpPr/>
            <p:nvPr/>
          </p:nvSpPr>
          <p:spPr>
            <a:xfrm>
              <a:off x="3173400" y="14256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2400" y="1425600"/>
              <a:ext cx="2952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31040" y="1425600"/>
              <a:ext cx="2955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0400" y="1425600"/>
              <a:ext cx="2228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21000" y="977760"/>
              <a:ext cx="966960" cy="447840"/>
              <a:chOff x="3321000" y="977760"/>
              <a:chExt cx="966960" cy="447840"/>
            </a:xfrm>
          </p:grpSpPr>
          <p:sp>
            <p:nvSpPr>
              <p:cNvPr id="127" name=""/>
              <p:cNvSpPr/>
              <p:nvPr/>
            </p:nvSpPr>
            <p:spPr>
              <a:xfrm>
                <a:off x="3321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21000" y="977760"/>
                <a:ext cx="9669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éb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00840" y="1425600"/>
              <a:ext cx="22273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379000" y="977760"/>
              <a:ext cx="1041120" cy="447840"/>
              <a:chOff x="8379000" y="977760"/>
              <a:chExt cx="1041120" cy="447840"/>
            </a:xfrm>
          </p:grpSpPr>
          <p:sp>
            <p:nvSpPr>
              <p:cNvPr id="131" name=""/>
              <p:cNvSpPr/>
              <p:nvPr/>
            </p:nvSpPr>
            <p:spPr>
              <a:xfrm>
                <a:off x="8379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79000" y="977760"/>
                <a:ext cx="10411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F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850000" y="977760"/>
              <a:ext cx="892080" cy="447840"/>
              <a:chOff x="5850000" y="977760"/>
              <a:chExt cx="892080" cy="447840"/>
            </a:xfrm>
          </p:grpSpPr>
          <p:sp>
            <p:nvSpPr>
              <p:cNvPr id="134" name=""/>
              <p:cNvSpPr/>
              <p:nvPr/>
            </p:nvSpPr>
            <p:spPr>
              <a:xfrm>
                <a:off x="5850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50000" y="977760"/>
                <a:ext cx="89208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ilie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173400" y="1919160"/>
            <a:ext cx="5576760" cy="723960"/>
            <a:chOff x="3173400" y="1919160"/>
            <a:chExt cx="5576760" cy="723960"/>
          </a:xfrm>
        </p:grpSpPr>
        <p:sp>
          <p:nvSpPr>
            <p:cNvPr id="137" name=""/>
            <p:cNvSpPr/>
            <p:nvPr/>
          </p:nvSpPr>
          <p:spPr>
            <a:xfrm>
              <a:off x="570240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6744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3104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2367000"/>
              <a:ext cx="9651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64440" y="2367000"/>
              <a:ext cx="9637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850000" y="1919160"/>
              <a:ext cx="2900160" cy="447840"/>
              <a:chOff x="5850000" y="1919160"/>
              <a:chExt cx="2900160" cy="4478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850000" y="1919160"/>
                <a:ext cx="595080" cy="447840"/>
                <a:chOff x="5850000" y="1919160"/>
                <a:chExt cx="595080" cy="447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85000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50000" y="1919160"/>
                  <a:ext cx="59508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379000" y="1919160"/>
                <a:ext cx="371160" cy="447840"/>
                <a:chOff x="8379000" y="1919160"/>
                <a:chExt cx="371160" cy="4478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37900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379000" y="1919160"/>
                  <a:ext cx="3711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151760" y="1919160"/>
                <a:ext cx="520560" cy="447840"/>
                <a:chOff x="7151760" y="1919160"/>
                <a:chExt cx="520560" cy="4478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5176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51760" y="1919160"/>
                  <a:ext cx="5205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3173400" y="2367000"/>
              <a:ext cx="2525760" cy="276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73400" y="4743360"/>
            <a:ext cx="5353200" cy="723960"/>
            <a:chOff x="3173400" y="4743360"/>
            <a:chExt cx="5353200" cy="723960"/>
          </a:xfrm>
        </p:grpSpPr>
        <p:sp>
          <p:nvSpPr>
            <p:cNvPr id="154" name=""/>
            <p:cNvSpPr/>
            <p:nvPr/>
          </p:nvSpPr>
          <p:spPr>
            <a:xfrm>
              <a:off x="3173400" y="5191200"/>
              <a:ext cx="3121200" cy="276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97480" y="5191200"/>
              <a:ext cx="2229120" cy="276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445080" y="4743360"/>
              <a:ext cx="1791000" cy="447840"/>
              <a:chOff x="6445080" y="4743360"/>
              <a:chExt cx="1791000" cy="447840"/>
            </a:xfrm>
          </p:grpSpPr>
          <p:sp>
            <p:nvSpPr>
              <p:cNvPr id="157" name=""/>
              <p:cNvSpPr/>
              <p:nvPr/>
            </p:nvSpPr>
            <p:spPr>
              <a:xfrm>
                <a:off x="6445080" y="49309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45080" y="4743360"/>
                <a:ext cx="179100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297480" y="5191200"/>
              <a:ext cx="29556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173400" y="5684760"/>
            <a:ext cx="5649840" cy="846360"/>
            <a:chOff x="3173400" y="5684760"/>
            <a:chExt cx="5649840" cy="846360"/>
          </a:xfrm>
        </p:grpSpPr>
        <p:sp>
          <p:nvSpPr>
            <p:cNvPr id="161" name=""/>
            <p:cNvSpPr/>
            <p:nvPr/>
          </p:nvSpPr>
          <p:spPr>
            <a:xfrm>
              <a:off x="3173400" y="6134040"/>
              <a:ext cx="3121200" cy="274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6134040"/>
              <a:ext cx="2228760" cy="274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445080" y="5684760"/>
              <a:ext cx="1784520" cy="447840"/>
              <a:chOff x="6445080" y="5684760"/>
              <a:chExt cx="1784520" cy="447840"/>
            </a:xfrm>
          </p:grpSpPr>
          <p:sp>
            <p:nvSpPr>
              <p:cNvPr id="164" name=""/>
              <p:cNvSpPr/>
              <p:nvPr/>
            </p:nvSpPr>
            <p:spPr>
              <a:xfrm>
                <a:off x="6445080" y="587376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45080" y="5684760"/>
                <a:ext cx="17845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296040" y="6012000"/>
              <a:ext cx="297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521400" y="5711760"/>
            <a:ext cx="2163960" cy="331920"/>
            <a:chOff x="6521400" y="5711760"/>
            <a:chExt cx="2163960" cy="331920"/>
          </a:xfrm>
        </p:grpSpPr>
        <p:sp>
          <p:nvSpPr>
            <p:cNvPr id="168" name=""/>
            <p:cNvSpPr/>
            <p:nvPr/>
          </p:nvSpPr>
          <p:spPr>
            <a:xfrm>
              <a:off x="652140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9932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75440" y="5711760"/>
              <a:ext cx="222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5336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1280" y="5711760"/>
              <a:ext cx="2203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07400" y="5711760"/>
              <a:ext cx="222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85320" y="5711760"/>
              <a:ext cx="2203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6468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63800" y="1762200"/>
            <a:ext cx="3051360" cy="496800"/>
            <a:chOff x="2863800" y="1762200"/>
            <a:chExt cx="3051360" cy="496800"/>
          </a:xfrm>
        </p:grpSpPr>
        <p:pic>
          <p:nvPicPr>
            <p:cNvPr id="177" name="" descr=""/>
            <p:cNvPicPr/>
            <p:nvPr/>
          </p:nvPicPr>
          <p:blipFill>
            <a:blip r:embed="rId8"/>
            <a:stretch/>
          </p:blipFill>
          <p:spPr>
            <a:xfrm>
              <a:off x="2863800" y="1762200"/>
              <a:ext cx="305136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904120" y="1804680"/>
              <a:ext cx="117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[iM] &lt;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855880" y="2695680"/>
            <a:ext cx="4336920" cy="496800"/>
            <a:chOff x="2855880" y="2695680"/>
            <a:chExt cx="4336920" cy="496800"/>
          </a:xfrm>
        </p:grpSpPr>
        <p:pic>
          <p:nvPicPr>
            <p:cNvPr id="180" name="" descr=""/>
            <p:cNvPicPr/>
            <p:nvPr/>
          </p:nvPicPr>
          <p:blipFill>
            <a:blip r:embed="rId9"/>
            <a:stretch/>
          </p:blipFill>
          <p:spPr>
            <a:xfrm>
              <a:off x="2855880" y="2695680"/>
              <a:ext cx="433692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864880" y="2738160"/>
              <a:ext cx="1236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[iM]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658360" y="3730680"/>
            <a:ext cx="914400" cy="514440"/>
            <a:chOff x="8658360" y="3730680"/>
            <a:chExt cx="914400" cy="514440"/>
          </a:xfrm>
        </p:grpSpPr>
        <p:sp>
          <p:nvSpPr>
            <p:cNvPr id="183" name=""/>
            <p:cNvSpPr/>
            <p:nvPr/>
          </p:nvSpPr>
          <p:spPr>
            <a:xfrm>
              <a:off x="8658360" y="390996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8360" y="37306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962920" y="5529240"/>
            <a:ext cx="914400" cy="514440"/>
            <a:chOff x="8962920" y="5529240"/>
            <a:chExt cx="914400" cy="514440"/>
          </a:xfrm>
        </p:grpSpPr>
        <p:sp>
          <p:nvSpPr>
            <p:cNvPr id="186" name=""/>
            <p:cNvSpPr/>
            <p:nvPr/>
          </p:nvSpPr>
          <p:spPr>
            <a:xfrm>
              <a:off x="8962920" y="570852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962920" y="552924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74840" y="2860560"/>
            <a:ext cx="5349960" cy="714600"/>
            <a:chOff x="3174840" y="2860560"/>
            <a:chExt cx="5349960" cy="714600"/>
          </a:xfrm>
        </p:grpSpPr>
        <p:grpSp>
          <p:nvGrpSpPr>
            <p:cNvPr id="189" name=""/>
            <p:cNvGrpSpPr/>
            <p:nvPr/>
          </p:nvGrpSpPr>
          <p:grpSpPr>
            <a:xfrm>
              <a:off x="5775480" y="2860560"/>
              <a:ext cx="520560" cy="447840"/>
              <a:chOff x="5775480" y="2860560"/>
              <a:chExt cx="520560" cy="447840"/>
            </a:xfrm>
          </p:grpSpPr>
          <p:sp>
            <p:nvSpPr>
              <p:cNvPr id="190" name=""/>
              <p:cNvSpPr/>
              <p:nvPr/>
            </p:nvSpPr>
            <p:spPr>
              <a:xfrm>
                <a:off x="577548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75480" y="2860560"/>
                <a:ext cx="5205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107120" y="2860560"/>
              <a:ext cx="489240" cy="447840"/>
              <a:chOff x="7107120" y="2860560"/>
              <a:chExt cx="489240" cy="447840"/>
            </a:xfrm>
          </p:grpSpPr>
          <p:sp>
            <p:nvSpPr>
              <p:cNvPr id="193" name=""/>
              <p:cNvSpPr/>
              <p:nvPr/>
            </p:nvSpPr>
            <p:spPr>
              <a:xfrm>
                <a:off x="710712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07120" y="2860560"/>
                <a:ext cx="48924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443640" y="2860560"/>
              <a:ext cx="453960" cy="447840"/>
              <a:chOff x="6443640" y="2860560"/>
              <a:chExt cx="453960" cy="447840"/>
            </a:xfrm>
          </p:grpSpPr>
          <p:sp>
            <p:nvSpPr>
              <p:cNvPr id="196" name=""/>
              <p:cNvSpPr/>
              <p:nvPr/>
            </p:nvSpPr>
            <p:spPr>
              <a:xfrm>
                <a:off x="644364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43640" y="2860560"/>
                <a:ext cx="4539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703840" y="3298680"/>
              <a:ext cx="2937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69240" y="3298680"/>
              <a:ext cx="29340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0840" y="3298680"/>
              <a:ext cx="9651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65880" y="3298680"/>
              <a:ext cx="1258920" cy="276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74840" y="3298680"/>
              <a:ext cx="2525760" cy="276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529480" y="142704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29480" y="23670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29480" y="329868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29480" y="42498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29480" y="51912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826480" y="6134040"/>
            <a:ext cx="592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685360" y="738360"/>
            <a:ext cx="914400" cy="682560"/>
            <a:chOff x="8685360" y="738360"/>
            <a:chExt cx="914400" cy="682560"/>
          </a:xfrm>
        </p:grpSpPr>
        <p:sp>
          <p:nvSpPr>
            <p:cNvPr id="210" name=""/>
            <p:cNvSpPr/>
            <p:nvPr/>
          </p:nvSpPr>
          <p:spPr>
            <a:xfrm>
              <a:off x="8685360" y="890640"/>
              <a:ext cx="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85360" y="73836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658360" y="1766880"/>
            <a:ext cx="914400" cy="598320"/>
            <a:chOff x="8658360" y="1766880"/>
            <a:chExt cx="914400" cy="598320"/>
          </a:xfrm>
        </p:grpSpPr>
        <p:sp>
          <p:nvSpPr>
            <p:cNvPr id="213" name=""/>
            <p:cNvSpPr/>
            <p:nvPr/>
          </p:nvSpPr>
          <p:spPr>
            <a:xfrm>
              <a:off x="8658360" y="193356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58360" y="17668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658360" y="2793960"/>
            <a:ext cx="914400" cy="514440"/>
            <a:chOff x="8658360" y="2793960"/>
            <a:chExt cx="914400" cy="514440"/>
          </a:xfrm>
        </p:grpSpPr>
        <p:sp>
          <p:nvSpPr>
            <p:cNvPr id="216" name=""/>
            <p:cNvSpPr/>
            <p:nvPr/>
          </p:nvSpPr>
          <p:spPr>
            <a:xfrm>
              <a:off x="8658360" y="297324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58360" y="279396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58360" y="4702320"/>
            <a:ext cx="914400" cy="514080"/>
            <a:chOff x="8658360" y="4702320"/>
            <a:chExt cx="914400" cy="514080"/>
          </a:xfrm>
        </p:grpSpPr>
        <p:sp>
          <p:nvSpPr>
            <p:cNvPr id="219" name=""/>
            <p:cNvSpPr/>
            <p:nvPr/>
          </p:nvSpPr>
          <p:spPr>
            <a:xfrm>
              <a:off x="8658360" y="4881600"/>
              <a:ext cx="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58360" y="470232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5280" y="2057040"/>
            <a:ext cx="2506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où insérer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7560" y="1331640"/>
            <a:ext cx="2506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eur à ins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e 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6360" y="1227960"/>
            <a:ext cx="9140760" cy="489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Type Collection tri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ttribut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 indiquant la première case libre d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 : élément à insé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Insertion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Insertion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’un élément à sa plac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Insertion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osition où élém doit être inséré (trouvée par dichotomie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u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variant de iLibre-1 à iInsertio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fai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le contenu de la case i dans la case suivan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faire po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tre élém dans la case d’indice iInser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e 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1530720"/>
            <a:ext cx="8839080" cy="43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insertion d’un élément dans un tableau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ase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recherche dichotomiqu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déplacer entre 0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ase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 (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n ) + O (n ) = O ( n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 qui dure le plus longtemps est donc de faire de la place, trouver l’endroit où insérer est relativement rap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aurait eu la même « complexité » avec une recherche séquentielle à la place d’une recherche dichoto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ût / durée  de l’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162440"/>
            <a:ext cx="899172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e de la place prend tout le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eut-on l’amélior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eut-on en tirer partie pour la recherch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ée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ire de la place et chercher en même temp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rt de la fin de la collection et on déplace tant que l’on n’a pas encore trouvé où ins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la même complexité, mais la réalis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 programme est plu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mplification de l’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1215360"/>
            <a:ext cx="7315200" cy="51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Type Collection tri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ttribut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 indiquant la première case libre d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 : élément à insé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Insertion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’un élément à sa plac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Lib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ant qu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&gt; 0 et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[ i - 1 ] &gt; élém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air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[ i ]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[ i - 1 ]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- 1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tant qu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tre élem dans la case d’indice i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e collection trié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200400"/>
            <a:ext cx="3200400" cy="1295280"/>
          </a:xfrm>
          <a:prstGeom prst="cloudCallout">
            <a:avLst>
              <a:gd name="adj1" fmla="val -62597"/>
              <a:gd name="adj2" fmla="val 9706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À chaque foi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se i est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2-16T16:40:31Z</cp:lastPrinted>
  <dcterms:modified xsi:type="dcterms:W3CDTF">2001-12-16T16:40:36Z</dcterms:modified>
  <cp:revision>172</cp:revision>
  <dc:subject/>
  <dc:title>Aucun titre de diapositive</dc:title>
</cp:coreProperties>
</file>