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696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9-</a:t>
            </a:r>
            <a:fld id="{52402C64-0CB5-496A-AEC0-C0DD543DB158}" type="slidenum"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8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ult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54840"/>
            <a:ext cx="3051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URS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928800"/>
            <a:ext cx="906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l fa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faire une boucle pour atteindre successivement tous les éléments 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416320"/>
            <a:ext cx="6934320" cy="406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affichag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fficher la case cou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mme : nombre appr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pour moyenn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mm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out le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jouter la valeur de la case courante à som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yenn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somme / nombre d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690920"/>
            <a:ext cx="4876920" cy="4120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] table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.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ffiche tous les élé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able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em.out.println ( table[ i ] )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alcul de la som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omme = 0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able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mme += table[ i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ffichage de la moyen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 Console.println( somme / table.length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cours séquentiel exhausti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349080"/>
            <a:ext cx="8382240" cy="3205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n : entier = premier i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indice du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recherche de l’indice du minimum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valeur de la case courante &lt; celle de la case iMin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Mi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ndice coura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1011240"/>
            <a:ext cx="5943600" cy="28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herche l’indice du minimu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in = 0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*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variant :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iMin est l’indice de la plus petite  valeur des cases d’indices de 0 à i-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table.length ; i ++ 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able[ i ] &lt; table[ iMin ] 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Min = i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Min est l’indice de la plus petite valeur de ta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e l’indice du minimu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7440" y="2815200"/>
            <a:ext cx="9460080" cy="4028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: indice de la première valeur négative, Non trouvé s’il n ’y en a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recherche du plus petit indice pour une valeur négativ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ant que l’on ne l’a pas trouv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i comme indice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est un indice valid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n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n Trou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959040"/>
            <a:ext cx="6858000" cy="3250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i = 0;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rouve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herche premier indice pour lequel la valeur est négativ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*/</a:t>
            </a: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( i &lt; table.length ) &amp;&amp; ! ( table[ i ]  &lt; 0) 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 ++;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 i &lt; table.length 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rouve = i;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rouve = NON_TROUVE; </a:t>
            </a:r>
            <a:br>
              <a:rPr sz="18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Trouve vaut </a:t>
            </a:r>
            <a:br>
              <a:rPr sz="1600"/>
            </a:b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 - soit le plus petit indice i pour lequel table[i] est négative,</a:t>
            </a:r>
            <a:br>
              <a:rPr sz="1600"/>
            </a:b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 - soit NON_TROUVE et il n ’y a pas de valeur négative dans le tableau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240" y="990720"/>
            <a:ext cx="2109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évi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arcouri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utilement 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blea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13600" y="2327400"/>
            <a:ext cx="3214080" cy="879840"/>
          </a:xfrm>
          <a:prstGeom prst="cloudCallout">
            <a:avLst>
              <a:gd name="adj1" fmla="val -67435"/>
              <a:gd name="adj2" fmla="val -74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upe-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’un élé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7440" y="3002400"/>
            <a:ext cx="9460080" cy="375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: indice de la première valeur négative, Non trouvé s’il n ’y en a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recherche du plus petit indice pour une valeur négative</a:t>
            </a:r>
            <a:br>
              <a:rPr sz="2000"/>
            </a:b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n Trouvé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blea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case courante est celle que l’on cherch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lor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Trouvé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ndice de la case couran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fin au parc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9480" y="1373400"/>
            <a:ext cx="4892400" cy="2278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rouvé = NON_TROUVE;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 = 0;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i &lt; table.length ) ; i++ )  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table[ i ]  &lt; 0) {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rouvé = i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320" y="1319040"/>
            <a:ext cx="20800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peut auss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rrêt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parcour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7680" y="2269080"/>
            <a:ext cx="3181680" cy="1350000"/>
          </a:xfrm>
          <a:prstGeom prst="cloudCallout">
            <a:avLst>
              <a:gd name="adj1" fmla="val -83916"/>
              <a:gd name="adj2" fmla="val -5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n prématuré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a bou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cherche d’un élé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9440" y="896400"/>
            <a:ext cx="89931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 en dimens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ordonnées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tableau de longueur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écrire une classe pour les manip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040" y="1936080"/>
            <a:ext cx="8686800" cy="3363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, v : vecteurs de même dim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dS : nombre approché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leur renvoyée</a:t>
            </a:r>
            <a:br>
              <a:rPr sz="2000"/>
            </a:b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: nombre approché, valeur du produit scalaire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8680"/>
                <a:tab algn="l" pos="1432080"/>
                <a:tab algn="l" pos="209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 de calcul du produit scalai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u et v en parallè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jouter à prodS le produit des cases courantes de u et v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r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352680" y="4986360"/>
            <a:ext cx="6400440" cy="1790280"/>
            <a:chOff x="3352680" y="4986360"/>
            <a:chExt cx="6400440" cy="1790280"/>
          </a:xfrm>
        </p:grpSpPr>
        <p:sp>
          <p:nvSpPr>
            <p:cNvPr id="160" name=""/>
            <p:cNvSpPr/>
            <p:nvPr/>
          </p:nvSpPr>
          <p:spPr>
            <a:xfrm>
              <a:off x="3352680" y="5062680"/>
              <a:ext cx="626184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2680" y="4986360"/>
              <a:ext cx="6400440" cy="179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4762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tatic 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produitScalaire(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] u,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] v ){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prodS = 0;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(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i = 0; i &lt; u.length ; i++ )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dS += u[ i ] * v[ i ];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prodS;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861240" y="1110960"/>
            <a:ext cx="2892240" cy="3041640"/>
          </a:xfrm>
          <a:prstGeom prst="cloudCallout">
            <a:avLst>
              <a:gd name="adj1" fmla="val 2180"/>
              <a:gd name="adj2" fmla="val 72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mett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tableau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aramètr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Vecteur sous forme de tableau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46200" y="4727880"/>
            <a:ext cx="6400800" cy="19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somm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u 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 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w   =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 u.length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u.length 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 [ i ] = u [ i ] + v [ i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9880" y="1143360"/>
            <a:ext cx="6477120" cy="136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1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{ 1, 0, 0.5, 0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2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{ 0, 2, 0.5, 0.7 };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ManipulationVecteur.somme ( v1, v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ipulationVecteur.afficheVecteur ( v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334200" y="3303720"/>
          <a:ext cx="2084400" cy="40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4200" y="3303720"/>
                    <a:ext cx="2084400" cy="40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02000" y="2984400"/>
          <a:ext cx="2084400" cy="40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2000" y="2984400"/>
                    <a:ext cx="2084400" cy="40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87400" y="2971800"/>
          <a:ext cx="2084400" cy="403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7400" y="2971800"/>
                    <a:ext cx="2084400" cy="40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flipH="1">
            <a:off x="1905120" y="1371600"/>
            <a:ext cx="264960" cy="1612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70080" y="1654200"/>
            <a:ext cx="1219320" cy="13939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501800" y="3387240"/>
            <a:ext cx="1832040" cy="141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42280" y="3965040"/>
            <a:ext cx="1947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st créé 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4495680"/>
            <a:ext cx="2097000" cy="83844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1440" y="0"/>
                </a:moveTo>
                <a:cubicBezTo>
                  <a:pt x="1128" y="92"/>
                  <a:pt x="816" y="184"/>
                  <a:pt x="576" y="240"/>
                </a:cubicBezTo>
                <a:cubicBezTo>
                  <a:pt x="336" y="296"/>
                  <a:pt x="96" y="32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4160" y="2361960"/>
            <a:ext cx="24811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st récupéré l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12600" y="4992480"/>
            <a:ext cx="25434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st retourné 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5522760"/>
            <a:ext cx="5373720" cy="72576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1440" y="0"/>
                </a:moveTo>
                <a:cubicBezTo>
                  <a:pt x="1128" y="92"/>
                  <a:pt x="816" y="184"/>
                  <a:pt x="576" y="240"/>
                </a:cubicBezTo>
                <a:cubicBezTo>
                  <a:pt x="336" y="296"/>
                  <a:pt x="96" y="32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99280" y="1981080"/>
            <a:ext cx="1219320" cy="53352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1440" y="0"/>
                </a:moveTo>
                <a:cubicBezTo>
                  <a:pt x="1128" y="92"/>
                  <a:pt x="816" y="184"/>
                  <a:pt x="576" y="240"/>
                </a:cubicBezTo>
                <a:cubicBezTo>
                  <a:pt x="336" y="296"/>
                  <a:pt x="96" y="32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0720" y="786240"/>
            <a:ext cx="2657520" cy="713520"/>
          </a:xfrm>
          <a:prstGeom prst="horizontalScroll">
            <a:avLst>
              <a:gd name="adj" fmla="val 18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1.0, 2.0, 1.0, 0.7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46800" y="213372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" y="3404160"/>
            <a:ext cx="3578040" cy="1350000"/>
          </a:xfrm>
          <a:prstGeom prst="cloudCallout">
            <a:avLst>
              <a:gd name="adj1" fmla="val 14013"/>
              <a:gd name="adj2" fmla="val 52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renvoy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tableau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437920" y="3387240"/>
            <a:ext cx="2395800" cy="141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nvoyer un tableau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1557720"/>
            <a:ext cx="81532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les appels et les renvois de méthodes,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’es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 référenc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que l’on manipule,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n une copie de sa valeu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particulier,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 n’est pas un type primitif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  une méthode le modifie, il reste modif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Un tableau est un objet !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4423320"/>
            <a:ext cx="6705720" cy="19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ormalise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u  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rm = Math.sqrt ( produitScalaire ( u, u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nrm !=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 = 0 ; i &lt; u.length ; i 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 [ i ] = u [ i ] / nr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52892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296000"/>
            <a:ext cx="4953240" cy="1059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] v   = { 1, 1, 1, 1 }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ipulationVecteur.normalise ( v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nipulationVecteur.afficheVecteur ( v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1523880"/>
            <a:ext cx="533520" cy="1449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962520" y="374652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53200" y="1221840"/>
            <a:ext cx="2814480" cy="795960"/>
          </a:xfrm>
          <a:prstGeom prst="horizontalScroll">
            <a:avLst>
              <a:gd name="adj" fmla="val 17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0.5, 0.5, 0.5, 0.5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066680" y="2973240"/>
          <a:ext cx="4038840" cy="7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3240"/>
                    <a:ext cx="4038840" cy="77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flipV="1">
            <a:off x="1066680" y="312372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057400" y="312372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48120" y="3123720"/>
            <a:ext cx="9903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14800" y="312372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9800" y="2264760"/>
            <a:ext cx="3803040" cy="2195280"/>
          </a:xfrm>
          <a:prstGeom prst="cloudCallout">
            <a:avLst>
              <a:gd name="adj1" fmla="val -69324"/>
              <a:gd name="adj2" fmla="val -11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ux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 référenc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 </a:t>
            </a:r>
            <a:br>
              <a:rPr sz="2800"/>
            </a:b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 seul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ableau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66560" y="4623480"/>
            <a:ext cx="1896480" cy="1350000"/>
          </a:xfrm>
          <a:prstGeom prst="cloudCallout">
            <a:avLst>
              <a:gd name="adj1" fmla="val -77138"/>
              <a:gd name="adj2" fmla="val -23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n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difier un tableau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2057400"/>
          <a:ext cx="8762760" cy="12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762760" cy="1273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3520" y="3808800"/>
            <a:ext cx="891540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Définition, utilisation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parcours et recherch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982800"/>
            <a:ext cx="875808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xemples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chantillonnage, relevés, coefficients,.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ste de prix, noms, machines, points, pay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 val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 variab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, 3 ou 4 valeur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ssible avec des variabl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valeur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ès lourd et très risqué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0 valeur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rréalis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bre inconnu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déal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seule variable, une seule déclaration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ès similaires pour chaque v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=&gt; 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r" pos="2670120"/>
                <a:tab algn="l" pos="3044880"/>
                <a:tab algn="l" pos="3716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362320" y="5927760"/>
          <a:ext cx="5562360" cy="5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927760"/>
                    <a:ext cx="5562360" cy="53820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2362320" y="5638680"/>
            <a:ext cx="5562360" cy="289080"/>
            <a:chOff x="2362320" y="5638680"/>
            <a:chExt cx="5562360" cy="289080"/>
          </a:xfrm>
        </p:grpSpPr>
        <p:sp>
          <p:nvSpPr>
            <p:cNvPr id="88" name=""/>
            <p:cNvSpPr/>
            <p:nvPr/>
          </p:nvSpPr>
          <p:spPr>
            <a:xfrm>
              <a:off x="23623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2240" y="5638680"/>
              <a:ext cx="76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62640" y="5638680"/>
              <a:ext cx="76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625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62440" y="5638680"/>
              <a:ext cx="76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627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2920" y="5638680"/>
              <a:ext cx="761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onnées de même type, même util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112760"/>
            <a:ext cx="899172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éclar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*/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ré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*/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ail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ail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le nombre 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sir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.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emperatures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mperature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365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coefficient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30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ombre = 3000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ing[] mots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tring[ nombre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les valeurs initial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ab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{ 1, 6, 15, 20, 15, 6, 1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7120" y="3176640"/>
            <a:ext cx="133812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stant à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3176640"/>
            <a:ext cx="762120" cy="2233440"/>
          </a:xfrm>
          <a:custGeom>
            <a:avLst/>
            <a:gdLst>
              <a:gd name="textAreaLeft" fmla="*/ 0 w 762120"/>
              <a:gd name="textAreaRight" fmla="*/ 275040 w 76212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4983120"/>
            <a:ext cx="14032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aill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plicite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27920" y="5727600"/>
            <a:ext cx="164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éclaration et cré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949480"/>
            <a:ext cx="85345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que case contient une valeur, on peut y accéder direc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ccès à une c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*/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dentifia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ab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{ 1, 6, 15, 20, 15, 6, 1 }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 = 1.0;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dice = 3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 = s + tab [ 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4 ] = 5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indice ] =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1558800"/>
            <a:ext cx="1157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1971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89440" y="837360"/>
            <a:ext cx="3340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 cases indicées de 0 à 6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709880"/>
            <a:ext cx="495288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ttention aux erreurs d’indice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-1 ]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1.5 ]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100 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</a:t>
            </a:r>
            <a:r>
              <a:rPr b="0" lang="fr-FR" sz="2400" spc="-1" strike="noStrike">
                <a:solidFill>
                  <a:srgbClr val="006600"/>
                </a:solidFill>
                <a:latin typeface="Arial"/>
              </a:rPr>
              <a:t>"1" ]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[ 7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 n’existent pas 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347840"/>
            <a:ext cx="533520" cy="9144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073240"/>
            <a:ext cx="914400" cy="28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33720" y="1828800"/>
            <a:ext cx="5562360" cy="826560"/>
            <a:chOff x="2133720" y="1828800"/>
            <a:chExt cx="5562360" cy="826560"/>
          </a:xfrm>
        </p:grpSpPr>
        <p:graphicFrame>
          <p:nvGraphicFramePr>
            <p:cNvPr id="110" name=""/>
            <p:cNvGraphicFramePr/>
            <p:nvPr/>
          </p:nvGraphicFramePr>
          <p:xfrm>
            <a:off x="2133720" y="2117520"/>
            <a:ext cx="5562360" cy="5378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2117520"/>
                      <a:ext cx="5562360" cy="537840"/>
                    </a:xfrm>
                    <a:prstGeom prst="rect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12" name=""/>
            <p:cNvGrpSpPr/>
            <p:nvPr/>
          </p:nvGrpSpPr>
          <p:grpSpPr>
            <a:xfrm>
              <a:off x="2133720" y="1828800"/>
              <a:ext cx="5562360" cy="288720"/>
              <a:chOff x="2133720" y="1828800"/>
              <a:chExt cx="5562360" cy="28872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33640" y="1828800"/>
                <a:ext cx="7621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34040" y="1828800"/>
                <a:ext cx="7621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339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33840" y="1828800"/>
                <a:ext cx="7621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341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34320" y="1828800"/>
                <a:ext cx="7617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Accès à une cas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341360"/>
            <a:ext cx="90676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utilise l’attribut public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onnaître la taille d’un tabl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abInt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60 ]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.out.println(  "Le tableau a " + tabInt.length + " éléments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faut donner une valeur à chacune des cases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dividuell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aleaTab =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w doub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 Numerik.randomInt ( 20, 25 )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 ; i &lt; aleaTab.length ; i ++ 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leaTab[ i ] = 100 * Math.random (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ès que l’on manipule un tableau, on se retrouve avec des itérat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922040"/>
            <a:ext cx="3962520" cy="778680"/>
          </a:xfrm>
          <a:prstGeom prst="horizontalScroll">
            <a:avLst>
              <a:gd name="adj" fmla="val 172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ableau a 60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aille et initialisation des donné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1360" y="3677400"/>
            <a:ext cx="88549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 exemple, pour faire un carré de coté 10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0, 100, 90, 100, 90, 100, 90, 10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tortue se retrouve au même point, mais pas dans la même dire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360" y="1291680"/>
            <a:ext cx="885492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veut faire exécuter une série de mouvements à la tort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mouvements sont dans un tableau et vont par deux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 angle (rotation à gauch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distance (avancer la tort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3505320"/>
            <a:ext cx="10670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uvements pour la tort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4680" y="3575520"/>
            <a:ext cx="6422040" cy="233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placeTortue ( Turtle t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] tm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 = 0; i&lt; tm.length; i += 2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left( tm[ i 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.forward( tm[ i + 1 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5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291680"/>
            <a:ext cx="838224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cela on va faire une procédure (de classe) ayan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argu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une tortu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un tableau contenant les mou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4680" y="4438440"/>
            <a:ext cx="4641840" cy="2432880"/>
          </a:xfrm>
          <a:prstGeom prst="cloudCallout">
            <a:avLst>
              <a:gd name="adj1" fmla="val -38277"/>
              <a:gd name="adj2" fmla="val -5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vance par pas de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pour la rotation e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pour le dé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Mouvements pour une tortu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rans" descr=""/>
          <p:cNvPicPr/>
          <p:nvPr/>
        </p:nvPicPr>
        <p:blipFill>
          <a:blip r:embed="rId1"/>
          <a:stretch/>
        </p:blipFill>
        <p:spPr>
          <a:xfrm>
            <a:off x="6594480" y="988920"/>
            <a:ext cx="2913120" cy="2921040"/>
          </a:xfrm>
          <a:prstGeom prst="rect">
            <a:avLst/>
          </a:prstGeom>
          <a:ln w="0">
            <a:noFill/>
          </a:ln>
        </p:spPr>
      </p:pic>
      <p:pic>
        <p:nvPicPr>
          <p:cNvPr id="135" name="Carres" descr=""/>
          <p:cNvPicPr/>
          <p:nvPr/>
        </p:nvPicPr>
        <p:blipFill>
          <a:blip r:embed="rId2"/>
          <a:stretch/>
        </p:blipFill>
        <p:spPr>
          <a:xfrm>
            <a:off x="1254240" y="2209680"/>
            <a:ext cx="324144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6920" y="1447560"/>
            <a:ext cx="53200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rappelant plusieurs fois de sui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2800" y="5052960"/>
            <a:ext cx="62956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foi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{ 0, 100, 90, 100, 90, 100, 90, 100, -18, 0 }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un carré + ro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3760" y="3909960"/>
            <a:ext cx="425052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2 foi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{ 30, 40, 150, 40, -150, 20 }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un « cran 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essins possib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2-16T16:30:18Z</cp:lastPrinted>
  <dcterms:modified xsi:type="dcterms:W3CDTF">2001-12-16T16:32:11Z</dcterms:modified>
  <cp:revision>115</cp:revision>
  <dc:subject/>
  <dc:title>Aucun titre de diapositive</dc:title>
</cp:coreProperties>
</file>