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0-</a:t>
            </a:r>
            <a:fld id="{80ACB2BE-F0A8-4537-A2D7-7FCB290BD750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1258200"/>
            <a:ext cx="7086600" cy="235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chine[] toutesLesMachines =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outesLesMachines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utesLesMachines[ i ].eteind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886200"/>
            <a:ext cx="8991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un) tableau 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[ i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la) Machine d’indic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on peut lui envoyer un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LesMachines[ i ].eteindr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eindre toutes les machi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4572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52520"/>
            <a:ext cx="9220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llection : liste d'éléments où l'on ne se souci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i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'ord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i d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épét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être amené à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upprim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un élément de la collection (apparition ou disparition d’un élé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faire ?   un tableau avec des cases vides (surdimensionn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ructure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au « suffisamment grand »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première place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952880"/>
            <a:ext cx="5331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95288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952880"/>
            <a:ext cx="15238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952880"/>
            <a:ext cx="53352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9528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952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95288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952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16200000">
            <a:off x="3009960" y="4152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720 h 3124080"/>
              <a:gd name="textAreaBottom" fmla="*/ 30423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5"/>
                  <a:pt x="10800" y="1810"/>
                </a:cubicBezTo>
                <a:lnTo>
                  <a:pt x="10800" y="9000"/>
                </a:lnTo>
                <a:cubicBezTo>
                  <a:pt x="10800" y="9905"/>
                  <a:pt x="5400" y="10810"/>
                  <a:pt x="0" y="10810"/>
                </a:cubicBezTo>
                <a:cubicBezTo>
                  <a:pt x="5400" y="10810"/>
                  <a:pt x="10800" y="11715"/>
                  <a:pt x="10800" y="12620"/>
                </a:cubicBezTo>
                <a:lnTo>
                  <a:pt x="10800" y="19790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6200000">
            <a:off x="6134040" y="4152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720 h 3124080"/>
              <a:gd name="textAreaBottom" fmla="*/ 30423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5"/>
                  <a:pt x="10800" y="1810"/>
                </a:cubicBezTo>
                <a:lnTo>
                  <a:pt x="10800" y="9000"/>
                </a:lnTo>
                <a:cubicBezTo>
                  <a:pt x="10800" y="9905"/>
                  <a:pt x="5400" y="10810"/>
                  <a:pt x="0" y="10810"/>
                </a:cubicBezTo>
                <a:cubicBezTo>
                  <a:pt x="5400" y="10810"/>
                  <a:pt x="10800" y="11715"/>
                  <a:pt x="10800" y="12620"/>
                </a:cubicBezTo>
                <a:lnTo>
                  <a:pt x="10800" y="19790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78000" y="5658120"/>
            <a:ext cx="197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occup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56240" y="5658120"/>
            <a:ext cx="153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l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439992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ice première place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llection de taille vari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514600" y="5562000"/>
            <a:ext cx="6248160" cy="1071720"/>
            <a:chOff x="2514600" y="5562000"/>
            <a:chExt cx="6248160" cy="1071720"/>
          </a:xfrm>
        </p:grpSpPr>
        <p:grpSp>
          <p:nvGrpSpPr>
            <p:cNvPr id="161" name=""/>
            <p:cNvGrpSpPr/>
            <p:nvPr/>
          </p:nvGrpSpPr>
          <p:grpSpPr>
            <a:xfrm>
              <a:off x="2514600" y="6100560"/>
              <a:ext cx="6248160" cy="533160"/>
              <a:chOff x="2514600" y="6100560"/>
              <a:chExt cx="6248160" cy="533160"/>
            </a:xfrm>
          </p:grpSpPr>
          <p:sp>
            <p:nvSpPr>
              <p:cNvPr id="162" name=""/>
              <p:cNvSpPr/>
              <p:nvPr/>
            </p:nvSpPr>
            <p:spPr>
              <a:xfrm>
                <a:off x="2514600" y="6100560"/>
                <a:ext cx="533160" cy="533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7760" y="6100560"/>
                <a:ext cx="533520" cy="533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81280" y="6100560"/>
                <a:ext cx="1523880" cy="533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05160" y="6100560"/>
                <a:ext cx="533520" cy="5331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6100560"/>
                <a:ext cx="53352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72200" y="6100560"/>
                <a:ext cx="53316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05360" y="6100560"/>
                <a:ext cx="152424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29600" y="6100560"/>
                <a:ext cx="53316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014880" y="5562000"/>
              <a:ext cx="914400" cy="538200"/>
              <a:chOff x="6014880" y="5562000"/>
              <a:chExt cx="914400" cy="538200"/>
            </a:xfrm>
          </p:grpSpPr>
          <p:sp>
            <p:nvSpPr>
              <p:cNvPr id="171" name=""/>
              <p:cNvSpPr/>
              <p:nvPr/>
            </p:nvSpPr>
            <p:spPr>
              <a:xfrm>
                <a:off x="6014880" y="571968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5562000"/>
                <a:ext cx="9144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Lib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457200" y="2062440"/>
            <a:ext cx="8610480" cy="3498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llectionDouble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tatic final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BR_CASES = 1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Libre = 0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ases[]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 NBR_CASES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tring toString() { /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n’affiche pas mais renvoie un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ing desc = "CollentionDouble[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; i &lt; iLibre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c = desc + " " + cases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c + " ]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1722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309600"/>
            <a:ext cx="6858000" cy="17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Collection de nombres approché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: tableau de nombres approchés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fficher le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ases d’indice 0 inclus à iLibre exclu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fficher la case co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finition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u typ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038480" y="687240"/>
            <a:ext cx="4572000" cy="167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valeur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jouter une 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Libre ]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3880" y="4819680"/>
            <a:ext cx="6248160" cy="533520"/>
            <a:chOff x="1523880" y="4819680"/>
            <a:chExt cx="6248160" cy="533520"/>
          </a:xfrm>
        </p:grpSpPr>
        <p:sp>
          <p:nvSpPr>
            <p:cNvPr id="180" name=""/>
            <p:cNvSpPr/>
            <p:nvPr/>
          </p:nvSpPr>
          <p:spPr>
            <a:xfrm>
              <a:off x="1523880" y="4819680"/>
              <a:ext cx="53316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7040" y="4819680"/>
              <a:ext cx="53352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0560" y="4819680"/>
              <a:ext cx="152388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440" y="4819680"/>
              <a:ext cx="53352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7960" y="4819680"/>
              <a:ext cx="5335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819680"/>
              <a:ext cx="5331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4640" y="4819680"/>
              <a:ext cx="152424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4819680"/>
              <a:ext cx="5331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481720" y="5285520"/>
            <a:ext cx="914400" cy="552960"/>
            <a:chOff x="5481720" y="5285520"/>
            <a:chExt cx="914400" cy="552960"/>
          </a:xfrm>
        </p:grpSpPr>
        <p:sp>
          <p:nvSpPr>
            <p:cNvPr id="189" name=""/>
            <p:cNvSpPr/>
            <p:nvPr/>
          </p:nvSpPr>
          <p:spPr>
            <a:xfrm>
              <a:off x="5481720" y="54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1720" y="528552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024520" y="4266360"/>
            <a:ext cx="914400" cy="552960"/>
            <a:chOff x="5024520" y="4266360"/>
            <a:chExt cx="914400" cy="552960"/>
          </a:xfrm>
        </p:grpSpPr>
        <p:sp>
          <p:nvSpPr>
            <p:cNvPr id="192" name=""/>
            <p:cNvSpPr/>
            <p:nvPr/>
          </p:nvSpPr>
          <p:spPr>
            <a:xfrm>
              <a:off x="5024520" y="4438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4520" y="426636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23880" y="5838840"/>
            <a:ext cx="533520" cy="5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5838840"/>
            <a:ext cx="53352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5838840"/>
            <a:ext cx="152388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838840"/>
            <a:ext cx="53352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5838840"/>
            <a:ext cx="53316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83884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83884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583884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32480" y="5785920"/>
            <a:ext cx="5490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240" y="5838120"/>
            <a:ext cx="68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7680" y="483804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080" y="2057040"/>
            <a:ext cx="15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ajou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a 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824560"/>
            <a:ext cx="4724280" cy="136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jouterValeur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aleur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es[ iLibre ] = vale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ibre 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ne vale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724280" y="318960"/>
            <a:ext cx="4800600" cy="293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e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supprimer une val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ases [ indice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ndice ]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s [ iLibre 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781680" y="4176360"/>
            <a:ext cx="914400" cy="538560"/>
            <a:chOff x="6781680" y="4176360"/>
            <a:chExt cx="914400" cy="538560"/>
          </a:xfrm>
        </p:grpSpPr>
        <p:sp>
          <p:nvSpPr>
            <p:cNvPr id="210" name=""/>
            <p:cNvSpPr/>
            <p:nvPr/>
          </p:nvSpPr>
          <p:spPr>
            <a:xfrm>
              <a:off x="6781680" y="4334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417636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88040" y="5328720"/>
            <a:ext cx="914400" cy="538560"/>
            <a:chOff x="6188040" y="5328720"/>
            <a:chExt cx="914400" cy="538560"/>
          </a:xfrm>
        </p:grpSpPr>
        <p:sp>
          <p:nvSpPr>
            <p:cNvPr id="213" name=""/>
            <p:cNvSpPr/>
            <p:nvPr/>
          </p:nvSpPr>
          <p:spPr>
            <a:xfrm>
              <a:off x="618804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8040" y="532872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19520" y="5867280"/>
            <a:ext cx="53316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586728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5867280"/>
            <a:ext cx="152424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5867280"/>
            <a:ext cx="106668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5867280"/>
            <a:ext cx="533520" cy="5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58672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5960" y="586728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360" y="5830200"/>
            <a:ext cx="682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440" y="483012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5867280"/>
            <a:ext cx="53352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4714920"/>
            <a:ext cx="53316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714920"/>
            <a:ext cx="53352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714920"/>
            <a:ext cx="152424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4714920"/>
            <a:ext cx="1066680" cy="533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4714920"/>
            <a:ext cx="533520" cy="533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5960" y="4714920"/>
            <a:ext cx="15242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714920"/>
            <a:ext cx="533520" cy="533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4714920"/>
            <a:ext cx="533160" cy="533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4659120"/>
            <a:ext cx="5490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62440" y="5830560"/>
            <a:ext cx="5493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867280"/>
            <a:ext cx="549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714920"/>
            <a:ext cx="549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1120" y="4176360"/>
            <a:ext cx="914400" cy="538560"/>
            <a:chOff x="4191120" y="4176360"/>
            <a:chExt cx="914400" cy="538560"/>
          </a:xfrm>
        </p:grpSpPr>
        <p:sp>
          <p:nvSpPr>
            <p:cNvPr id="238" name=""/>
            <p:cNvSpPr/>
            <p:nvPr/>
          </p:nvSpPr>
          <p:spPr>
            <a:xfrm>
              <a:off x="4191120" y="4334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4176360"/>
              <a:ext cx="9144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nd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715000" y="3581280"/>
            <a:ext cx="533520" cy="533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78480" y="3590280"/>
            <a:ext cx="3567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vaut la valeur de la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640" y="1598400"/>
            <a:ext cx="359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écupère la valeur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y reloge le derni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lé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uppre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8120" y="1295640"/>
            <a:ext cx="5715000" cy="233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tirerIndic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dic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ble valeur = cases[ indic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es[ indice ] = cases[ iLibre - 1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ibre 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ale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9000" y="53244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qui correspond à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280" y="3948480"/>
            <a:ext cx="8902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en suspend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faire quand il n’y a plus de pla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retirer une valeur donnée (et non celle dans un case donn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retirer toutes les occurrences d’une valeur 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12920" y="1905120"/>
          <a:ext cx="9162720" cy="127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905120"/>
                    <a:ext cx="9162720" cy="1272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4920" y="3657960"/>
            <a:ext cx="935352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bleaux multidimensionnels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bleaux d’objets 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922032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éclar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[ ]...[ ]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aille 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]...[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aille n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[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ndice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]...[ &lt;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ndice n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 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ec les valeurs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] [ ]  tab = {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0, 0, 0, 0, 0 }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1, 0, 0, 0, 0 }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2, 1, 0, 0, 0 }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{ 1, 3, 3, 1, 0, 0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] [ ] [ ]  donneesMeteo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365 ] [ 24 ] [ 3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7168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.B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mieux va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eleveMeteo [ ] [ ]  donneesMeteo 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eveMeteo [ 365 ] [ 24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29080" y="2895480"/>
            <a:ext cx="3834000" cy="2678400"/>
            <a:chOff x="5329080" y="2895480"/>
            <a:chExt cx="3834000" cy="2678400"/>
          </a:xfrm>
        </p:grpSpPr>
        <p:sp>
          <p:nvSpPr>
            <p:cNvPr id="88" name=""/>
            <p:cNvSpPr/>
            <p:nvPr/>
          </p:nvSpPr>
          <p:spPr>
            <a:xfrm>
              <a:off x="5329080" y="2895480"/>
              <a:ext cx="3834000" cy="2678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29080" y="488916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5398200" y="4979880"/>
            <a:ext cx="3693240" cy="482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8200" y="4979880"/>
                      <a:ext cx="36932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5329080" y="356004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29080" y="4224600"/>
              <a:ext cx="383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5398200" y="4315680"/>
            <a:ext cx="3693240" cy="482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8200" y="4315680"/>
                      <a:ext cx="3693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5398200" y="3650760"/>
            <a:ext cx="3693240" cy="4824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200" y="3650760"/>
                      <a:ext cx="3693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5398200" y="2986200"/>
            <a:ext cx="3693240" cy="4827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98200" y="2986200"/>
                      <a:ext cx="36932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"/>
          <p:cNvSpPr/>
          <p:nvPr/>
        </p:nvSpPr>
        <p:spPr>
          <a:xfrm>
            <a:off x="7884360" y="2202480"/>
            <a:ext cx="1447200" cy="52056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5671"/>
              <a:gd name="adj5" fmla="val 167518"/>
              <a:gd name="adj6" fmla="val -542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b[0][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au à plusieurs dimens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630080"/>
            <a:ext cx="92962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ésire manipuler un tableau constant les notes po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 étudiants et 10 unités d’enseig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9920"/>
            <a:ext cx="6019920" cy="875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not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800 ][ 1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faut encore rentrer les notes ...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267080"/>
            <a:ext cx="8001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chercher à calculer la moyenne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ur un étud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ur une 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 toutes les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au des no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24080"/>
            <a:ext cx="8686800" cy="4899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Etudiant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u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j = 0 ; j &lt; tNotes[ etu ].length ; j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me += tNotes[ etu ][ j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tNotes[ etu ]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U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u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Notes.length ; i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+= tNotes[ i ][ u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tNotes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971800"/>
            <a:ext cx="3048120" cy="762120"/>
          </a:xfrm>
          <a:prstGeom prst="cloudCallout">
            <a:avLst>
              <a:gd name="adj1" fmla="val -68384"/>
              <a:gd name="adj2" fmla="val -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5334120"/>
            <a:ext cx="3048120" cy="761760"/>
          </a:xfrm>
          <a:prstGeom prst="cloudCallout">
            <a:avLst>
              <a:gd name="adj1" fmla="val -72342"/>
              <a:gd name="adj2" fmla="val -47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yenne par étudiant ou 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2210040"/>
            <a:ext cx="8232840" cy="2704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neGlobal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[] tNotes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somm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Notes.length ; i ++ 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j = 0 ; j &lt; tNotes[ i ].length ; j ++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me += tNotes[ i ][ j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me / ( tNotes.length * tNotes[ 0 ].length 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57200"/>
            <a:ext cx="3352680" cy="1371600"/>
          </a:xfrm>
          <a:prstGeom prst="cloudCallout">
            <a:avLst>
              <a:gd name="adj1" fmla="val -36504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’étudiant 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UE à ind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5029200"/>
            <a:ext cx="4191120" cy="1523880"/>
          </a:xfrm>
          <a:prstGeom prst="cloudCallout">
            <a:avLst>
              <a:gd name="adj1" fmla="val -27800"/>
              <a:gd name="adj2" fmla="val -145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faut somm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 les étudia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r les 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yenne sur t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1601280"/>
            <a:ext cx="7620120" cy="160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[] tTortu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rtle [ 3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faut encore créer les 30 instances de Turt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3581280"/>
            <a:ext cx="8947080" cy="2764440"/>
            <a:chOff x="304920" y="3581280"/>
            <a:chExt cx="8947080" cy="2764440"/>
          </a:xfrm>
        </p:grpSpPr>
        <p:graphicFrame>
          <p:nvGraphicFramePr>
            <p:cNvPr id="116" name=""/>
            <p:cNvGraphicFramePr/>
            <p:nvPr/>
          </p:nvGraphicFramePr>
          <p:xfrm>
            <a:off x="1511280" y="4022640"/>
            <a:ext cx="7175520" cy="83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4022640"/>
                      <a:ext cx="71755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304920" y="3581280"/>
              <a:ext cx="9903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Tort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4306680"/>
              <a:ext cx="596880" cy="189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632120"/>
              <a:ext cx="755640" cy="739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60" y="5371920"/>
              <a:ext cx="1330200" cy="70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5470560"/>
              <a:ext cx="13305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9320" y="5524560"/>
              <a:ext cx="1330200" cy="7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9520" y="5524560"/>
              <a:ext cx="1330200" cy="7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21440" y="5524560"/>
              <a:ext cx="1330560" cy="70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&lt;Turt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85600" y="4686120"/>
              <a:ext cx="453960" cy="784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263840" y="4686120"/>
              <a:ext cx="23184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62520" y="4686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0840" y="4686120"/>
              <a:ext cx="55548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lg" type="oval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86600" y="5774760"/>
              <a:ext cx="4100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au de références (sur des instanc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831680"/>
            <a:ext cx="9220320" cy="99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Tortues[ i ].forward( Numerik.randomInt( 10, 10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50532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un) tableau 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(référence sur l’instance de) Turtle d’indic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on peut lui envoyer un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Tortues[ i ].forward( 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faire toutes avanc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191120" y="1751760"/>
            <a:ext cx="5257800" cy="1492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Tortues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Tortues[ i ].penDown()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960" y="1752480"/>
            <a:ext cx="33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 compter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court le tablea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es comp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3965760"/>
            <a:ext cx="5257800" cy="2064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500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dicePenDown = -1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 = 0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( i &lt; tTortues.length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! (tTortues[ i ].penDown() ) 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 ++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i &lt; tTortues.length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dicePenDown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972960"/>
            <a:ext cx="33721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a première ayant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e « pen down »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parcourt le 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usqu’à en trouver 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elles ayant le « pen down 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31:56Z</dcterms:created>
  <dc:creator>W</dc:creator>
  <dc:description/>
  <dc:language>en-US</dc:language>
  <cp:lastModifiedBy>DeptInfo</cp:lastModifiedBy>
  <cp:lastPrinted>2001-11-23T15:02:40Z</cp:lastPrinted>
  <dcterms:modified xsi:type="dcterms:W3CDTF">2001-12-16T16:25:32Z</dcterms:modified>
  <cp:revision>17</cp:revision>
  <dc:subject/>
  <dc:title>Aucun titre de diapositive</dc:title>
</cp:coreProperties>
</file>