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3920"/>
            <a:ext cx="21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1-</a:t>
            </a:r>
            <a:fld id="{688AA3DA-8CBC-498B-ABF7-3B37CFB93F57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24640" y="348480"/>
            <a:ext cx="40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x) = e</a:t>
            </a:r>
            <a:r>
              <a:rPr b="0" i="1" lang="fr-FR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- 2cos( x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7480" y="4921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6320" y="988560"/>
            <a:ext cx="7103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cis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 racin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12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0.02329165802136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429687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0087517016673583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00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5507812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6.429358394135498E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4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6440429687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5.694561728719627E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3477783203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4.617447294963384E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4908294677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6.92784223765841E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76515579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4.309088375009651E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8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57889127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8.011562524501414E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9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1148756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9.31365429224229E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0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28614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5.3042237269096404E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10424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.1377123121956174E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060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6.052935930256353E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2594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5.950795411990839E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4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284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.659739592076221E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5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281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.220446049250313E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.539785160809281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.220446049250313E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2876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.0E-17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ne termine jamai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5867280"/>
            <a:ext cx="2743200" cy="70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133720"/>
            <a:ext cx="533520" cy="3733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25760" y="2121840"/>
            <a:ext cx="1681920" cy="246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blè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ubl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 pou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01000" y="1443600"/>
            <a:ext cx="5446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chercher un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oupe l’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space de recherch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3308040"/>
            <a:ext cx="39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ardant la partie où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doit y avoir un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1520" y="330804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écartant la partie où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n’y a pas d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 flipH="1">
            <a:off x="2504520" y="2607840"/>
            <a:ext cx="191988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9" idx="0"/>
          </p:cNvCxnSpPr>
          <p:nvPr/>
        </p:nvCxnSpPr>
        <p:spPr>
          <a:xfrm>
            <a:off x="4424040" y="2607840"/>
            <a:ext cx="27248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1446840" y="4620960"/>
            <a:ext cx="671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on recommence jusqu’à avoir une solution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u ne plus rien a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400" y="59428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type : recherche dans un dic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lus général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17400" y="2727360"/>
            <a:ext cx="555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o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32240" y="91368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herche de 3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34960" y="1065960"/>
            <a:ext cx="8450280" cy="5013720"/>
            <a:chOff x="534960" y="1065960"/>
            <a:chExt cx="8450280" cy="5013720"/>
          </a:xfrm>
        </p:grpSpPr>
        <p:sp>
          <p:nvSpPr>
            <p:cNvPr id="158" name=""/>
            <p:cNvSpPr/>
            <p:nvPr/>
          </p:nvSpPr>
          <p:spPr>
            <a:xfrm>
              <a:off x="53496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04760" y="1601280"/>
              <a:ext cx="47016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7312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4328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8144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124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960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940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59200" y="1601280"/>
              <a:ext cx="47016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2756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97360" y="1601280"/>
              <a:ext cx="47016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5720" y="1601280"/>
              <a:ext cx="4716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3588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568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7404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43840" y="1601280"/>
              <a:ext cx="46980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10760" y="1601280"/>
              <a:ext cx="47124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2640" y="124452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640" y="1065960"/>
              <a:ext cx="11620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ou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4960" y="253044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04760" y="253044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7312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4328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1308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81440" y="253044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124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19600" y="253044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8940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59200" y="253044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2756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736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6752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35880" y="253044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0568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74040" y="253044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43840" y="253044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12200" y="253044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6400" y="34819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06560" y="34819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74920" y="348192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4720" y="34819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4520" y="34819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8288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52680" y="348192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104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9084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1000" y="34819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29360" y="348192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9916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68960" y="34819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3732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07120" y="348192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7548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45280" y="34819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13640" y="3481920"/>
              <a:ext cx="47016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8200" y="47311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8000" y="47311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76360" y="47311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46160" y="4731120"/>
              <a:ext cx="47016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16320" y="47311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84320" y="47311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54480" y="47311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22840" y="4731120"/>
              <a:ext cx="47124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92640" y="4731120"/>
              <a:ext cx="4716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62440" y="4731120"/>
              <a:ext cx="469800" cy="45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30800" y="47311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00600" y="47311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0760" y="47311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38760" y="47311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08920" y="47311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77280" y="4731120"/>
              <a:ext cx="4712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47080" y="4731120"/>
              <a:ext cx="4716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515440" y="4731120"/>
              <a:ext cx="46980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20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08000" y="5622840"/>
              <a:ext cx="4698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636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6160" y="5622840"/>
              <a:ext cx="47016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6320" y="5622840"/>
              <a:ext cx="4698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432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4480" y="5622840"/>
              <a:ext cx="4698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2840" y="5622840"/>
              <a:ext cx="47124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9264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62440" y="5622840"/>
              <a:ext cx="4698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30800" y="5622840"/>
              <a:ext cx="471600" cy="456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0600" y="5622840"/>
              <a:ext cx="4716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0760" y="5622840"/>
              <a:ext cx="4698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8760" y="5622840"/>
              <a:ext cx="4716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08920" y="5622840"/>
              <a:ext cx="4698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7280" y="5622840"/>
              <a:ext cx="47124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47080" y="5622840"/>
              <a:ext cx="4716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515440" y="5622840"/>
              <a:ext cx="4698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49200" y="220536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49200" y="2028240"/>
              <a:ext cx="11620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31960" y="315684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31960" y="2978280"/>
              <a:ext cx="11620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7040" y="440604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7040" y="4227480"/>
              <a:ext cx="11617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0080" y="5298120"/>
              <a:ext cx="0" cy="3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50080" y="5119560"/>
              <a:ext cx="11620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6560" y="3781440"/>
              <a:ext cx="106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fr-FR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10160" y="5357520"/>
              <a:ext cx="2107440" cy="525240"/>
            </a:xfrm>
            <a:custGeom>
              <a:avLst/>
              <a:gdLst>
                <a:gd name="textAreaLeft" fmla="*/ 526680 w 2107440"/>
                <a:gd name="textAreaRight" fmla="*/ 1580760 w 2107440"/>
                <a:gd name="textAreaTop" fmla="*/ 0 h 525240"/>
                <a:gd name="textAreaBottom" fmla="*/ 459720 h 52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éch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séquentielle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ans un tableau trié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77800" y="6185880"/>
            <a:ext cx="65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exité e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 nombres de vale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1352160"/>
            <a:ext cx="822960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r" pos="3244680"/>
                <a:tab algn="l" pos="333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dition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bleau tri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herche compatible avec l’or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3244680"/>
                <a:tab algn="l" pos="333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ordre alphabétique) recherches de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 « DICHOTOMIE » dans un dictionna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 « SUMATRA » dans l’index d’un at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3244680"/>
                <a:tab algn="l" pos="333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incip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on regarde à chaque fois au milieu de la zone de recherche et selon ce que l’on trouve on recommence dans la première moitié ou la sec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3244680"/>
                <a:tab algn="l" pos="333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chaque fois on divise par deux la zone de recherch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 cou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ntr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 cou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1024 entr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 cou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ntr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n) coup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n entr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ichotomiq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480120" y="106596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herche de 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731080" y="1466280"/>
            <a:ext cx="914400" cy="552960"/>
            <a:chOff x="8731080" y="1466280"/>
            <a:chExt cx="914400" cy="552960"/>
          </a:xfrm>
        </p:grpSpPr>
        <p:sp>
          <p:nvSpPr>
            <p:cNvPr id="266" name=""/>
            <p:cNvSpPr/>
            <p:nvPr/>
          </p:nvSpPr>
          <p:spPr>
            <a:xfrm>
              <a:off x="8731080" y="1638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31080" y="1466280"/>
              <a:ext cx="914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33520" y="2019240"/>
            <a:ext cx="8446680" cy="474840"/>
            <a:chOff x="533520" y="2019240"/>
            <a:chExt cx="8446680" cy="474840"/>
          </a:xfrm>
        </p:grpSpPr>
        <p:sp>
          <p:nvSpPr>
            <p:cNvPr id="269" name=""/>
            <p:cNvSpPr/>
            <p:nvPr/>
          </p:nvSpPr>
          <p:spPr>
            <a:xfrm>
              <a:off x="53352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0260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7204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4112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1056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7964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4872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1816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8724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5668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2612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9520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6464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3372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0316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72600" y="2019240"/>
              <a:ext cx="47088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168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09680" y="2019240"/>
              <a:ext cx="470520" cy="47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9400" y="1505520"/>
            <a:ext cx="885960" cy="513360"/>
            <a:chOff x="779400" y="1505520"/>
            <a:chExt cx="885960" cy="513360"/>
          </a:xfrm>
        </p:grpSpPr>
        <p:sp>
          <p:nvSpPr>
            <p:cNvPr id="288" name=""/>
            <p:cNvSpPr/>
            <p:nvPr/>
          </p:nvSpPr>
          <p:spPr>
            <a:xfrm>
              <a:off x="779400" y="16830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9400" y="1505520"/>
              <a:ext cx="8859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Déb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21240" y="1352880"/>
            <a:ext cx="887400" cy="754200"/>
            <a:chOff x="4521240" y="1352880"/>
            <a:chExt cx="887400" cy="754200"/>
          </a:xfrm>
        </p:grpSpPr>
        <p:sp>
          <p:nvSpPr>
            <p:cNvPr id="291" name=""/>
            <p:cNvSpPr/>
            <p:nvPr/>
          </p:nvSpPr>
          <p:spPr>
            <a:xfrm>
              <a:off x="4521240" y="16830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21240" y="1352880"/>
              <a:ext cx="8874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lie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33520" y="2981160"/>
            <a:ext cx="47124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03320" y="2981160"/>
            <a:ext cx="4698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71680" y="2981160"/>
            <a:ext cx="4716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41480" y="2981160"/>
            <a:ext cx="4698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11280" y="2981160"/>
            <a:ext cx="47016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9640" y="2981160"/>
            <a:ext cx="4716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49800" y="2981160"/>
            <a:ext cx="4698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17800" y="2981160"/>
            <a:ext cx="47160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87960" y="2981160"/>
            <a:ext cx="471240" cy="47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57760" y="2981160"/>
            <a:ext cx="4698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26120" y="2981160"/>
            <a:ext cx="47124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95920" y="2981160"/>
            <a:ext cx="4716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65720" y="2981160"/>
            <a:ext cx="47016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34080" y="2981160"/>
            <a:ext cx="4716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04240" y="2981160"/>
            <a:ext cx="4698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72240" y="2981160"/>
            <a:ext cx="4716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42400" y="2981160"/>
            <a:ext cx="47124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10760" y="2981160"/>
            <a:ext cx="469800" cy="4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037120" y="2468160"/>
            <a:ext cx="887400" cy="512640"/>
            <a:chOff x="5037120" y="2468160"/>
            <a:chExt cx="887400" cy="512640"/>
          </a:xfrm>
        </p:grpSpPr>
        <p:sp>
          <p:nvSpPr>
            <p:cNvPr id="312" name=""/>
            <p:cNvSpPr/>
            <p:nvPr/>
          </p:nvSpPr>
          <p:spPr>
            <a:xfrm>
              <a:off x="5037120" y="264492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7120" y="2468160"/>
              <a:ext cx="887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11920" y="2493720"/>
            <a:ext cx="885960" cy="512640"/>
            <a:chOff x="6811920" y="2493720"/>
            <a:chExt cx="885960" cy="512640"/>
          </a:xfrm>
        </p:grpSpPr>
        <p:sp>
          <p:nvSpPr>
            <p:cNvPr id="315" name=""/>
            <p:cNvSpPr/>
            <p:nvPr/>
          </p:nvSpPr>
          <p:spPr>
            <a:xfrm>
              <a:off x="6811920" y="267048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11920" y="2493720"/>
              <a:ext cx="8859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8731080" y="2468160"/>
            <a:ext cx="517680" cy="512640"/>
            <a:chOff x="8731080" y="2468160"/>
            <a:chExt cx="517680" cy="512640"/>
          </a:xfrm>
        </p:grpSpPr>
        <p:sp>
          <p:nvSpPr>
            <p:cNvPr id="318" name=""/>
            <p:cNvSpPr/>
            <p:nvPr/>
          </p:nvSpPr>
          <p:spPr>
            <a:xfrm>
              <a:off x="8731080" y="264492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31080" y="2468160"/>
              <a:ext cx="517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533520" y="40165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0332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7168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4148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11280" y="4016520"/>
            <a:ext cx="47016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7964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4980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1780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7960" y="40165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57760" y="4016520"/>
            <a:ext cx="46980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26120" y="4016520"/>
            <a:ext cx="47124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95920" y="4016520"/>
            <a:ext cx="47160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65720" y="4016520"/>
            <a:ext cx="47016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3408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0424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72240" y="40165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042400" y="40165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10760" y="40165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037120" y="3501000"/>
            <a:ext cx="887400" cy="515160"/>
            <a:chOff x="5037120" y="3501000"/>
            <a:chExt cx="887400" cy="515160"/>
          </a:xfrm>
        </p:grpSpPr>
        <p:sp>
          <p:nvSpPr>
            <p:cNvPr id="339" name=""/>
            <p:cNvSpPr/>
            <p:nvPr/>
          </p:nvSpPr>
          <p:spPr>
            <a:xfrm>
              <a:off x="5037120" y="3679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37120" y="3501000"/>
              <a:ext cx="887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556240" y="3501000"/>
            <a:ext cx="885960" cy="515160"/>
            <a:chOff x="5556240" y="3501000"/>
            <a:chExt cx="885960" cy="515160"/>
          </a:xfrm>
        </p:grpSpPr>
        <p:sp>
          <p:nvSpPr>
            <p:cNvPr id="342" name=""/>
            <p:cNvSpPr/>
            <p:nvPr/>
          </p:nvSpPr>
          <p:spPr>
            <a:xfrm>
              <a:off x="5556240" y="3679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56240" y="3501000"/>
              <a:ext cx="8859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442200" y="3501000"/>
            <a:ext cx="517320" cy="515160"/>
            <a:chOff x="6442200" y="3501000"/>
            <a:chExt cx="517320" cy="515160"/>
          </a:xfrm>
        </p:grpSpPr>
        <p:sp>
          <p:nvSpPr>
            <p:cNvPr id="345" name=""/>
            <p:cNvSpPr/>
            <p:nvPr/>
          </p:nvSpPr>
          <p:spPr>
            <a:xfrm>
              <a:off x="6442200" y="3679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42200" y="3501000"/>
              <a:ext cx="517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33520" y="497520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0332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7168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4148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11280" y="4975200"/>
            <a:ext cx="47016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7964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4980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1780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87960" y="497520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5776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26120" y="497520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95920" y="4975200"/>
            <a:ext cx="47160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65720" y="4975200"/>
            <a:ext cx="47016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3408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0424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72240" y="497520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42400" y="497520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10760" y="497520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56240" y="4463280"/>
            <a:ext cx="1025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D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924520" y="4462920"/>
            <a:ext cx="887400" cy="513360"/>
            <a:chOff x="5924520" y="4462920"/>
            <a:chExt cx="887400" cy="513360"/>
          </a:xfrm>
        </p:grpSpPr>
        <p:sp>
          <p:nvSpPr>
            <p:cNvPr id="367" name=""/>
            <p:cNvSpPr/>
            <p:nvPr/>
          </p:nvSpPr>
          <p:spPr>
            <a:xfrm>
              <a:off x="5924520" y="46404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24520" y="4462920"/>
              <a:ext cx="887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42200" y="4462920"/>
            <a:ext cx="517320" cy="513360"/>
            <a:chOff x="6442200" y="4462920"/>
            <a:chExt cx="517320" cy="513360"/>
          </a:xfrm>
        </p:grpSpPr>
        <p:sp>
          <p:nvSpPr>
            <p:cNvPr id="370" name=""/>
            <p:cNvSpPr/>
            <p:nvPr/>
          </p:nvSpPr>
          <p:spPr>
            <a:xfrm>
              <a:off x="6442200" y="46404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42200" y="4462920"/>
              <a:ext cx="517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33520" y="58993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0332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7168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4148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11280" y="5899320"/>
            <a:ext cx="47016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964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4980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1780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87960" y="58993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5776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26120" y="58993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9592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65720" y="5899320"/>
            <a:ext cx="47016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3408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0424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72240" y="5899320"/>
            <a:ext cx="4716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42400" y="5899320"/>
            <a:ext cx="47124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510760" y="5899320"/>
            <a:ext cx="469800" cy="473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408640" y="5384520"/>
            <a:ext cx="885960" cy="514440"/>
            <a:chOff x="5408640" y="5384520"/>
            <a:chExt cx="885960" cy="514440"/>
          </a:xfrm>
        </p:grpSpPr>
        <p:sp>
          <p:nvSpPr>
            <p:cNvPr id="391" name=""/>
            <p:cNvSpPr/>
            <p:nvPr/>
          </p:nvSpPr>
          <p:spPr>
            <a:xfrm>
              <a:off x="5408640" y="5562000"/>
              <a:ext cx="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08640" y="5384520"/>
              <a:ext cx="8859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924520" y="5421960"/>
            <a:ext cx="517680" cy="513360"/>
            <a:chOff x="5924520" y="5421960"/>
            <a:chExt cx="517680" cy="513360"/>
          </a:xfrm>
        </p:grpSpPr>
        <p:sp>
          <p:nvSpPr>
            <p:cNvPr id="394" name=""/>
            <p:cNvSpPr/>
            <p:nvPr/>
          </p:nvSpPr>
          <p:spPr>
            <a:xfrm>
              <a:off x="5924520" y="559944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24520" y="5421960"/>
              <a:ext cx="517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 de recherche dichotomiq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57200" y="832320"/>
            <a:ext cx="8229600" cy="52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tableau trié (en ordre croissant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critère de recherche (compatible avec l’ordre du tablea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Début, iFin, iMilieu : ent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renvoyée</a:t>
            </a:r>
            <a:br>
              <a:rPr sz="2000"/>
            </a:b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ponse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recherche dichotomiqu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ant qu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Début &lt;= iFin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lieu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 iDébut + iFin ) / 2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a case iMileu contient la valeur cherch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n de l’algorithme, la réponse est iMilie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 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a valeur en iMilieu est avant celle recherch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Débu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lieu + 1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Fi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lieu - 1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herche infructu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08600" y="6112800"/>
            <a:ext cx="65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exité e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nombres de valeurs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26680" y="3407400"/>
            <a:ext cx="1851120" cy="1084680"/>
          </a:xfrm>
          <a:prstGeom prst="cloudCallout">
            <a:avLst>
              <a:gd name="adj1" fmla="val -83888"/>
              <a:gd name="adj2" fmla="val 33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n quand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 tro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5014080"/>
            <a:ext cx="2894040" cy="1084680"/>
          </a:xfrm>
          <a:prstGeom prst="cloudCallout">
            <a:avLst>
              <a:gd name="adj1" fmla="val -144175"/>
              <a:gd name="adj2" fmla="val 26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n quand on ne trouve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1504800"/>
            <a:ext cx="4417920" cy="2024640"/>
          </a:xfrm>
          <a:prstGeom prst="cloudCallout">
            <a:avLst>
              <a:gd name="adj1" fmla="val -50069"/>
              <a:gd name="adj2" fmla="val 67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À chaque itération, la différence entre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Débu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F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st divisée par d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ichotomiq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3520" y="456120"/>
            <a:ext cx="8148240" cy="594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final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ON_TROUVE = -1;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echercherDichotomique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v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bu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in = t.length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debut &lt;= fi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ilieu = ( debut + fin ) /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t[ milieu ] == v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ilie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t[ milieu ] &lt; v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but = milieu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 = milieu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ON_TROU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06480" y="2000880"/>
            <a:ext cx="3276720" cy="1836360"/>
          </a:xfrm>
          <a:prstGeom prst="cloudCallout">
            <a:avLst>
              <a:gd name="adj1" fmla="val -91685"/>
              <a:gd name="adj2" fmla="val 3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eur trouvé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met fin à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mé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363200"/>
            <a:ext cx="2610000" cy="1836360"/>
          </a:xfrm>
          <a:prstGeom prst="cloudCallout">
            <a:avLst>
              <a:gd name="adj1" fmla="val -122500"/>
              <a:gd name="adj2" fmla="val 26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 a é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couru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s succè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44680" y="155052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ourier New"/>
              </a:rPr>
              <a:t>D   o   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4680" y="231120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ourier New"/>
              </a:rPr>
              <a:t>D c o o 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6480" y="307152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ourier New"/>
              </a:rPr>
              <a:t>Dichotom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1800" y="3769920"/>
            <a:ext cx="56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000000"/>
                </a:solidFill>
                <a:latin typeface="Times New Roman"/>
              </a:rPr>
              <a:t>Dichotomi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46480" y="79020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Courier New"/>
              </a:rPr>
              <a:t>D       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78720" y="1391040"/>
            <a:ext cx="7338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e joue à d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un décide d’un chiff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re doit le deviner le plus rapidemen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propose un chiffre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lui dit si c’est le bon, plus grand, ou plus pet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ouons ensem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viner un nombre entre 1 et 12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443400" y="380880"/>
            <a:ext cx="3084480" cy="5867280"/>
            <a:chOff x="3443400" y="380880"/>
            <a:chExt cx="3084480" cy="5867280"/>
          </a:xfrm>
        </p:grpSpPr>
        <p:sp>
          <p:nvSpPr>
            <p:cNvPr id="89" name=""/>
            <p:cNvSpPr/>
            <p:nvPr/>
          </p:nvSpPr>
          <p:spPr>
            <a:xfrm>
              <a:off x="3443400" y="380880"/>
              <a:ext cx="0" cy="58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27880" y="380880"/>
              <a:ext cx="0" cy="58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970560" y="882720"/>
            <a:ext cx="16452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59120" y="882720"/>
            <a:ext cx="148068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74280" y="882720"/>
            <a:ext cx="142272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205280"/>
            <a:ext cx="7925040" cy="494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 : enti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 : entier = 1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 : entier =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 pour deviner la val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répét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 min + max ) divisé par 2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 est la valeur à deviner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fficher v et sortir de la bouc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 est plus petit la valeur à deviner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 est plus grand que la valeur à deviner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in rép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1426680"/>
            <a:ext cx="3274920" cy="1598040"/>
          </a:xfrm>
          <a:prstGeom prst="cloudCallout">
            <a:avLst>
              <a:gd name="adj1" fmla="val -29648"/>
              <a:gd name="adj2" fmla="val 111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ule sorti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a boucle !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reak, retur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2160" y="1186920"/>
            <a:ext cx="90900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Hypothèses :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* f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ntinu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* on connaî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tels qu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(b)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nt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signes diffé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But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ouver une bonne approximation d’une racine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it s’annul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 moins une foi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fférents ca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tr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 et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67120" y="5326200"/>
            <a:ext cx="2133360" cy="770760"/>
            <a:chOff x="2967120" y="5326200"/>
            <a:chExt cx="2133360" cy="770760"/>
          </a:xfrm>
        </p:grpSpPr>
        <p:sp>
          <p:nvSpPr>
            <p:cNvPr id="99" name=""/>
            <p:cNvSpPr/>
            <p:nvPr/>
          </p:nvSpPr>
          <p:spPr>
            <a:xfrm>
              <a:off x="2967120" y="55926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9572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164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352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8944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57800" y="5326200"/>
            <a:ext cx="2133360" cy="770760"/>
            <a:chOff x="5257800" y="5326200"/>
            <a:chExt cx="2133360" cy="770760"/>
          </a:xfrm>
        </p:grpSpPr>
        <p:sp>
          <p:nvSpPr>
            <p:cNvPr id="105" name=""/>
            <p:cNvSpPr/>
            <p:nvPr/>
          </p:nvSpPr>
          <p:spPr>
            <a:xfrm>
              <a:off x="5257800" y="55926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232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3420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012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543800" y="5326200"/>
            <a:ext cx="2133360" cy="770760"/>
            <a:chOff x="7543800" y="5326200"/>
            <a:chExt cx="2133360" cy="770760"/>
          </a:xfrm>
        </p:grpSpPr>
        <p:sp>
          <p:nvSpPr>
            <p:cNvPr id="111" name=""/>
            <p:cNvSpPr/>
            <p:nvPr/>
          </p:nvSpPr>
          <p:spPr>
            <a:xfrm>
              <a:off x="7543800" y="55926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40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1832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520200" y="5326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366120" y="5698080"/>
              <a:ext cx="3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124080" y="4863960"/>
            <a:ext cx="1828800" cy="1384560"/>
          </a:xfrm>
          <a:custGeom>
            <a:avLst/>
            <a:gdLst/>
            <a:ahLst/>
            <a:rect l="l" t="t" r="r" b="b"/>
            <a:pathLst>
              <a:path w="1152" h="872">
                <a:moveTo>
                  <a:pt x="0" y="872"/>
                </a:moveTo>
                <a:cubicBezTo>
                  <a:pt x="104" y="812"/>
                  <a:pt x="208" y="752"/>
                  <a:pt x="288" y="632"/>
                </a:cubicBezTo>
                <a:cubicBezTo>
                  <a:pt x="368" y="512"/>
                  <a:pt x="376" y="256"/>
                  <a:pt x="480" y="152"/>
                </a:cubicBezTo>
                <a:cubicBezTo>
                  <a:pt x="584" y="48"/>
                  <a:pt x="800" y="0"/>
                  <a:pt x="912" y="8"/>
                </a:cubicBezTo>
                <a:cubicBezTo>
                  <a:pt x="1024" y="16"/>
                  <a:pt x="1112" y="168"/>
                  <a:pt x="115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1814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0"/>
                </a:moveTo>
                <a:cubicBezTo>
                  <a:pt x="83" y="62"/>
                  <a:pt x="323" y="266"/>
                  <a:pt x="499" y="370"/>
                </a:cubicBezTo>
                <a:cubicBezTo>
                  <a:pt x="675" y="474"/>
                  <a:pt x="963" y="582"/>
                  <a:pt x="105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5029200"/>
            <a:ext cx="1676520" cy="1143000"/>
          </a:xfrm>
          <a:custGeom>
            <a:avLst/>
            <a:gdLst/>
            <a:ahLst/>
            <a:rect l="l" t="t" r="r" b="b"/>
            <a:pathLst>
              <a:path w="1056" h="720">
                <a:moveTo>
                  <a:pt x="0" y="720"/>
                </a:moveTo>
                <a:cubicBezTo>
                  <a:pt x="48" y="664"/>
                  <a:pt x="96" y="608"/>
                  <a:pt x="144" y="528"/>
                </a:cubicBezTo>
                <a:cubicBezTo>
                  <a:pt x="192" y="448"/>
                  <a:pt x="216" y="248"/>
                  <a:pt x="288" y="240"/>
                </a:cubicBezTo>
                <a:cubicBezTo>
                  <a:pt x="360" y="232"/>
                  <a:pt x="448" y="520"/>
                  <a:pt x="576" y="480"/>
                </a:cubicBezTo>
                <a:cubicBezTo>
                  <a:pt x="704" y="440"/>
                  <a:pt x="880" y="220"/>
                  <a:pt x="10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’un zéro d’une fo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45240" y="1593000"/>
            <a:ext cx="90302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alcule 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il est de signe différent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(a)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ecommence avec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non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ecommence avec        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usqu’à ce que |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-b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| soit plus petit que la précision demand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63760" y="1446840"/>
            <a:ext cx="912960" cy="787320"/>
            <a:chOff x="2363760" y="1446840"/>
            <a:chExt cx="912960" cy="787320"/>
          </a:xfrm>
        </p:grpSpPr>
        <p:sp>
          <p:nvSpPr>
            <p:cNvPr id="122" name=""/>
            <p:cNvSpPr/>
            <p:nvPr/>
          </p:nvSpPr>
          <p:spPr>
            <a:xfrm>
              <a:off x="2514600" y="144684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+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7960" y="183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14600" y="184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3760" y="1447920"/>
              <a:ext cx="912960" cy="785520"/>
            </a:xfrm>
            <a:prstGeom prst="bracketPair">
              <a:avLst>
                <a:gd name="adj" fmla="val 14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59320" y="3451680"/>
            <a:ext cx="609480" cy="788040"/>
            <a:chOff x="4459320" y="3451680"/>
            <a:chExt cx="609480" cy="788040"/>
          </a:xfrm>
        </p:grpSpPr>
        <p:sp>
          <p:nvSpPr>
            <p:cNvPr id="127" name=""/>
            <p:cNvSpPr/>
            <p:nvPr/>
          </p:nvSpPr>
          <p:spPr>
            <a:xfrm>
              <a:off x="4459320" y="345168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+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12680" y="384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59320" y="3849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221440" y="2665800"/>
            <a:ext cx="609480" cy="788040"/>
            <a:chOff x="5221440" y="2665800"/>
            <a:chExt cx="609480" cy="788040"/>
          </a:xfrm>
        </p:grpSpPr>
        <p:sp>
          <p:nvSpPr>
            <p:cNvPr id="131" name=""/>
            <p:cNvSpPr/>
            <p:nvPr/>
          </p:nvSpPr>
          <p:spPr>
            <a:xfrm>
              <a:off x="5221440" y="26658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a+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74800" y="3054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21440" y="306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47760" y="552996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chaque fois, la distance entr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divisée pa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étho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1276560"/>
            <a:ext cx="9144000" cy="546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onn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 : nombre approch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 : nombre approch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 : nombre appro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 : nombre appro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 pour trouver un zéro d ’une fonction par dichotomi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ant qu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| a-b | &lt; e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ai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f( a ) et f ( (a+b)/2 ) sont de signes différ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 a +  b ) / 2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n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 a + b ) / 2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 a + b 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301400"/>
            <a:ext cx="9220320" cy="5265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x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ichotomieRacine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a + e &lt; b )  {  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//  e &lt; | a-b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 = ( a + b ) / 2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f( a ) * f( c ) &lt; 0 )   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// f(a) et f(c) sont de signes !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// f(c) et f(b) sont de signes !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a + b ) /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Fonction en Jav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2-16T16:37:15Z</cp:lastPrinted>
  <dcterms:modified xsi:type="dcterms:W3CDTF">2001-12-16T16:37:46Z</dcterms:modified>
  <cp:revision>168</cp:revision>
  <dc:subject/>
  <dc:title>Aucun titre de diapositive</dc:title>
</cp:coreProperties>
</file>