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9067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9067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3800" y="5803920"/>
            <a:ext cx="21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13-</a:t>
            </a:r>
            <a:fld id="{E25D9FA8-0539-4D8A-80A3-634F3AD31F80}" type="slidenum">
              <a:rPr b="0" lang="fr-FR" sz="24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073160" y="838080"/>
            <a:ext cx="77565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8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UEF 1 : Informatique &amp; Programm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88000" y="3352680"/>
            <a:ext cx="40417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4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aculté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ciences de N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UG  2001-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5154840"/>
            <a:ext cx="305100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Jérôme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DURAND-L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Jean-Paul RO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91320" y="5410080"/>
            <a:ext cx="3038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COURS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507480" y="10659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n recherche 3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844640" y="1751400"/>
            <a:ext cx="7235280" cy="4312800"/>
            <a:chOff x="1844640" y="1751400"/>
            <a:chExt cx="7235280" cy="4312800"/>
          </a:xfrm>
        </p:grpSpPr>
        <p:grpSp>
          <p:nvGrpSpPr>
            <p:cNvPr id="204" name=""/>
            <p:cNvGrpSpPr/>
            <p:nvPr/>
          </p:nvGrpSpPr>
          <p:grpSpPr>
            <a:xfrm>
              <a:off x="1844640" y="1751400"/>
              <a:ext cx="7149600" cy="988200"/>
              <a:chOff x="1844640" y="1751400"/>
              <a:chExt cx="7149600" cy="98820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5243040" y="1751400"/>
                <a:ext cx="749520" cy="514800"/>
                <a:chOff x="5243040" y="1751400"/>
                <a:chExt cx="749520" cy="5148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5243040" y="1930320"/>
                  <a:ext cx="0" cy="33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72000" bIns="72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243040" y="1751400"/>
                  <a:ext cx="749520" cy="44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72000" bIns="72000" anchor="ctr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Times New Roman"/>
                    </a:rPr>
                    <a:t>i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1844640" y="2266560"/>
                <a:ext cx="398880" cy="473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242440" y="2266560"/>
                <a:ext cx="397440" cy="473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638800" y="2266560"/>
                <a:ext cx="398520" cy="473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036600" y="2266560"/>
                <a:ext cx="397440" cy="473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434040" y="2266560"/>
                <a:ext cx="397440" cy="473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830400" y="2266560"/>
                <a:ext cx="398880" cy="473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228200" y="2266560"/>
                <a:ext cx="397800" cy="473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1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624560" y="2266560"/>
                <a:ext cx="398880" cy="473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022360" y="2266560"/>
                <a:ext cx="398880" cy="473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2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420160" y="2266560"/>
                <a:ext cx="397440" cy="473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2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816520" y="2266560"/>
                <a:ext cx="398520" cy="473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3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214320" y="2266560"/>
                <a:ext cx="398880" cy="473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612120" y="2266560"/>
                <a:ext cx="397440" cy="473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4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008480" y="2266560"/>
                <a:ext cx="398880" cy="473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405920" y="2266560"/>
                <a:ext cx="397800" cy="473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4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802280" y="2266560"/>
                <a:ext cx="398880" cy="473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5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200080" y="2266560"/>
                <a:ext cx="398880" cy="473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5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596440" y="2266560"/>
                <a:ext cx="397800" cy="473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6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1844640" y="3453480"/>
              <a:ext cx="7149600" cy="987840"/>
              <a:chOff x="1844640" y="3453480"/>
              <a:chExt cx="7149600" cy="987840"/>
            </a:xfrm>
          </p:grpSpPr>
          <p:sp>
            <p:nvSpPr>
              <p:cNvPr id="227" name=""/>
              <p:cNvSpPr/>
              <p:nvPr/>
            </p:nvSpPr>
            <p:spPr>
              <a:xfrm>
                <a:off x="1844640" y="3968280"/>
                <a:ext cx="398880" cy="473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242080" y="3968280"/>
                <a:ext cx="397440" cy="473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638440" y="3968280"/>
                <a:ext cx="398880" cy="473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036240" y="3968280"/>
                <a:ext cx="397440" cy="473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434040" y="3968280"/>
                <a:ext cx="397800" cy="473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830400" y="3968280"/>
                <a:ext cx="398880" cy="473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228200" y="3968280"/>
                <a:ext cx="397440" cy="473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1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624560" y="3968280"/>
                <a:ext cx="398880" cy="473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022360" y="3968280"/>
                <a:ext cx="398880" cy="473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2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420160" y="3968280"/>
                <a:ext cx="397440" cy="473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2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16520" y="3968280"/>
                <a:ext cx="398880" cy="473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3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214320" y="3968280"/>
                <a:ext cx="398880" cy="473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611760" y="3968280"/>
                <a:ext cx="397800" cy="473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4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008120" y="3968280"/>
                <a:ext cx="398880" cy="473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406280" y="3968280"/>
                <a:ext cx="397440" cy="473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4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802280" y="3968280"/>
                <a:ext cx="398880" cy="473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5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200440" y="3968280"/>
                <a:ext cx="398880" cy="473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5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6800" y="3968280"/>
                <a:ext cx="397440" cy="473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6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7262280" y="3453480"/>
                <a:ext cx="749520" cy="514440"/>
                <a:chOff x="7262280" y="3453480"/>
                <a:chExt cx="749520" cy="5144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7262280" y="3632040"/>
                  <a:ext cx="0" cy="33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72000" bIns="72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262280" y="3453480"/>
                  <a:ext cx="749520" cy="44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72000" bIns="72000" anchor="ctr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Times New Roman"/>
                    </a:rPr>
                    <a:t>i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8" name=""/>
            <p:cNvGrpSpPr/>
            <p:nvPr/>
          </p:nvGrpSpPr>
          <p:grpSpPr>
            <a:xfrm>
              <a:off x="1860480" y="5028120"/>
              <a:ext cx="7149960" cy="1036080"/>
              <a:chOff x="1860480" y="5028120"/>
              <a:chExt cx="7149960" cy="1036080"/>
            </a:xfrm>
          </p:grpSpPr>
          <p:sp>
            <p:nvSpPr>
              <p:cNvPr id="249" name=""/>
              <p:cNvSpPr/>
              <p:nvPr/>
            </p:nvSpPr>
            <p:spPr>
              <a:xfrm>
                <a:off x="1860480" y="5591160"/>
                <a:ext cx="398880" cy="473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257920" y="5591160"/>
                <a:ext cx="397440" cy="473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654280" y="5591160"/>
                <a:ext cx="398880" cy="473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052080" y="5591160"/>
                <a:ext cx="397440" cy="473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449880" y="5591160"/>
                <a:ext cx="397800" cy="473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846240" y="5591160"/>
                <a:ext cx="398880" cy="473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244400" y="5591160"/>
                <a:ext cx="397440" cy="473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1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640400" y="5591160"/>
                <a:ext cx="398880" cy="473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038560" y="5591160"/>
                <a:ext cx="398880" cy="473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2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436000" y="5591160"/>
                <a:ext cx="397440" cy="473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2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832720" y="5591160"/>
                <a:ext cx="398880" cy="473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3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230160" y="5591160"/>
                <a:ext cx="398880" cy="473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627960" y="5591160"/>
                <a:ext cx="397800" cy="473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4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024320" y="5591160"/>
                <a:ext cx="398880" cy="473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422480" y="5591160"/>
                <a:ext cx="397440" cy="473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4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818480" y="5591160"/>
                <a:ext cx="398880" cy="473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5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216640" y="5591160"/>
                <a:ext cx="398880" cy="473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5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613000" y="5591160"/>
                <a:ext cx="397440" cy="473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6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7" name=""/>
              <p:cNvGrpSpPr/>
              <p:nvPr/>
            </p:nvGrpSpPr>
            <p:grpSpPr>
              <a:xfrm>
                <a:off x="6011280" y="5028120"/>
                <a:ext cx="749880" cy="514800"/>
                <a:chOff x="6011280" y="5028120"/>
                <a:chExt cx="749880" cy="51480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011280" y="5207040"/>
                  <a:ext cx="0" cy="33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72000" bIns="72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011280" y="5028120"/>
                  <a:ext cx="749880" cy="44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72000" bIns="72000" anchor="ctr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Times New Roman"/>
                    </a:rPr>
                    <a:t>i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0" name=""/>
            <p:cNvSpPr/>
            <p:nvPr/>
          </p:nvSpPr>
          <p:spPr>
            <a:xfrm>
              <a:off x="1887120" y="1869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643240" y="186912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527080" y="35708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46160" y="52059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560440" y="35708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601680" y="51458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312480" y="1437120"/>
            <a:ext cx="2791440" cy="4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rechDic(  , 33, 0, 17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92200" y="1752480"/>
            <a:ext cx="336600" cy="762120"/>
          </a:xfrm>
          <a:custGeom>
            <a:avLst/>
            <a:gdLst/>
            <a:ahLst/>
            <a:rect l="l" t="t" r="r" b="b"/>
            <a:pathLst>
              <a:path w="212" h="480">
                <a:moveTo>
                  <a:pt x="20" y="0"/>
                </a:moveTo>
                <a:cubicBezTo>
                  <a:pt x="22" y="55"/>
                  <a:pt x="0" y="253"/>
                  <a:pt x="32" y="333"/>
                </a:cubicBezTo>
                <a:cubicBezTo>
                  <a:pt x="64" y="413"/>
                  <a:pt x="174" y="450"/>
                  <a:pt x="212" y="48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lgDashDot"/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2480" y="3127680"/>
            <a:ext cx="2791440" cy="4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rechDic(  , 33, 9, 17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471680" y="3454560"/>
            <a:ext cx="414360" cy="750600"/>
          </a:xfrm>
          <a:custGeom>
            <a:avLst/>
            <a:gdLst/>
            <a:ahLst/>
            <a:rect l="l" t="t" r="r" b="b"/>
            <a:pathLst>
              <a:path w="212" h="480">
                <a:moveTo>
                  <a:pt x="20" y="0"/>
                </a:moveTo>
                <a:cubicBezTo>
                  <a:pt x="22" y="55"/>
                  <a:pt x="0" y="253"/>
                  <a:pt x="32" y="333"/>
                </a:cubicBezTo>
                <a:cubicBezTo>
                  <a:pt x="64" y="413"/>
                  <a:pt x="174" y="450"/>
                  <a:pt x="212" y="48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lgDashDot"/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480" y="4829760"/>
            <a:ext cx="2791440" cy="4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rechDic(  , 33, 9, 1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3880" y="5146560"/>
            <a:ext cx="336600" cy="762120"/>
          </a:xfrm>
          <a:custGeom>
            <a:avLst/>
            <a:gdLst/>
            <a:ahLst/>
            <a:rect l="l" t="t" r="r" b="b"/>
            <a:pathLst>
              <a:path w="212" h="480">
                <a:moveTo>
                  <a:pt x="20" y="0"/>
                </a:moveTo>
                <a:cubicBezTo>
                  <a:pt x="22" y="55"/>
                  <a:pt x="0" y="253"/>
                  <a:pt x="32" y="333"/>
                </a:cubicBezTo>
                <a:cubicBezTo>
                  <a:pt x="64" y="413"/>
                  <a:pt x="174" y="450"/>
                  <a:pt x="212" y="48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lgDashDot"/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38080" y="1930320"/>
            <a:ext cx="0" cy="11937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38080" y="3632040"/>
            <a:ext cx="0" cy="1194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8080" y="5262480"/>
            <a:ext cx="0" cy="11937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47280" y="6217560"/>
            <a:ext cx="5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990720" y="5262480"/>
            <a:ext cx="394560" cy="1193760"/>
            <a:chOff x="990720" y="5262480"/>
            <a:chExt cx="394560" cy="1193760"/>
          </a:xfrm>
        </p:grpSpPr>
        <p:sp>
          <p:nvSpPr>
            <p:cNvPr id="287" name=""/>
            <p:cNvSpPr/>
            <p:nvPr/>
          </p:nvSpPr>
          <p:spPr>
            <a:xfrm flipV="1">
              <a:off x="990720" y="5262480"/>
              <a:ext cx="0" cy="1193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91080" y="566640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990720" y="3571560"/>
            <a:ext cx="394560" cy="1253880"/>
            <a:chOff x="990720" y="3571560"/>
            <a:chExt cx="394560" cy="1253880"/>
          </a:xfrm>
        </p:grpSpPr>
        <p:sp>
          <p:nvSpPr>
            <p:cNvPr id="290" name=""/>
            <p:cNvSpPr/>
            <p:nvPr/>
          </p:nvSpPr>
          <p:spPr>
            <a:xfrm flipV="1">
              <a:off x="990720" y="3571560"/>
              <a:ext cx="0" cy="1253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991080" y="400644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990720" y="1870200"/>
            <a:ext cx="394560" cy="1253520"/>
            <a:chOff x="990720" y="1870200"/>
            <a:chExt cx="394560" cy="1253520"/>
          </a:xfrm>
        </p:grpSpPr>
        <p:sp>
          <p:nvSpPr>
            <p:cNvPr id="293" name=""/>
            <p:cNvSpPr/>
            <p:nvPr/>
          </p:nvSpPr>
          <p:spPr>
            <a:xfrm flipV="1">
              <a:off x="990720" y="1870200"/>
              <a:ext cx="0" cy="1253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91080" y="230400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Retour sur la dichotomi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405480" y="433800"/>
            <a:ext cx="3349080" cy="1315800"/>
          </a:xfrm>
          <a:prstGeom prst="cloudCallout">
            <a:avLst>
              <a:gd name="adj1" fmla="val -43875"/>
              <a:gd name="adj2" fmla="val 702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À chaque foi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ême tableau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39840" y="989640"/>
            <a:ext cx="9337680" cy="5580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Donné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 : tableau de nombres approchés trié en ordre croissant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v : nombre approché à cher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ébut : indice de début de la zone de recher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in : indice de fin de la zone de recher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Variable</a:t>
            </a:r>
            <a:br>
              <a:rPr sz="2000"/>
            </a:b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ilieu : ind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Valeur renvoyé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ésultat : indice position de v ou Non Trouv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algorithme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récursif pour la recherche dichotomiqu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si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fin est avant début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alors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ésultat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Non Trouvé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sinon fair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ilieu  ( début + fin 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si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( t[ milieu ] == v ) 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alor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ésultat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milie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sinon si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( t[ milieu ] &lt; v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ésultat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rechercher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pour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t, v, milieu + 1 et fin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sinon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résultat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rechercher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pour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t, v, début et milieu -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fin faire sin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58000" y="2204280"/>
            <a:ext cx="2819520" cy="1836000"/>
          </a:xfrm>
          <a:prstGeom prst="cloudCallout">
            <a:avLst>
              <a:gd name="adj1" fmla="val -60976"/>
              <a:gd name="adj2" fmla="val -477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l faut donner les bor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Recherche dichotomique récursiv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469080" y="459000"/>
            <a:ext cx="9205920" cy="612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tatic final i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NON_TROUVE = -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/**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Recherche dichotomique d'une valeur dans un tableau trié en ordre croiss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 @param t tableau trié où l'on cherche la val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@param v valeur à cher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 @param d indice de début de la zone de recherche (incl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 @param f indice de fin de la zone de recherche (incl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 @return indice où se trouve v, NON_TROUVE s'il ne s'y trouve 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*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tatic i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rechercherDichotomique(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[] t,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v,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,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f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 f &lt; d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NON_TROUV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milieu = ( d + f 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 t[ milieu ] == v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milie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 t[ milieu ] &lt; v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rechercherDichotomique( t, v, milieu + 1, f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rechercherDichotomique( t, v, d, milieu - 1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5000"/>
                <a:tab algn="l" pos="1528920"/>
                <a:tab algn="l" pos="2281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95880" y="3962520"/>
            <a:ext cx="2743200" cy="1447560"/>
          </a:xfrm>
          <a:prstGeom prst="cloudCallout">
            <a:avLst>
              <a:gd name="adj1" fmla="val -87791"/>
              <a:gd name="adj2" fmla="val -39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Rappel :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et fi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à la méth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57800" y="4572000"/>
            <a:ext cx="6094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19720" y="4699080"/>
            <a:ext cx="457200" cy="10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86200" y="4699080"/>
            <a:ext cx="152280" cy="10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38480" y="5308560"/>
            <a:ext cx="152640" cy="10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10080" y="5029200"/>
            <a:ext cx="6098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48320" y="5232240"/>
            <a:ext cx="457200" cy="101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83640" y="1516320"/>
            <a:ext cx="77734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Quand la tortue doit avancer d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st plus petit que 2, elle y va en ligne dro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inon elle doit faire 4 segments de longueur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/3 (avec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a même règle) disposé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4495680" y="5257440"/>
            <a:ext cx="2133720" cy="609840"/>
            <a:chOff x="4495680" y="5257440"/>
            <a:chExt cx="2133720" cy="609840"/>
          </a:xfrm>
        </p:grpSpPr>
        <p:sp>
          <p:nvSpPr>
            <p:cNvPr id="310" name=""/>
            <p:cNvSpPr/>
            <p:nvPr/>
          </p:nvSpPr>
          <p:spPr>
            <a:xfrm>
              <a:off x="4495680" y="5867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5181480" y="5257440"/>
              <a:ext cx="457200" cy="609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638680" y="5257800"/>
              <a:ext cx="380880" cy="609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19560" y="58672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4495680" y="4572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14400" y="5257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14800" y="4191120"/>
            <a:ext cx="304920" cy="2133360"/>
          </a:xfrm>
          <a:custGeom>
            <a:avLst/>
            <a:gdLst>
              <a:gd name="textAreaLeft" fmla="*/ 194760 w 304920"/>
              <a:gd name="textAreaRight" fmla="*/ 305280 w 30492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29000" y="5257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5638680"/>
            <a:ext cx="213372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1320" y="52567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183080" y="4342320"/>
            <a:ext cx="9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l &lt;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154640" y="546948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in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14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602400" y="4572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629400" y="5867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495680" y="5867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19920" y="5867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181480" y="5470560"/>
            <a:ext cx="304920" cy="3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638680" y="5257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Dessin de courbe fractal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950400" y="1295280"/>
            <a:ext cx="6859080" cy="484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tatic void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essine ( Turtle t,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ongueur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 longueur &lt; 2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.forward( longueur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sine( t, longueur / 3);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.left( 60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sine( t, longueur / 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.right( 120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sine( t, longueur / 3);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.left( 60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sine( t, longueur / 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9480" y="1295280"/>
            <a:ext cx="0" cy="432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480" y="1299600"/>
            <a:ext cx="0" cy="77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9480" y="5623920"/>
            <a:ext cx="0" cy="77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7888320" y="1295280"/>
            <a:ext cx="1828440" cy="5104440"/>
            <a:chOff x="7888320" y="1295280"/>
            <a:chExt cx="1828440" cy="5104440"/>
          </a:xfrm>
        </p:grpSpPr>
        <p:grpSp>
          <p:nvGrpSpPr>
            <p:cNvPr id="335" name=""/>
            <p:cNvGrpSpPr/>
            <p:nvPr/>
          </p:nvGrpSpPr>
          <p:grpSpPr>
            <a:xfrm>
              <a:off x="8224920" y="1299240"/>
              <a:ext cx="1010520" cy="5100480"/>
              <a:chOff x="8224920" y="1299240"/>
              <a:chExt cx="1010520" cy="5100480"/>
            </a:xfrm>
          </p:grpSpPr>
          <p:grpSp>
            <p:nvGrpSpPr>
              <p:cNvPr id="336" name=""/>
              <p:cNvGrpSpPr/>
              <p:nvPr/>
            </p:nvGrpSpPr>
            <p:grpSpPr>
              <a:xfrm>
                <a:off x="8225280" y="1299240"/>
                <a:ext cx="1010160" cy="4327200"/>
                <a:chOff x="8225280" y="1299240"/>
                <a:chExt cx="1010160" cy="432720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8225280" y="1299240"/>
                  <a:ext cx="0" cy="139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8225640" y="2689920"/>
                  <a:ext cx="1009800" cy="927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H="1">
                  <a:off x="8225280" y="3617280"/>
                  <a:ext cx="1009800" cy="77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8225280" y="4389840"/>
                  <a:ext cx="0" cy="1236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1" name=""/>
              <p:cNvSpPr/>
              <p:nvPr/>
            </p:nvSpPr>
            <p:spPr>
              <a:xfrm>
                <a:off x="8224920" y="5627160"/>
                <a:ext cx="0" cy="77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224920" y="1299240"/>
                <a:ext cx="0" cy="46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224920" y="4390920"/>
                <a:ext cx="0" cy="46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225280" y="2690280"/>
                <a:ext cx="657360" cy="61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8604000" y="3617640"/>
                <a:ext cx="631080" cy="46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7888320" y="1295280"/>
              <a:ext cx="711720" cy="139140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888320" y="2686680"/>
              <a:ext cx="1636200" cy="92772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080920" y="3614760"/>
              <a:ext cx="1635840" cy="92772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888320" y="4387320"/>
              <a:ext cx="711720" cy="124056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6019920" y="2285640"/>
            <a:ext cx="2059920" cy="2972160"/>
            <a:chOff x="6019920" y="2285640"/>
            <a:chExt cx="2059920" cy="2972160"/>
          </a:xfrm>
        </p:grpSpPr>
        <p:sp>
          <p:nvSpPr>
            <p:cNvPr id="351" name=""/>
            <p:cNvSpPr/>
            <p:nvPr/>
          </p:nvSpPr>
          <p:spPr>
            <a:xfrm flipV="1">
              <a:off x="6019920" y="2285640"/>
              <a:ext cx="1819080" cy="685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6019920" y="3308040"/>
              <a:ext cx="1819080" cy="307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6019920" y="4081320"/>
              <a:ext cx="2059920" cy="3081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019920" y="5181480"/>
              <a:ext cx="1819080" cy="76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Programm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527040" y="1675440"/>
            <a:ext cx="43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Ils ne sont pas à la même échel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flocon2" descr=""/>
          <p:cNvPicPr/>
          <p:nvPr/>
        </p:nvPicPr>
        <p:blipFill>
          <a:blip r:embed="rId1"/>
          <a:stretch/>
        </p:blipFill>
        <p:spPr>
          <a:xfrm>
            <a:off x="600120" y="4675320"/>
            <a:ext cx="4505400" cy="1496880"/>
          </a:xfrm>
          <a:prstGeom prst="rect">
            <a:avLst/>
          </a:prstGeom>
          <a:ln w="0">
            <a:noFill/>
          </a:ln>
        </p:spPr>
      </p:pic>
      <p:pic>
        <p:nvPicPr>
          <p:cNvPr id="358" name="flocon3" descr=""/>
          <p:cNvPicPr/>
          <p:nvPr/>
        </p:nvPicPr>
        <p:blipFill>
          <a:blip r:embed="rId2"/>
          <a:stretch/>
        </p:blipFill>
        <p:spPr>
          <a:xfrm>
            <a:off x="2962440" y="2849400"/>
            <a:ext cx="4505040" cy="1417680"/>
          </a:xfrm>
          <a:prstGeom prst="rect">
            <a:avLst/>
          </a:prstGeom>
          <a:ln w="0">
            <a:noFill/>
          </a:ln>
        </p:spPr>
      </p:pic>
      <p:pic>
        <p:nvPicPr>
          <p:cNvPr id="359" name="flocon" descr=""/>
          <p:cNvPicPr/>
          <p:nvPr/>
        </p:nvPicPr>
        <p:blipFill>
          <a:blip r:embed="rId3"/>
          <a:stretch/>
        </p:blipFill>
        <p:spPr>
          <a:xfrm>
            <a:off x="5170320" y="990720"/>
            <a:ext cx="4516560" cy="14284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Exemples de tracé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58640" y="1347480"/>
            <a:ext cx="89010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eaucoup de choses sont récursives par natur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poupée russe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suites définies par récurrenc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structures de données et les algorithmes correspondants (2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semest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méthode peut appeler d’autre méthodes à sa guise,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lle peut s’appeler elle-même e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lle peut appeler des méthodes qui l’app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l n’y a aucune restriction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rtains problèmes sont intrinsèquement récursifs et se trait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implement voir uniquement de cette faç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’autres pas du t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Récursivité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47160" y="1129320"/>
            <a:ext cx="8175600" cy="26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Times New Roman"/>
              </a:rPr>
              <a:t>Décomposition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Times New Roman"/>
              </a:rPr>
              <a:t>en sous-problèm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4239000"/>
            <a:ext cx="47116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ésentation et illustra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buClr>
                <a:srgbClr val="5f5f5f"/>
              </a:buClr>
              <a:buSzPct val="90000"/>
              <a:buFont typeface="Monotype Sorts" charset="2"/>
              <a:buChar char=""/>
              <a:tabLst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actori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buClr>
                <a:srgbClr val="5f5f5f"/>
              </a:buClr>
              <a:buSzPct val="90000"/>
              <a:buFont typeface="Monotype Sorts" charset="2"/>
              <a:buChar char=""/>
              <a:tabLst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ichotom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buClr>
                <a:srgbClr val="5f5f5f"/>
              </a:buClr>
              <a:buSzPct val="90000"/>
              <a:buFont typeface="Monotype Sorts" charset="2"/>
              <a:buChar char=""/>
              <a:tabLst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essin récurs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1017000" y="2213640"/>
            <a:ext cx="7306200" cy="3579120"/>
            <a:chOff x="1017000" y="2213640"/>
            <a:chExt cx="7306200" cy="3579120"/>
          </a:xfrm>
        </p:grpSpPr>
        <p:sp>
          <p:nvSpPr>
            <p:cNvPr id="84" name=""/>
            <p:cNvSpPr/>
            <p:nvPr/>
          </p:nvSpPr>
          <p:spPr>
            <a:xfrm>
              <a:off x="3914640" y="2213640"/>
              <a:ext cx="154332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Problè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52480" y="3316680"/>
              <a:ext cx="2257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Sous-problème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017000" y="3316680"/>
              <a:ext cx="2257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Sous-problème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065280" y="3316680"/>
              <a:ext cx="2257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Sous-problème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4" idx="2"/>
              <a:endCxn id="86" idx="0"/>
            </p:cNvCxnSpPr>
            <p:nvPr/>
          </p:nvCxnSpPr>
          <p:spPr>
            <a:xfrm flipH="1">
              <a:off x="2145960" y="2738520"/>
              <a:ext cx="2540880" cy="57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5" idx="0"/>
            </p:cNvCxnSpPr>
            <p:nvPr/>
          </p:nvCxnSpPr>
          <p:spPr>
            <a:xfrm flipH="1">
              <a:off x="4681080" y="2738520"/>
              <a:ext cx="5760" cy="57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4" idx="2"/>
              <a:endCxn id="87" idx="0"/>
            </p:cNvCxnSpPr>
            <p:nvPr/>
          </p:nvCxnSpPr>
          <p:spPr>
            <a:xfrm>
              <a:off x="4686120" y="2738520"/>
              <a:ext cx="2508840" cy="57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91" name=""/>
            <p:cNvGrpSpPr/>
            <p:nvPr/>
          </p:nvGrpSpPr>
          <p:grpSpPr>
            <a:xfrm>
              <a:off x="1285200" y="3780000"/>
              <a:ext cx="1699920" cy="799920"/>
              <a:chOff x="1285200" y="3780000"/>
              <a:chExt cx="1699920" cy="799920"/>
            </a:xfrm>
          </p:grpSpPr>
          <p:cxnSp>
            <p:nvCxnSpPr>
              <p:cNvPr id="92" name=""/>
              <p:cNvCxnSpPr>
                <a:stCxn id="86" idx="2"/>
                <a:endCxn id="93" idx="0"/>
              </p:cNvCxnSpPr>
              <p:nvPr/>
            </p:nvCxnSpPr>
            <p:spPr>
              <a:xfrm flipH="1">
                <a:off x="2110680" y="3780000"/>
                <a:ext cx="35640" cy="536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4" name=""/>
              <p:cNvCxnSpPr>
                <a:stCxn id="86" idx="2"/>
                <a:endCxn id="95" idx="0"/>
              </p:cNvCxnSpPr>
              <p:nvPr/>
            </p:nvCxnSpPr>
            <p:spPr>
              <a:xfrm flipH="1">
                <a:off x="1507320" y="3780000"/>
                <a:ext cx="639000" cy="536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6" name=""/>
              <p:cNvCxnSpPr>
                <a:stCxn id="86" idx="2"/>
                <a:endCxn id="97" idx="0"/>
              </p:cNvCxnSpPr>
              <p:nvPr/>
            </p:nvCxnSpPr>
            <p:spPr>
              <a:xfrm>
                <a:off x="2145960" y="3780000"/>
                <a:ext cx="616680" cy="536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5" name=""/>
              <p:cNvSpPr/>
              <p:nvPr/>
            </p:nvSpPr>
            <p:spPr>
              <a:xfrm>
                <a:off x="1285200" y="4315320"/>
                <a:ext cx="446040" cy="264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4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539080" y="4315320"/>
                <a:ext cx="446040" cy="264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4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888200" y="4315320"/>
                <a:ext cx="446040" cy="264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4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6349320" y="3780000"/>
              <a:ext cx="1699920" cy="799920"/>
              <a:chOff x="6349320" y="3780000"/>
              <a:chExt cx="1699920" cy="799920"/>
            </a:xfrm>
          </p:grpSpPr>
          <p:cxnSp>
            <p:nvCxnSpPr>
              <p:cNvPr id="99" name=""/>
              <p:cNvCxnSpPr>
                <a:endCxn id="100" idx="0"/>
              </p:cNvCxnSpPr>
              <p:nvPr/>
            </p:nvCxnSpPr>
            <p:spPr>
              <a:xfrm flipH="1">
                <a:off x="7174800" y="3780000"/>
                <a:ext cx="35640" cy="536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01" name=""/>
              <p:cNvCxnSpPr>
                <a:endCxn id="102" idx="0"/>
              </p:cNvCxnSpPr>
              <p:nvPr/>
            </p:nvCxnSpPr>
            <p:spPr>
              <a:xfrm flipH="1">
                <a:off x="6571440" y="3780000"/>
                <a:ext cx="639000" cy="536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03" name=""/>
              <p:cNvCxnSpPr>
                <a:endCxn id="104" idx="0"/>
              </p:cNvCxnSpPr>
              <p:nvPr/>
            </p:nvCxnSpPr>
            <p:spPr>
              <a:xfrm>
                <a:off x="7210080" y="3780000"/>
                <a:ext cx="616680" cy="536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02" name=""/>
              <p:cNvSpPr/>
              <p:nvPr/>
            </p:nvSpPr>
            <p:spPr>
              <a:xfrm>
                <a:off x="6349320" y="4315320"/>
                <a:ext cx="446040" cy="264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4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03200" y="4315320"/>
                <a:ext cx="446040" cy="264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4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952320" y="4315320"/>
                <a:ext cx="446040" cy="264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4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3761640" y="3780000"/>
              <a:ext cx="1699920" cy="799920"/>
              <a:chOff x="3761640" y="3780000"/>
              <a:chExt cx="1699920" cy="799920"/>
            </a:xfrm>
          </p:grpSpPr>
          <p:cxnSp>
            <p:nvCxnSpPr>
              <p:cNvPr id="106" name=""/>
              <p:cNvCxnSpPr>
                <a:endCxn id="107" idx="0"/>
              </p:cNvCxnSpPr>
              <p:nvPr/>
            </p:nvCxnSpPr>
            <p:spPr>
              <a:xfrm flipH="1">
                <a:off x="4587120" y="3780000"/>
                <a:ext cx="35640" cy="536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08" name=""/>
              <p:cNvCxnSpPr>
                <a:endCxn id="109" idx="0"/>
              </p:cNvCxnSpPr>
              <p:nvPr/>
            </p:nvCxnSpPr>
            <p:spPr>
              <a:xfrm flipH="1">
                <a:off x="3983760" y="3780000"/>
                <a:ext cx="639000" cy="536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10" name=""/>
              <p:cNvCxnSpPr>
                <a:endCxn id="111" idx="0"/>
              </p:cNvCxnSpPr>
              <p:nvPr/>
            </p:nvCxnSpPr>
            <p:spPr>
              <a:xfrm>
                <a:off x="4622400" y="3780000"/>
                <a:ext cx="616680" cy="536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09" name=""/>
              <p:cNvSpPr/>
              <p:nvPr/>
            </p:nvSpPr>
            <p:spPr>
              <a:xfrm>
                <a:off x="3761640" y="4315320"/>
                <a:ext cx="446040" cy="264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4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015520" y="4315320"/>
                <a:ext cx="446040" cy="264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4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64640" y="4315320"/>
                <a:ext cx="446040" cy="264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4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1209960" y="5333040"/>
              <a:ext cx="701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a   c   t   i   o   n   s       é   l   é   m   e   n   t   a   i   r   e   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3" name=""/>
            <p:cNvCxnSpPr>
              <a:stCxn id="107" idx="2"/>
            </p:cNvCxnSpPr>
            <p:nvPr/>
          </p:nvCxnSpPr>
          <p:spPr>
            <a:xfrm>
              <a:off x="4587480" y="4584600"/>
              <a:ext cx="1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/>
            <p:nvPr/>
          </p:nvCxnSpPr>
          <p:spPr>
            <a:xfrm>
              <a:off x="5238360" y="4579920"/>
              <a:ext cx="1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5" name=""/>
            <p:cNvCxnSpPr/>
            <p:nvPr/>
          </p:nvCxnSpPr>
          <p:spPr>
            <a:xfrm>
              <a:off x="6571800" y="4579920"/>
              <a:ext cx="1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6" name=""/>
            <p:cNvCxnSpPr/>
            <p:nvPr/>
          </p:nvCxnSpPr>
          <p:spPr>
            <a:xfrm>
              <a:off x="7210080" y="4579920"/>
              <a:ext cx="1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7" name=""/>
            <p:cNvCxnSpPr/>
            <p:nvPr/>
          </p:nvCxnSpPr>
          <p:spPr>
            <a:xfrm>
              <a:off x="7826040" y="4579920"/>
              <a:ext cx="1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8" name=""/>
            <p:cNvCxnSpPr/>
            <p:nvPr/>
          </p:nvCxnSpPr>
          <p:spPr>
            <a:xfrm>
              <a:off x="1507680" y="4579920"/>
              <a:ext cx="1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9" name=""/>
            <p:cNvCxnSpPr/>
            <p:nvPr/>
          </p:nvCxnSpPr>
          <p:spPr>
            <a:xfrm>
              <a:off x="2111040" y="4579920"/>
              <a:ext cx="1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0" name=""/>
            <p:cNvCxnSpPr/>
            <p:nvPr/>
          </p:nvCxnSpPr>
          <p:spPr>
            <a:xfrm>
              <a:off x="2761920" y="4579920"/>
              <a:ext cx="1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1" name=""/>
            <p:cNvCxnSpPr/>
            <p:nvPr/>
          </p:nvCxnSpPr>
          <p:spPr>
            <a:xfrm>
              <a:off x="3984120" y="4579920"/>
              <a:ext cx="1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2" name=""/>
            <p:cNvCxnSpPr/>
            <p:nvPr/>
          </p:nvCxnSpPr>
          <p:spPr>
            <a:xfrm>
              <a:off x="2111400" y="4579920"/>
              <a:ext cx="226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3" name=""/>
            <p:cNvCxnSpPr/>
            <p:nvPr/>
          </p:nvCxnSpPr>
          <p:spPr>
            <a:xfrm>
              <a:off x="2762280" y="4579920"/>
              <a:ext cx="226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4" name=""/>
            <p:cNvCxnSpPr/>
            <p:nvPr/>
          </p:nvCxnSpPr>
          <p:spPr>
            <a:xfrm>
              <a:off x="1508040" y="4579920"/>
              <a:ext cx="226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5" name=""/>
            <p:cNvCxnSpPr/>
            <p:nvPr/>
          </p:nvCxnSpPr>
          <p:spPr>
            <a:xfrm>
              <a:off x="3984120" y="4579920"/>
              <a:ext cx="22644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" name=""/>
            <p:cNvCxnSpPr/>
            <p:nvPr/>
          </p:nvCxnSpPr>
          <p:spPr>
            <a:xfrm>
              <a:off x="4587840" y="4579920"/>
              <a:ext cx="226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7" name=""/>
            <p:cNvCxnSpPr/>
            <p:nvPr/>
          </p:nvCxnSpPr>
          <p:spPr>
            <a:xfrm>
              <a:off x="5238720" y="4579920"/>
              <a:ext cx="226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/>
            <p:nvPr/>
          </p:nvCxnSpPr>
          <p:spPr>
            <a:xfrm>
              <a:off x="6572160" y="4579920"/>
              <a:ext cx="226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/>
            <p:nvPr/>
          </p:nvCxnSpPr>
          <p:spPr>
            <a:xfrm>
              <a:off x="7210440" y="4579920"/>
              <a:ext cx="226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/>
            <p:nvPr/>
          </p:nvCxnSpPr>
          <p:spPr>
            <a:xfrm>
              <a:off x="7826400" y="4579920"/>
              <a:ext cx="226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/>
            <p:nvPr/>
          </p:nvCxnSpPr>
          <p:spPr>
            <a:xfrm flipH="1">
              <a:off x="7600680" y="4579920"/>
              <a:ext cx="226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/>
            <p:nvPr/>
          </p:nvCxnSpPr>
          <p:spPr>
            <a:xfrm flipH="1">
              <a:off x="6984720" y="4579920"/>
              <a:ext cx="226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/>
            <p:nvPr/>
          </p:nvCxnSpPr>
          <p:spPr>
            <a:xfrm flipH="1">
              <a:off x="6346440" y="4579920"/>
              <a:ext cx="226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/>
            <p:nvPr/>
          </p:nvCxnSpPr>
          <p:spPr>
            <a:xfrm flipH="1">
              <a:off x="5013000" y="4579920"/>
              <a:ext cx="226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/>
            <p:nvPr/>
          </p:nvCxnSpPr>
          <p:spPr>
            <a:xfrm flipH="1">
              <a:off x="4362120" y="4579920"/>
              <a:ext cx="226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6" name=""/>
            <p:cNvCxnSpPr/>
            <p:nvPr/>
          </p:nvCxnSpPr>
          <p:spPr>
            <a:xfrm flipH="1">
              <a:off x="3758760" y="4579920"/>
              <a:ext cx="226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/>
            <p:nvPr/>
          </p:nvCxnSpPr>
          <p:spPr>
            <a:xfrm flipH="1">
              <a:off x="2536560" y="4579920"/>
              <a:ext cx="226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/>
            <p:nvPr/>
          </p:nvCxnSpPr>
          <p:spPr>
            <a:xfrm flipH="1">
              <a:off x="1885680" y="4579920"/>
              <a:ext cx="226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/>
            <p:nvPr/>
          </p:nvCxnSpPr>
          <p:spPr>
            <a:xfrm flipH="1">
              <a:off x="1282320" y="4579920"/>
              <a:ext cx="22608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40" name=""/>
          <p:cNvSpPr/>
          <p:nvPr/>
        </p:nvSpPr>
        <p:spPr>
          <a:xfrm>
            <a:off x="6028200" y="1438200"/>
            <a:ext cx="3409200" cy="1286280"/>
          </a:xfrm>
          <a:prstGeom prst="flowChartAlternateProcess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tant de modules,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 classes, de méthodes,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’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3720" y="1438200"/>
            <a:ext cx="2311200" cy="1286280"/>
          </a:xfrm>
          <a:prstGeom prst="flowChartAlternateProcess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us-problème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 plus simples,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ément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Décomposition en sous-problèm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13080" y="1532880"/>
            <a:ext cx="46141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Créer un tableau synthét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* accéder aux donnée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* faire les calcul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* imprimer les résult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0480" y="4201560"/>
            <a:ext cx="480924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Échanger les valeurs de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mp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*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1536840"/>
            <a:ext cx="533520" cy="2014560"/>
          </a:xfrm>
          <a:custGeom>
            <a:avLst/>
            <a:gdLst>
              <a:gd name="textAreaLeft" fmla="*/ 0 w 533520"/>
              <a:gd name="textAreaRight" fmla="*/ 192600 w 533520"/>
              <a:gd name="textAreaTop" fmla="*/ 52200 h 2014560"/>
              <a:gd name="textAreaBottom" fmla="*/ 1962360 h 20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15000" y="4191120"/>
            <a:ext cx="533520" cy="1827000"/>
          </a:xfrm>
          <a:custGeom>
            <a:avLst/>
            <a:gdLst>
              <a:gd name="textAreaLeft" fmla="*/ 0 w 533520"/>
              <a:gd name="textAreaRight" fmla="*/ 192600 w 533520"/>
              <a:gd name="textAreaTop" fmla="*/ 47520 h 1827000"/>
              <a:gd name="textAreaBottom" fmla="*/ 1779480 h 182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60720" y="1959480"/>
            <a:ext cx="1821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Niv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Stratég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60160" y="4520160"/>
            <a:ext cx="1425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Niv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Tact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6240" y="1397160"/>
            <a:ext cx="8093160" cy="48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uccessions d’actions indépend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=&gt; autant de modules / classes / méthodes /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ésultat en fonction de valeurs plus si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e.g. : factorielle, dichotom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=&gt; bou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=&gt; rappeler la méth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Voyons cela sur des exe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Comment découper 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3160" y="1900800"/>
            <a:ext cx="7134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.2.3.4.5. ... .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n sait très bien la calculer à l’aide d’une bou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96000" y="3583080"/>
            <a:ext cx="527040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tatic 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factorielleIterative (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n )  {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fac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i = 2; i &lt;= n ; i++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ac = fac *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fa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Factorielle itérativ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92160" y="1139040"/>
            <a:ext cx="73785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52560"/>
                <a:tab algn="l" pos="2190600"/>
                <a:tab algn="l" pos="2666880"/>
                <a:tab algn="r" pos="4572000"/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-1)!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.2.3.4.5. ... . (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- 1)</a:t>
            </a:r>
            <a:br>
              <a:rPr sz="2800"/>
            </a:b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.2.3.4.5. ... . (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- 1) .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52560"/>
                <a:tab algn="l" pos="2190600"/>
                <a:tab algn="l" pos="2666880"/>
                <a:tab algn="r" pos="4572000"/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n retrouve la relation classique     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!=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. (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- 1)!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vec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0! = 1!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73480" y="3250440"/>
            <a:ext cx="6625440" cy="3385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omic Sans MS"/>
              </a:rPr>
              <a:t>Donn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n : entier positif ou nu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omic Sans MS"/>
              </a:rPr>
              <a:t>Valeur renvoy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ésultat : entier</a:t>
            </a: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Comic Sans MS"/>
              </a:rPr>
              <a:t>Algorithm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Comic Sans MS"/>
              </a:rPr>
              <a:t>récursif pour la factori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si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n est inférieur ou égal à 1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a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ésultat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si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ésultat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n fois factorielle ( n-1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Factorielle récursiv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8320" y="1845360"/>
            <a:ext cx="797544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/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Calcule la factorielle de l'entier passé en paramèt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* Antécédent : n entier positif ou nu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*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tatic 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factorielle (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n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 n &lt;= 1 )  //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condition init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n * factorielle ( n-1 );  //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formule de récur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140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Méthode récursiv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 flipH="1">
            <a:off x="2349360" y="1773360"/>
            <a:ext cx="1494000" cy="3045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66720" y="2077920"/>
            <a:ext cx="1676520" cy="1447920"/>
            <a:chOff x="666720" y="2077920"/>
            <a:chExt cx="1676520" cy="1447920"/>
          </a:xfrm>
        </p:grpSpPr>
        <p:sp>
          <p:nvSpPr>
            <p:cNvPr id="162" name=""/>
            <p:cNvSpPr/>
            <p:nvPr/>
          </p:nvSpPr>
          <p:spPr>
            <a:xfrm>
              <a:off x="666720" y="2077920"/>
              <a:ext cx="1676520" cy="1447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factorielle(5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71640" y="2495520"/>
              <a:ext cx="595440" cy="878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3940560" y="1294200"/>
            <a:ext cx="16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ppel 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17520" y="1535040"/>
            <a:ext cx="4009320" cy="19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ous les appels à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actoriell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ont distinct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l y a une valeur de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ur chaque ap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349360" y="2495520"/>
            <a:ext cx="1803240" cy="1811160"/>
            <a:chOff x="2349360" y="2495520"/>
            <a:chExt cx="1803240" cy="1811160"/>
          </a:xfrm>
        </p:grpSpPr>
        <p:sp>
          <p:nvSpPr>
            <p:cNvPr id="167" name=""/>
            <p:cNvSpPr/>
            <p:nvPr/>
          </p:nvSpPr>
          <p:spPr>
            <a:xfrm>
              <a:off x="2349360" y="2495520"/>
              <a:ext cx="907920" cy="3636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2476440" y="2859120"/>
              <a:ext cx="1676160" cy="1447560"/>
              <a:chOff x="2476440" y="2859120"/>
              <a:chExt cx="1676160" cy="1447560"/>
            </a:xfrm>
          </p:grpSpPr>
          <p:sp>
            <p:nvSpPr>
              <p:cNvPr id="169" name=""/>
              <p:cNvSpPr/>
              <p:nvPr/>
            </p:nvSpPr>
            <p:spPr>
              <a:xfrm>
                <a:off x="2476440" y="2859120"/>
                <a:ext cx="1676160" cy="1447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Arial"/>
                  </a:rPr>
                  <a:t>factorielle(4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781000" y="3276360"/>
                <a:ext cx="595080" cy="877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7772400" y="4838760"/>
            <a:ext cx="1809720" cy="1811160"/>
            <a:chOff x="7772400" y="4838760"/>
            <a:chExt cx="1809720" cy="1811160"/>
          </a:xfrm>
        </p:grpSpPr>
        <p:grpSp>
          <p:nvGrpSpPr>
            <p:cNvPr id="172" name=""/>
            <p:cNvGrpSpPr/>
            <p:nvPr/>
          </p:nvGrpSpPr>
          <p:grpSpPr>
            <a:xfrm>
              <a:off x="7905600" y="5202000"/>
              <a:ext cx="1676520" cy="1447920"/>
              <a:chOff x="7905600" y="5202000"/>
              <a:chExt cx="1676520" cy="1447920"/>
            </a:xfrm>
          </p:grpSpPr>
          <p:sp>
            <p:nvSpPr>
              <p:cNvPr id="173" name=""/>
              <p:cNvSpPr/>
              <p:nvPr/>
            </p:nvSpPr>
            <p:spPr>
              <a:xfrm>
                <a:off x="7905600" y="5202000"/>
                <a:ext cx="1676520" cy="1447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Arial"/>
                  </a:rPr>
                  <a:t>factorielle(1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210520" y="5619600"/>
                <a:ext cx="595440" cy="878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7772400" y="4838760"/>
              <a:ext cx="907920" cy="3632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959440" y="4057560"/>
            <a:ext cx="1812960" cy="1811160"/>
            <a:chOff x="5959440" y="4057560"/>
            <a:chExt cx="1812960" cy="1811160"/>
          </a:xfrm>
        </p:grpSpPr>
        <p:grpSp>
          <p:nvGrpSpPr>
            <p:cNvPr id="177" name=""/>
            <p:cNvGrpSpPr/>
            <p:nvPr/>
          </p:nvGrpSpPr>
          <p:grpSpPr>
            <a:xfrm>
              <a:off x="6095880" y="4421160"/>
              <a:ext cx="1676520" cy="1447560"/>
              <a:chOff x="6095880" y="4421160"/>
              <a:chExt cx="1676520" cy="1447560"/>
            </a:xfrm>
          </p:grpSpPr>
          <p:sp>
            <p:nvSpPr>
              <p:cNvPr id="178" name=""/>
              <p:cNvSpPr/>
              <p:nvPr/>
            </p:nvSpPr>
            <p:spPr>
              <a:xfrm>
                <a:off x="6095880" y="4421160"/>
                <a:ext cx="1676520" cy="1447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Arial"/>
                  </a:rPr>
                  <a:t>factorielle(2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400800" y="4838400"/>
                <a:ext cx="595440" cy="877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5959440" y="4057560"/>
              <a:ext cx="907920" cy="3636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152960" y="3276720"/>
            <a:ext cx="1809360" cy="1810800"/>
            <a:chOff x="4152960" y="3276720"/>
            <a:chExt cx="1809360" cy="1810800"/>
          </a:xfrm>
        </p:grpSpPr>
        <p:grpSp>
          <p:nvGrpSpPr>
            <p:cNvPr id="182" name=""/>
            <p:cNvGrpSpPr/>
            <p:nvPr/>
          </p:nvGrpSpPr>
          <p:grpSpPr>
            <a:xfrm>
              <a:off x="4286160" y="3639960"/>
              <a:ext cx="1676160" cy="1447560"/>
              <a:chOff x="4286160" y="3639960"/>
              <a:chExt cx="1676160" cy="1447560"/>
            </a:xfrm>
          </p:grpSpPr>
          <p:sp>
            <p:nvSpPr>
              <p:cNvPr id="183" name=""/>
              <p:cNvSpPr/>
              <p:nvPr/>
            </p:nvSpPr>
            <p:spPr>
              <a:xfrm>
                <a:off x="4286160" y="3639960"/>
                <a:ext cx="1676160" cy="1447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Arial"/>
                  </a:rPr>
                  <a:t>factorielle(3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590720" y="4057200"/>
                <a:ext cx="595080" cy="877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4152960" y="3276720"/>
              <a:ext cx="907920" cy="3632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686640" y="5869080"/>
            <a:ext cx="1247760" cy="602280"/>
            <a:chOff x="6686640" y="5869080"/>
            <a:chExt cx="1247760" cy="602280"/>
          </a:xfrm>
        </p:grpSpPr>
        <p:sp>
          <p:nvSpPr>
            <p:cNvPr id="187" name=""/>
            <p:cNvSpPr/>
            <p:nvPr/>
          </p:nvSpPr>
          <p:spPr>
            <a:xfrm>
              <a:off x="6686640" y="5869080"/>
              <a:ext cx="1247760" cy="512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31240" y="5950800"/>
              <a:ext cx="3589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324080" y="1453320"/>
            <a:ext cx="2619360" cy="643680"/>
            <a:chOff x="1324080" y="1453320"/>
            <a:chExt cx="2619360" cy="643680"/>
          </a:xfrm>
        </p:grpSpPr>
        <p:sp>
          <p:nvSpPr>
            <p:cNvPr id="190" name=""/>
            <p:cNvSpPr/>
            <p:nvPr/>
          </p:nvSpPr>
          <p:spPr>
            <a:xfrm flipH="1">
              <a:off x="1324080" y="1522440"/>
              <a:ext cx="2619360" cy="57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064240" y="1453320"/>
              <a:ext cx="7156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228680" y="3552840"/>
            <a:ext cx="1247760" cy="602280"/>
            <a:chOff x="1228680" y="3552840"/>
            <a:chExt cx="1247760" cy="602280"/>
          </a:xfrm>
        </p:grpSpPr>
        <p:sp>
          <p:nvSpPr>
            <p:cNvPr id="193" name=""/>
            <p:cNvSpPr/>
            <p:nvPr/>
          </p:nvSpPr>
          <p:spPr>
            <a:xfrm>
              <a:off x="1228680" y="3552840"/>
              <a:ext cx="1247760" cy="512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84000" y="3634560"/>
              <a:ext cx="5374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038400" y="4334040"/>
            <a:ext cx="1247760" cy="602280"/>
            <a:chOff x="3038400" y="4334040"/>
            <a:chExt cx="1247760" cy="602280"/>
          </a:xfrm>
        </p:grpSpPr>
        <p:sp>
          <p:nvSpPr>
            <p:cNvPr id="196" name=""/>
            <p:cNvSpPr/>
            <p:nvPr/>
          </p:nvSpPr>
          <p:spPr>
            <a:xfrm>
              <a:off x="3038400" y="4334040"/>
              <a:ext cx="1247760" cy="512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483000" y="4415760"/>
              <a:ext cx="3589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848120" y="5114880"/>
            <a:ext cx="1247760" cy="602280"/>
            <a:chOff x="4848120" y="5114880"/>
            <a:chExt cx="1247760" cy="602280"/>
          </a:xfrm>
        </p:grpSpPr>
        <p:sp>
          <p:nvSpPr>
            <p:cNvPr id="199" name=""/>
            <p:cNvSpPr/>
            <p:nvPr/>
          </p:nvSpPr>
          <p:spPr>
            <a:xfrm>
              <a:off x="4848120" y="5114880"/>
              <a:ext cx="1247760" cy="512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92720" y="5196600"/>
              <a:ext cx="3589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Appels récursifs de factoriell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8T09:28:32Z</dcterms:created>
  <dc:creator/>
  <dc:description/>
  <dc:language>en-US</dc:language>
  <cp:lastModifiedBy>DeptInfo</cp:lastModifiedBy>
  <cp:lastPrinted>2001-12-16T16:42:19Z</cp:lastPrinted>
  <dcterms:modified xsi:type="dcterms:W3CDTF">2001-12-16T16:43:23Z</dcterms:modified>
  <cp:revision>180</cp:revision>
  <dc:subject/>
  <dc:title>Aucun titre de diapositive</dc:title>
</cp:coreProperties>
</file>