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3800" y="6169680"/>
            <a:ext cx="21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8-</a:t>
            </a:r>
            <a:fld id="{E6B00738-F388-4869-B4C6-C0767366931A}" type="slidenum">
              <a:rPr b="0" lang="fr-FR" sz="2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2527920"/>
            <a:ext cx="144018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73160" y="838080"/>
            <a:ext cx="77565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8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UEF 1 : Informatique &amp; Program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3352680"/>
            <a:ext cx="40417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ult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ciences de 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UG  2001-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154840"/>
            <a:ext cx="30510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érôme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DURAND-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ean-Paul R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5410080"/>
            <a:ext cx="3038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OURS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8520" y="5322600"/>
            <a:ext cx="783396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rdre sur les caractères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’A’ &lt; ’Z’ &lt; ’a’ &lt; ’z’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0’ &lt; ’1’ &lt; ’9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le codage n’est pas innoc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336320"/>
            <a:ext cx="8534520" cy="241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ar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 = ’A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b = ( c == ’a’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PlusUn = (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(c +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ystem.out.println( "c=" + c + " b=" + b + " c+1=" + cPLusUn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ystem.out.println( "code de A = " + (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 ’A'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ystem.out.println( "Charmant".charAt ( 0 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19480" y="3752640"/>
            <a:ext cx="3591000" cy="15879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=A   b=false   c+1=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de de A =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Utilisation des caractèr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8080" y="1289520"/>
            <a:ext cx="815364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un caractère, une lettre majus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calage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A’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H’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B’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I’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C’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J’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… 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S’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Z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oucis pour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T’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U’, ...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Z’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lcul sur 0..25 modulo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A’ + 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avec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0 ≤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≤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- ’A’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représente l’écart entre les codes de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d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'A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493704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4784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58200" y="4784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5088600"/>
            <a:ext cx="6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'A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53280" y="5088600"/>
            <a:ext cx="6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467676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00960" y="4310640"/>
            <a:ext cx="6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Majuscule vers 0..2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1382760"/>
            <a:ext cx="891540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cette valeur entre 0 et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calag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A’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H’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Ajouter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’H’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’A ’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de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eca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modulo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ur un char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char) (’A’ + ( (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- ‘A’ ) +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eca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) % 26 )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parenthèse sont-elles utiles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ui, par sécurité, car il se méfier des priorités des opéra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15560" y="3407040"/>
            <a:ext cx="4303080" cy="708480"/>
          </a:xfrm>
          <a:prstGeom prst="cloudCallout">
            <a:avLst>
              <a:gd name="adj1" fmla="val -115740"/>
              <a:gd name="adj2" fmla="val 65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addition est sur 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écala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14400" y="978480"/>
            <a:ext cx="8305920" cy="54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Fonction retournant une lettre majuscule décalée circulairement.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*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atic cha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cale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lettre,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har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lef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( lettre &lt; 'A' ) || (lettre &gt; 'Z' )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lettre;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//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e n'est pas une majusc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( 'A' + ( ( ( lettre - 'A' ) + ( clef - ‘A’ )  ) % 26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Fonction retournant le texte chiffré selon le chiffre de Cæ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seules les majuscules sont chiffrées.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*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String chiffre ( String texte,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lef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ring texteChiffre = "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 = 0; i&lt; texte.length(); i ++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xteChiffre = texteChiffre + decale ( texte.charAt( i ), clef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texteChiff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Fonction de décalage et de chiffra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48560" y="3053160"/>
            <a:ext cx="6769440" cy="273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Procédure affichant un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pour un (dé)chiffrement/vérification manuel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*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atic voi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afficheTable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har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lef ) {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 = 'A'; c &lt;= 'Z'; c ++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ystem.out.println( c + " =&gt; " + chiffre ( c, clef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9320" y="-54000"/>
            <a:ext cx="1139760" cy="6874200"/>
          </a:xfrm>
          <a:prstGeom prst="horizontalScroll">
            <a:avLst>
              <a:gd name="adj" fmla="val 17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 =&gt;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 =&gt;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 =&gt;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 =&gt;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 =&gt;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 =&gt;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 =&gt;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 =&gt;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 =&gt;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 =&gt;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K =&gt;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 =&gt;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 =&gt;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 =&gt; 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 =&gt;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 =&gt; 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 =&gt;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 =&gt;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 =&gt; 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 =&gt;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 =&gt;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 =&gt;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 =&gt;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&gt;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 =&gt;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 =&gt;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2720" y="1569600"/>
            <a:ext cx="6328440" cy="869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Pour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chaque majus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fficher en quoi elle est transform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Table de coda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85920" y="2164680"/>
            <a:ext cx="799128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 test, 1 affectation, 1 multiplication…   temps « constant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codage et le décodage se f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temps proportionnel à la longueur du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chaîne de longueur 1000 fa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00 fois plus d’opé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’une chaîne de longueu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parle d’algorithm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iné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Complexité 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799240" y="487080"/>
            <a:ext cx="785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éb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099200" y="3359160"/>
            <a:ext cx="1800000" cy="925560"/>
            <a:chOff x="7099200" y="3359160"/>
            <a:chExt cx="1800000" cy="925560"/>
          </a:xfrm>
        </p:grpSpPr>
        <p:sp>
          <p:nvSpPr>
            <p:cNvPr id="151" name=""/>
            <p:cNvSpPr/>
            <p:nvPr/>
          </p:nvSpPr>
          <p:spPr>
            <a:xfrm>
              <a:off x="7099200" y="3359160"/>
              <a:ext cx="1800000" cy="925560"/>
            </a:xfrm>
            <a:custGeom>
              <a:avLst/>
              <a:gdLst/>
              <a:ahLst/>
              <a:rect l="l" t="t" r="r" b="b"/>
              <a:pathLst>
                <a:path w="6999" h="3996">
                  <a:moveTo>
                    <a:pt x="0" y="0"/>
                  </a:moveTo>
                  <a:lnTo>
                    <a:pt x="6998" y="0"/>
                  </a:lnTo>
                  <a:lnTo>
                    <a:pt x="6998" y="3995"/>
                  </a:lnTo>
                  <a:lnTo>
                    <a:pt x="0" y="399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153200" y="3654000"/>
              <a:ext cx="169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&lt;instructions&gt;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7099200" y="2468520"/>
            <a:ext cx="971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vérifié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26120" y="3763440"/>
            <a:ext cx="9716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non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vérifié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9240" y="5595840"/>
            <a:ext cx="785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86480" y="2776320"/>
            <a:ext cx="126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&lt;cond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97760" y="3763800"/>
            <a:ext cx="0" cy="174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282240" y="2123640"/>
            <a:ext cx="0" cy="10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/>
          <p:nvPr/>
        </p:nvCxnSpPr>
        <p:spPr>
          <a:xfrm flipH="1">
            <a:off x="6192360" y="2123640"/>
            <a:ext cx="3085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495360" y="1447920"/>
            <a:ext cx="445752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(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it&gt;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nd&gt;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àj&gt;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instruc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it&gt;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le (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nd&gt;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instructions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àj&gt;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099200" y="4894200"/>
            <a:ext cx="1800000" cy="609480"/>
            <a:chOff x="7099200" y="4894200"/>
            <a:chExt cx="1800000" cy="609480"/>
          </a:xfrm>
        </p:grpSpPr>
        <p:sp>
          <p:nvSpPr>
            <p:cNvPr id="162" name=""/>
            <p:cNvSpPr/>
            <p:nvPr/>
          </p:nvSpPr>
          <p:spPr>
            <a:xfrm>
              <a:off x="7099200" y="4894200"/>
              <a:ext cx="1800000" cy="609480"/>
            </a:xfrm>
            <a:custGeom>
              <a:avLst/>
              <a:gdLst/>
              <a:ahLst/>
              <a:rect l="l" t="t" r="r" b="b"/>
              <a:pathLst>
                <a:path w="6999" h="3996">
                  <a:moveTo>
                    <a:pt x="0" y="0"/>
                  </a:moveTo>
                  <a:lnTo>
                    <a:pt x="6998" y="0"/>
                  </a:lnTo>
                  <a:lnTo>
                    <a:pt x="6998" y="3995"/>
                  </a:lnTo>
                  <a:lnTo>
                    <a:pt x="0" y="399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86680" y="5030640"/>
              <a:ext cx="1632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i="1" lang="fr-FR" sz="2200" spc="-1" strike="noStrike">
                  <a:solidFill>
                    <a:srgbClr val="000000"/>
                  </a:solidFill>
                  <a:latin typeface="Times New Roman"/>
                </a:rPr>
                <a:t>mise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 à jour&gt;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7999560" y="4284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999560" y="5504040"/>
            <a:ext cx="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5" idx="0"/>
            <a:endCxn id="158" idx="0"/>
          </p:cNvCxnSpPr>
          <p:nvPr/>
        </p:nvCxnSpPr>
        <p:spPr>
          <a:xfrm flipH="1" flipV="1" rot="5400000">
            <a:off x="7241040" y="3890520"/>
            <a:ext cx="2797920" cy="1283400"/>
          </a:xfrm>
          <a:prstGeom prst="bentConnector3">
            <a:avLst>
              <a:gd name="adj1" fmla="val -3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7999560" y="298944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08840" y="29894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299200" y="1066680"/>
            <a:ext cx="1800000" cy="609480"/>
            <a:chOff x="5299200" y="1066680"/>
            <a:chExt cx="1800000" cy="609480"/>
          </a:xfrm>
        </p:grpSpPr>
        <p:sp>
          <p:nvSpPr>
            <p:cNvPr id="170" name=""/>
            <p:cNvSpPr/>
            <p:nvPr/>
          </p:nvSpPr>
          <p:spPr>
            <a:xfrm>
              <a:off x="5299200" y="1066680"/>
              <a:ext cx="1800000" cy="609480"/>
            </a:xfrm>
            <a:custGeom>
              <a:avLst/>
              <a:gdLst/>
              <a:ahLst/>
              <a:rect l="l" t="t" r="r" b="b"/>
              <a:pathLst>
                <a:path w="6999" h="3996">
                  <a:moveTo>
                    <a:pt x="0" y="0"/>
                  </a:moveTo>
                  <a:lnTo>
                    <a:pt x="6998" y="0"/>
                  </a:lnTo>
                  <a:lnTo>
                    <a:pt x="6998" y="3995"/>
                  </a:lnTo>
                  <a:lnTo>
                    <a:pt x="0" y="399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28400" y="1203120"/>
              <a:ext cx="749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&lt;init&gt;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380200" y="2160720"/>
            <a:ext cx="1628640" cy="1603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97760" y="1676520"/>
            <a:ext cx="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97760" y="8222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71880" y="3063960"/>
            <a:ext cx="12952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lus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générale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1143000"/>
            <a:ext cx="86295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5000"/>
              </a:spcBef>
              <a:buNone/>
              <a:tabLst>
                <a:tab algn="l" pos="0"/>
                <a:tab algn="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</a:rPr>
              <a:t>Itérations et</a:t>
            </a:r>
            <a:br>
              <a:rPr sz="8000"/>
            </a:br>
            <a:r>
              <a:rPr b="0" lang="fr-FR" sz="8000" spc="-1" strike="noStrike">
                <a:solidFill>
                  <a:srgbClr val="000000"/>
                </a:solidFill>
                <a:latin typeface="Times New Roman"/>
              </a:rPr>
              <a:t>Manipulation de texte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1630800"/>
            <a:ext cx="9220320" cy="47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À chacune des 35 person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voyer un carton d’inv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0 fois de su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vancer de 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ourner de 144 degr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ur les positions 1 à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air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 n’est plus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tant qu’une condition est vérifié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ais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pour un nombre de fois connu à l’av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Tâches répétitives dont on connaît le nomb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3880" y="2232000"/>
            <a:ext cx="5105520" cy="1811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ompteur =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valeur initia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teur &lt;=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valeur final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teur augmente de 1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lt;&lt;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instructions 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19200" y="4507200"/>
            <a:ext cx="4348080" cy="1747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pplication avec une tortu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7 fois de suit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vancer de 100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ourner de 3*360.0 /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20000" y="4489560"/>
            <a:ext cx="3535200" cy="1272240"/>
          </a:xfrm>
          <a:prstGeom prst="cloudCallout">
            <a:avLst>
              <a:gd name="adj1" fmla="val -76055"/>
              <a:gd name="adj2" fmla="val 46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faire 3 tour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7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357120"/>
            <a:ext cx="5267160" cy="1554480"/>
          </a:xfrm>
          <a:prstGeom prst="cloudCallout">
            <a:avLst>
              <a:gd name="adj1" fmla="val -64310"/>
              <a:gd name="adj2" fmla="val 70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variabl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pteu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n’existe que dans la boucle. Elle n’a plus aucun sens aprè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Boucle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2120" y="2225520"/>
            <a:ext cx="5029200" cy="26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urtle etoile =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Turtle(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r ( in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i &lt;= 7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i ++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oile.forward( 100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oile.left( 3 * 360 / 7.0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44960" y="288360"/>
            <a:ext cx="2615040" cy="2470680"/>
          </a:xfrm>
          <a:prstGeom prst="wedgeEllipseCallout">
            <a:avLst>
              <a:gd name="adj1" fmla="val -133523"/>
              <a:gd name="adj2" fmla="val 63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vaut donc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ui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ui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ui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ForDessin" descr=""/>
          <p:cNvPicPr/>
          <p:nvPr/>
        </p:nvPicPr>
        <p:blipFill>
          <a:blip r:embed="rId1"/>
          <a:stretch/>
        </p:blipFill>
        <p:spPr>
          <a:xfrm>
            <a:off x="6324480" y="3171960"/>
            <a:ext cx="2998800" cy="2685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Boucle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120" y="1908360"/>
            <a:ext cx="65905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Une chaîne de caractères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uite de caractères de longueur con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4760" y="3500640"/>
            <a:ext cx="7998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Exempl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naître le nombre d’espace   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parcourir la chaî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175360"/>
            <a:ext cx="76676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Exemple plus compliqu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hiffrer et déchiffrer avec un code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arcourir les caractères d’une chaîn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346480" y="4105440"/>
            <a:ext cx="1839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14840" y="213228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xt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l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43280" y="2132280"/>
            <a:ext cx="9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xt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iff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1692360"/>
            <a:ext cx="6477120" cy="441360"/>
          </a:xfrm>
          <a:custGeom>
            <a:avLst/>
            <a:gdLst>
              <a:gd name="textAreaLeft" fmla="*/ 1133280 w 6477120"/>
              <a:gd name="textAreaRight" fmla="*/ 4695840 w 6477120"/>
              <a:gd name="textAreaTop" fmla="*/ 59040 h 441360"/>
              <a:gd name="textAreaBottom" fmla="*/ 382320 h 441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1142640" y="2955600"/>
            <a:ext cx="6296040" cy="441360"/>
          </a:xfrm>
          <a:custGeom>
            <a:avLst/>
            <a:gdLst>
              <a:gd name="textAreaLeft" fmla="*/ 1101600 w 6296040"/>
              <a:gd name="textAreaRight" fmla="*/ 4564800 w 6296040"/>
              <a:gd name="textAreaTop" fmla="*/ 59040 h 441360"/>
              <a:gd name="textAreaBottom" fmla="*/ 382320 h 441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77920" y="182772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iff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25280" y="281844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chiff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805560"/>
            <a:ext cx="8786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2858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lé : « 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858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858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majuscules sont remplacées sel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858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858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  B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  C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... S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Z,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A, ...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858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2858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minuscules et les autres caractères ne sont pas codés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Chiffre de Cæsa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32760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lgorithme de chiffr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39040" y="144684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« LE RIRE EST LE PROPRE DE L'HOMME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39040" y="213264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« SL YPYL LZA SL WYVWYL KL S'OVTTL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520" y="4270680"/>
            <a:ext cx="8430120" cy="1618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: chaîne de caractères = chaîne v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rendr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les caractères du mot à coder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u premier au dern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der le caractère et l ’ajouter à la fin du résul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5443560"/>
            <a:ext cx="94485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dage comme entier (ASCII sur 7 bits, unicode sur 2 octets,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tièrement géré par l’ordinateur (heureusement 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1294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"Alerte !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1"/>
            <a:endCxn id="113" idx="3"/>
          </p:cNvCxnSpPr>
          <p:nvPr/>
        </p:nvCxnSpPr>
        <p:spPr>
          <a:xfrm flipH="1">
            <a:off x="2685240" y="1523520"/>
            <a:ext cx="1544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sp>
        <p:nvSpPr>
          <p:cNvPr id="115" name=""/>
          <p:cNvSpPr/>
          <p:nvPr/>
        </p:nvSpPr>
        <p:spPr>
          <a:xfrm>
            <a:off x="4226400" y="1294200"/>
            <a:ext cx="46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Chaîne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ractèr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432960"/>
            <a:ext cx="8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58680" y="2819520"/>
            <a:ext cx="669348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’b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c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z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A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B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C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Z’, ’à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’â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ç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ù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’1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2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9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 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’\’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!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’: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(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+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’*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§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$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’#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&amp;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\n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’\t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71840" y="1933920"/>
            <a:ext cx="59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ype primitif (comm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6" idx="3"/>
            <a:endCxn id="118" idx="1"/>
          </p:cNvCxnSpPr>
          <p:nvPr/>
        </p:nvCxnSpPr>
        <p:spPr>
          <a:xfrm flipV="1">
            <a:off x="1639440" y="2162880"/>
            <a:ext cx="932760" cy="153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6" idx="3"/>
            <a:endCxn id="121" idx="1"/>
          </p:cNvCxnSpPr>
          <p:nvPr/>
        </p:nvCxnSpPr>
        <p:spPr>
          <a:xfrm>
            <a:off x="1639800" y="3693960"/>
            <a:ext cx="923040" cy="3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2571840" y="4875840"/>
            <a:ext cx="38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aleur entière (son « code 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6" idx="3"/>
            <a:endCxn id="122" idx="1"/>
          </p:cNvCxnSpPr>
          <p:nvPr/>
        </p:nvCxnSpPr>
        <p:spPr>
          <a:xfrm>
            <a:off x="1639440" y="3693600"/>
            <a:ext cx="932760" cy="141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71840" y="2819520"/>
            <a:ext cx="171360" cy="1807920"/>
          </a:xfrm>
          <a:custGeom>
            <a:avLst/>
            <a:gdLst>
              <a:gd name="textAreaLeft" fmla="*/ 109440 w 171360"/>
              <a:gd name="textAreaRight" fmla="*/ 171720 w 171360"/>
              <a:gd name="textAreaTop" fmla="*/ 46800 h 1807920"/>
              <a:gd name="textAreaBottom" fmla="*/ 1761120 h 180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Qu’est-ce qu’un caractère 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09:28:32Z</dcterms:created>
  <dc:creator/>
  <dc:description/>
  <dc:language>en-US</dc:language>
  <cp:lastModifiedBy>DeptInfo</cp:lastModifiedBy>
  <cp:lastPrinted>2001-11-23T14:58:48Z</cp:lastPrinted>
  <dcterms:modified xsi:type="dcterms:W3CDTF">2001-11-23T14:58:49Z</dcterms:modified>
  <cp:revision>74</cp:revision>
  <dc:subject/>
  <dc:title>Aucun titre de diapositive</dc:title>
</cp:coreProperties>
</file>