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907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90676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90676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3800" y="6169680"/>
            <a:ext cx="21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7-</a:t>
            </a:r>
            <a:fld id="{F70134DA-31EC-4F14-8B60-A345F67A9C9E}" type="slidenum">
              <a:rPr b="0" lang="fr-FR" sz="24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073160" y="838080"/>
            <a:ext cx="775656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8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UEF 1 : Informatique &amp; Programm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88000" y="3352680"/>
            <a:ext cx="40417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14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aculté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ciences de N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4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UG  2001-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5154840"/>
            <a:ext cx="3051000" cy="7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Jérôme DURAND-L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Jean-Paul RO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91320" y="5410080"/>
            <a:ext cx="3038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spcBef>
                <a:spcPts val="16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COURS 7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52280" y="1440000"/>
            <a:ext cx="9601200" cy="49698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Comic Sans MS"/>
              </a:rPr>
              <a:t>Con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intérêt : nombre approché = 0,025   </a:t>
            </a:r>
            <a:r>
              <a:rPr b="0" i="1" lang="fr-FR" sz="2400" spc="-1" strike="noStrike">
                <a:solidFill>
                  <a:srgbClr val="000000"/>
                </a:solidFill>
                <a:latin typeface="Comic Sans MS"/>
              </a:rPr>
              <a:t>i.e. 2,5 %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efficient : nombre approché = 1 + intérê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Comic Sans MS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nombre d'années : entier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indice : nombre approché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Comic Sans MS"/>
              </a:rPr>
              <a:t>Algorithme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Comic Sans MS"/>
              </a:rPr>
              <a:t> pour trouver en combien d’années le capital est doubl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Tant que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l’indice est plus petit que 2 f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indice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indice multiplié par coeffic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nombre d'années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nombre d'années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Afficher le résul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Problème </a:t>
            </a:r>
            <a:r>
              <a:rPr b="1" lang="fr-FR" sz="4000" spc="-1" strike="noStrike">
                <a:solidFill>
                  <a:srgbClr val="000000"/>
                </a:solidFill>
                <a:latin typeface="MT Extra"/>
                <a:ea typeface="MT Extra"/>
              </a:rPr>
              <a:t></a:t>
            </a: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algorithme </a:t>
            </a:r>
            <a:r>
              <a:rPr b="1" lang="fr-FR" sz="4000" spc="-1" strike="noStrike" u="sng">
                <a:solidFill>
                  <a:srgbClr val="000000"/>
                </a:solidFill>
                <a:uFillTx/>
                <a:latin typeface="MT Extra"/>
                <a:ea typeface="MT Extra"/>
              </a:rPr>
              <a:t></a:t>
            </a: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 programm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61160" y="372240"/>
            <a:ext cx="9010440" cy="60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576360"/>
                <a:tab algn="l" pos="113976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/** 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Affiche le nombre d'années qu'il faut pour doubler son capital avec 2,5 % d'intérêt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*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576360"/>
                <a:tab algn="l" pos="113976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PourDouble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576360"/>
                <a:tab algn="l" pos="113976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/* 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CONSTANT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*/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576360"/>
                <a:tab algn="l" pos="113976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/** 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Taux d'intérêt de bas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**/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tatic final doubl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INTERET = .025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576360"/>
                <a:tab algn="l" pos="113976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/** 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Coefficient annuel correspondant à cet intérêt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**/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tatic final doubl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COEFFICIENT_ANNUEL = 1 + INTERE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576360"/>
                <a:tab algn="l" pos="113976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/* 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LANCEMENT de la CLASS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576360"/>
                <a:tab algn="l" pos="113976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ublic static voi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main ( String []  arg ) {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nombreAnnees= 0;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indice = 1;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( indice &lt; 2 ) {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dice = indice * COEFFICIENT_ANNUEL;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ombreAnnees = nombreAnnees +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576360"/>
                <a:tab algn="l" pos="113976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}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ystem.out.println (   "Il faut " + nombreAnnees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 " années pour doubler son capital avec un intérêt de  "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 INTERET + "." );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576360"/>
                <a:tab algn="l" pos="113976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05120" y="1020960"/>
            <a:ext cx="2853720" cy="1183680"/>
          </a:xfrm>
          <a:prstGeom prst="cloudCallout">
            <a:avLst>
              <a:gd name="adj1" fmla="val -76509"/>
              <a:gd name="adj2" fmla="val 37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onstantes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n majusc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65760" y="180720"/>
            <a:ext cx="923472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576360"/>
                <a:tab algn="l" pos="1139760"/>
                <a:tab algn="l" pos="171756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mport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unsa.Consol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576360"/>
                <a:tab algn="l" pos="1139760"/>
                <a:tab algn="l" pos="171756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/**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Affiche le nombre d'années qu'il faut pour doubler son capital avec un taux demandé </a:t>
            </a:r>
            <a:br>
              <a:rPr sz="1800"/>
            </a:b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 * à l'utilisateur. Une trace de la boucle est faite, l'indice est affiché pour chaque anné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*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576360"/>
                <a:tab algn="l" pos="1139760"/>
                <a:tab algn="l" pos="171756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PourDoublerAvecTrac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576360"/>
                <a:tab algn="l" pos="1139760"/>
                <a:tab algn="l" pos="171756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ublic static voi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main ( String [] arg ) {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nombreAnnees = 0;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/* 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nombre d'années écoulé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*/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indice = 1;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/* 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indice de référence 1 à l'année 0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*/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/*  taux d'intérêt de base  */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interet = Console.readDouble( "Quel poucentage d'intérêt ?" );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/* 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coefficient annuel correspondant à cet intérêt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*/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coefficientAnnuel = 1 + interet / 100;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( indice &lt; 2 ) { //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tant que pas doublé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/* 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mise à jour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*/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dice = indice * coefficientAnnuel;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ombreAnnees = nombreAnnees + 1;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/* 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trace de la boucl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*/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ystem.out.println (   "année : " + nombreAnnees+ "  indice : " + indice );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}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ystem.out.println ( "Il faut " + nombreAnnees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 " années pour doubler son capital avec un intérêt de "   + intérêt + ".");   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576360"/>
                <a:tab algn="l" pos="1139760"/>
                <a:tab algn="l" pos="171756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523880" y="1143000"/>
            <a:ext cx="60771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aire une « trace »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ur avoir plus d'information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ur mieux comprendr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ur mettre au poin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3276720"/>
            <a:ext cx="891540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nnée : 1   indice : 1.0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nnée : 2   indice : 1.0506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nnée : 3   indice : 1.0768906249999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nnée : 4   indice : 1.103812890624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...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nnée : 27   indice : 1.94780001829971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nnée : 28   indice : 1.99649501875720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nnée : 29   indice : 2.04640739422613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l faut 29 années pour doubler son capital avec un intérêt de 2.5%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Voir le déroulement de la boucl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576440" y="2122560"/>
            <a:ext cx="6805440" cy="4115880"/>
          </a:xfrm>
          <a:prstGeom prst="rect">
            <a:avLst/>
          </a:prstGeom>
          <a:noFill/>
          <a:ln w="1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42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/* 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le programme compile et marche bie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ort unsa.Conso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C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blic static void main(String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[]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aaa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 a=Console.readInt ( ""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 aa=Console.readInt ( ""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ing aaa="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{ aaa=a%aa+aaa;//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mise à j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=a/aa; }while(0&lt;a);//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ant que c'est posi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ole.println(aaa);//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ffich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ystem.exit(0);  }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1360" y="1371600"/>
            <a:ext cx="62751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Que fait ce programme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totalement illisible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Programme : du texte au se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12920" y="304920"/>
            <a:ext cx="8169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95480" y="1219320"/>
            <a:ext cx="7667640" cy="5248800"/>
          </a:xfrm>
          <a:prstGeom prst="rect">
            <a:avLst/>
          </a:prstGeom>
          <a:noFill/>
          <a:ln w="1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1426"/>
              </a:spcBef>
              <a:tabLst>
                <a:tab algn="l" pos="0"/>
                <a:tab algn="l" pos="765000"/>
                <a:tab algn="l" pos="1528920"/>
                <a:tab algn="l" pos="2244600"/>
                <a:tab algn="l" pos="29512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or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sa.Conso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765000"/>
                <a:tab algn="l" pos="1528920"/>
                <a:tab algn="l" pos="2244600"/>
                <a:tab algn="l" pos="29512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2244600"/>
                <a:tab algn="l" pos="29512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eMystere 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5000"/>
                <a:tab algn="l" pos="1528920"/>
                <a:tab algn="l" pos="2244600"/>
                <a:tab algn="l" pos="29512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ublic static void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in ( String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[]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rgs )  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2244600"/>
                <a:tab algn="l" pos="29512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= Console.readInt ( "Entrer un entier"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2244600"/>
                <a:tab algn="l" pos="29512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 = Console.readInt ( "Entrer un entier"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2244600"/>
                <a:tab algn="l" pos="29512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ing s = "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2244600"/>
                <a:tab algn="l" pos="29512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o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2244600"/>
                <a:tab algn="l" pos="29512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 = ( i % j ) + 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2244600"/>
                <a:tab algn="l" pos="29512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= i / j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2244600"/>
                <a:tab algn="l" pos="29512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il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 0 &lt; i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2244600"/>
                <a:tab algn="l" pos="29512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ole.println ( s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2244600"/>
                <a:tab algn="l" pos="29512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ystem.exit ( 0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5000"/>
                <a:tab algn="l" pos="1528920"/>
                <a:tab algn="l" pos="2244600"/>
                <a:tab algn="l" pos="29512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2244600"/>
                <a:tab algn="l" pos="29512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Programme plus lisibl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495360" y="457200"/>
            <a:ext cx="7921080" cy="682560"/>
            <a:chOff x="495360" y="457200"/>
            <a:chExt cx="7921080" cy="682560"/>
          </a:xfrm>
        </p:grpSpPr>
        <p:sp>
          <p:nvSpPr>
            <p:cNvPr id="193" name=""/>
            <p:cNvSpPr/>
            <p:nvPr/>
          </p:nvSpPr>
          <p:spPr>
            <a:xfrm>
              <a:off x="495360" y="457200"/>
              <a:ext cx="7921080" cy="68256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95360" y="560520"/>
              <a:ext cx="792108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495360" y="5943600"/>
            <a:ext cx="6424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s instructions sont exécutées au moins une fo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5429160" y="685800"/>
            <a:ext cx="2193840" cy="2192400"/>
            <a:chOff x="5429160" y="685800"/>
            <a:chExt cx="2193840" cy="2192400"/>
          </a:xfrm>
        </p:grpSpPr>
        <p:sp>
          <p:nvSpPr>
            <p:cNvPr id="197" name=""/>
            <p:cNvSpPr/>
            <p:nvPr/>
          </p:nvSpPr>
          <p:spPr>
            <a:xfrm>
              <a:off x="6134040" y="685800"/>
              <a:ext cx="785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débu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429160" y="1776600"/>
              <a:ext cx="2193840" cy="1101600"/>
            </a:xfrm>
            <a:custGeom>
              <a:avLst/>
              <a:gdLst/>
              <a:ahLst/>
              <a:rect l="l" t="t" r="r" b="b"/>
              <a:pathLst>
                <a:path w="6999" h="3996">
                  <a:moveTo>
                    <a:pt x="0" y="0"/>
                  </a:moveTo>
                  <a:lnTo>
                    <a:pt x="6998" y="0"/>
                  </a:lnTo>
                  <a:lnTo>
                    <a:pt x="6998" y="3995"/>
                  </a:lnTo>
                  <a:lnTo>
                    <a:pt x="0" y="3995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681520" y="2160360"/>
              <a:ext cx="1695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GB" sz="2200" spc="-1" strike="noStrike">
                  <a:solidFill>
                    <a:srgbClr val="000000"/>
                  </a:solidFill>
                  <a:latin typeface="Times New Roman"/>
                </a:rPr>
                <a:t>&lt;instructions&gt;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0" name=""/>
            <p:cNvCxnSpPr>
              <a:stCxn id="197" idx="2"/>
            </p:cNvCxnSpPr>
            <p:nvPr/>
          </p:nvCxnSpPr>
          <p:spPr>
            <a:xfrm>
              <a:off x="6527520" y="1020600"/>
              <a:ext cx="3960" cy="7563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01" name=""/>
          <p:cNvSpPr/>
          <p:nvPr/>
        </p:nvSpPr>
        <p:spPr>
          <a:xfrm>
            <a:off x="7391520" y="4084560"/>
            <a:ext cx="971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vérifié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505480" y="4647960"/>
            <a:ext cx="9716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non</a:t>
            </a:r>
            <a:br>
              <a:rPr sz="2200"/>
            </a:b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vérifié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127920" y="5379840"/>
            <a:ext cx="799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86280" y="3240000"/>
            <a:ext cx="1481400" cy="1470240"/>
          </a:xfrm>
          <a:custGeom>
            <a:avLst/>
            <a:gdLst/>
            <a:ahLst/>
            <a:rect l="l" t="t" r="r" b="b"/>
            <a:pathLst>
              <a:path w="933" h="926">
                <a:moveTo>
                  <a:pt x="467" y="0"/>
                </a:moveTo>
                <a:lnTo>
                  <a:pt x="933" y="466"/>
                </a:lnTo>
                <a:lnTo>
                  <a:pt x="460" y="926"/>
                </a:lnTo>
                <a:lnTo>
                  <a:pt x="0" y="466"/>
                </a:lnTo>
                <a:lnTo>
                  <a:pt x="467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786280" y="3806640"/>
            <a:ext cx="1481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&lt;condition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526080" y="4710240"/>
            <a:ext cx="0" cy="66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526080" y="2878200"/>
            <a:ext cx="0" cy="36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070840" y="1371600"/>
            <a:ext cx="0" cy="260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4" idx="0"/>
            <a:endCxn id="208" idx="0"/>
          </p:cNvCxnSpPr>
          <p:nvPr/>
        </p:nvCxnSpPr>
        <p:spPr>
          <a:xfrm>
            <a:off x="7267320" y="3979440"/>
            <a:ext cx="80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0" name=""/>
          <p:cNvCxnSpPr>
            <a:stCxn id="208" idx="0"/>
          </p:cNvCxnSpPr>
          <p:nvPr/>
        </p:nvCxnSpPr>
        <p:spPr>
          <a:xfrm flipH="1">
            <a:off x="6530400" y="1371240"/>
            <a:ext cx="1540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"/>
          <p:cNvSpPr/>
          <p:nvPr/>
        </p:nvSpPr>
        <p:spPr>
          <a:xfrm>
            <a:off x="914400" y="1828800"/>
            <a:ext cx="3587760" cy="25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12"/>
              </a:spcBef>
              <a:tabLst>
                <a:tab algn="l" pos="0"/>
                <a:tab algn="l" pos="765000"/>
                <a:tab algn="l" pos="15289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Syntax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765000"/>
                <a:tab algn="l" pos="15289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765000"/>
                <a:tab algn="l" pos="15289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&lt;instruction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765000"/>
                <a:tab algn="l" pos="15289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&lt;condition&gt;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do ... while ...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 ?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495360" y="457200"/>
            <a:ext cx="7921080" cy="682560"/>
            <a:chOff x="495360" y="457200"/>
            <a:chExt cx="7921080" cy="682560"/>
          </a:xfrm>
        </p:grpSpPr>
        <p:sp>
          <p:nvSpPr>
            <p:cNvPr id="214" name=""/>
            <p:cNvSpPr/>
            <p:nvPr/>
          </p:nvSpPr>
          <p:spPr>
            <a:xfrm>
              <a:off x="495360" y="457200"/>
              <a:ext cx="7921080" cy="68256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95360" y="560520"/>
              <a:ext cx="792108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1951200" y="5759280"/>
            <a:ext cx="604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n reconnaît un algorithme déjà connu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403280" y="180036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512120" y="180036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806560" y="180036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26040" y="180036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0240" y="2286000"/>
            <a:ext cx="3549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237280" y="2278080"/>
            <a:ext cx="354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614600" y="2437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50320" y="2437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143520" y="179928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53720" y="17992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50400" y="17992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691760" y="179928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501960" y="17992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98640" y="17992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Jeux de test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143000" y="1155600"/>
            <a:ext cx="7543800" cy="5303160"/>
          </a:xfrm>
          <a:prstGeom prst="rect">
            <a:avLst/>
          </a:prstGeom>
          <a:noFill/>
          <a:ln w="1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142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** 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affiche l’écriture d'un nombre dans une base entre 2 et 10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*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42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mpor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unsa.Conso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EcritureBas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ublic static voi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ain ( String[] inutilisé ) 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nombre = Console.readInt ( "Nombre = ?"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base = Console.readInt ( "Base = ?"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 ( 2 &lt;= base ) &amp;&amp; ( base &lt;= 10 )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ing ecriture = "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//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extraction d'un « digit 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criture = (nombre % base) + ecritur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mbre = nombre / ba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 0 &lt; nombre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ole.println ( ecriture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ystem.exit(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Programme correctement présenté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while ...</a:t>
            </a: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 et 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do … while ...</a:t>
            </a: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 sont « équivalents »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8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120" indent="0">
              <a:spcBef>
                <a:spcPts val="1412"/>
              </a:spcBef>
              <a:buNone/>
              <a:tabLst>
                <a:tab algn="l" pos="0"/>
                <a:tab algn="l" pos="7650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&lt;condition&gt;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) {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&lt;instructions&gt;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" indent="0">
              <a:spcBef>
                <a:spcPts val="1412"/>
              </a:spcBef>
              <a:buNone/>
              <a:tabLst>
                <a:tab algn="l" pos="0"/>
                <a:tab algn="l" pos="7650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" indent="0">
              <a:spcBef>
                <a:spcPts val="1412"/>
              </a:spcBef>
              <a:buNone/>
              <a:tabLst>
                <a:tab algn="l" pos="0"/>
                <a:tab algn="l" pos="7650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" indent="0">
              <a:spcBef>
                <a:spcPts val="1412"/>
              </a:spcBef>
              <a:buNone/>
              <a:tabLst>
                <a:tab algn="l" pos="0"/>
                <a:tab algn="l" pos="7650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&lt;condition&gt;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) {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{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&lt;instructions&gt;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&lt;condition&gt;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);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48520" y="1676160"/>
            <a:ext cx="3657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110000"/>
              </a:lnSpc>
              <a:spcBef>
                <a:spcPts val="1412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{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&lt;instructions&gt;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&lt;condition&gt;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lnSpc>
                <a:spcPct val="110000"/>
              </a:lnSpc>
              <a:spcBef>
                <a:spcPts val="1412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lnSpc>
                <a:spcPct val="110000"/>
              </a:lnSpc>
              <a:spcBef>
                <a:spcPts val="1412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lnSpc>
                <a:spcPct val="110000"/>
              </a:lnSpc>
              <a:spcBef>
                <a:spcPts val="1412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&lt;instructions&gt;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&lt;condition&gt;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) {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&lt;instructions&gt;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102280" y="1600200"/>
            <a:ext cx="1440" cy="4343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209680" y="3048120"/>
            <a:ext cx="1295640" cy="60948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905440" y="3352680"/>
            <a:ext cx="1295640" cy="60984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088000" y="1626840"/>
            <a:ext cx="5955120" cy="39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Itération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Times New Roman"/>
              </a:rPr>
              <a:t>Tant que ... répéter ..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Times New Roman"/>
              </a:rPr>
              <a:t>Répéter ... tant que 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95000" y="1755720"/>
            <a:ext cx="750564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7484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Tant que l’on y arrive p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7484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Réess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7484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7484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Tant que ce n’est pas la bonne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74840" indent="0">
              <a:lnSpc>
                <a:spcPct val="90000"/>
              </a:lnSpc>
              <a:buNone/>
              <a:tabLst>
                <a:tab algn="l" pos="0"/>
                <a:tab algn="l" pos="47484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hercher une autre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74840" indent="0">
              <a:lnSpc>
                <a:spcPct val="90000"/>
              </a:lnSpc>
              <a:buNone/>
              <a:tabLst>
                <a:tab algn="l" pos="0"/>
                <a:tab algn="l" pos="47484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7484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Tant que ce n'est pas fi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74840" indent="0">
              <a:lnSpc>
                <a:spcPct val="90000"/>
              </a:lnSpc>
              <a:buNone/>
              <a:tabLst>
                <a:tab algn="l" pos="0"/>
                <a:tab algn="l" pos="47484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ontinu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74840" indent="0" algn="ctr">
              <a:lnSpc>
                <a:spcPct val="90000"/>
              </a:lnSpc>
              <a:buNone/>
              <a:tabLst>
                <a:tab algn="l" pos="0"/>
                <a:tab algn="l" pos="47484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7484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Demander l’entré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7484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Recommencer tant qu'elle est incorrec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Tâches répétitiv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4040" y="1554120"/>
            <a:ext cx="3179880" cy="6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Problèm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aire des mouv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791320" y="1371600"/>
            <a:ext cx="3305160" cy="6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jusqu’à ce que </a:t>
            </a:r>
            <a:br>
              <a:rPr sz="2400"/>
            </a:b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atteigne ou dépass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5232240" y="1095480"/>
            <a:ext cx="347760" cy="1055520"/>
            <a:chOff x="5232240" y="1095480"/>
            <a:chExt cx="347760" cy="1055520"/>
          </a:xfrm>
        </p:grpSpPr>
        <p:sp>
          <p:nvSpPr>
            <p:cNvPr id="87" name=""/>
            <p:cNvSpPr/>
            <p:nvPr/>
          </p:nvSpPr>
          <p:spPr>
            <a:xfrm flipV="1">
              <a:off x="5232240" y="1095480"/>
              <a:ext cx="0" cy="10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32240" y="1617480"/>
              <a:ext cx="347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3903840" y="2355840"/>
            <a:ext cx="1066680" cy="333360"/>
            <a:chOff x="3903840" y="2355840"/>
            <a:chExt cx="1066680" cy="333360"/>
          </a:xfrm>
        </p:grpSpPr>
        <p:sp>
          <p:nvSpPr>
            <p:cNvPr id="90" name=""/>
            <p:cNvSpPr/>
            <p:nvPr/>
          </p:nvSpPr>
          <p:spPr>
            <a:xfrm>
              <a:off x="3903840" y="235584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170240" y="2414520"/>
              <a:ext cx="533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676520" y="2900160"/>
            <a:ext cx="2050920" cy="129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.left( 90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.forward( d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.right( 90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.forward( d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963960" y="1095480"/>
            <a:ext cx="1055880" cy="1055520"/>
            <a:chOff x="3963960" y="1095480"/>
            <a:chExt cx="1055880" cy="1055520"/>
          </a:xfrm>
        </p:grpSpPr>
        <p:sp>
          <p:nvSpPr>
            <p:cNvPr id="94" name=""/>
            <p:cNvSpPr/>
            <p:nvPr/>
          </p:nvSpPr>
          <p:spPr>
            <a:xfrm>
              <a:off x="3963960" y="2151000"/>
              <a:ext cx="105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5019840" y="1095480"/>
              <a:ext cx="0" cy="10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567320" y="2286000"/>
            <a:ext cx="2518560" cy="2519280"/>
            <a:chOff x="4567320" y="2286000"/>
            <a:chExt cx="2518560" cy="2519280"/>
          </a:xfrm>
        </p:grpSpPr>
        <p:sp>
          <p:nvSpPr>
            <p:cNvPr id="97" name=""/>
            <p:cNvSpPr/>
            <p:nvPr/>
          </p:nvSpPr>
          <p:spPr>
            <a:xfrm>
              <a:off x="5197320" y="4421160"/>
              <a:ext cx="129492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800" spc="-1" strike="noStrike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= 12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4567320" y="2286000"/>
              <a:ext cx="2518560" cy="2518560"/>
              <a:chOff x="4567320" y="2286000"/>
              <a:chExt cx="2518560" cy="2518560"/>
            </a:xfrm>
          </p:grpSpPr>
          <p:sp>
            <p:nvSpPr>
              <p:cNvPr id="99" name=""/>
              <p:cNvSpPr/>
              <p:nvPr/>
            </p:nvSpPr>
            <p:spPr>
              <a:xfrm>
                <a:off x="4567320" y="4804560"/>
                <a:ext cx="2518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V="1">
                <a:off x="7085880" y="2286000"/>
                <a:ext cx="0" cy="25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" name=""/>
          <p:cNvSpPr/>
          <p:nvPr/>
        </p:nvSpPr>
        <p:spPr>
          <a:xfrm>
            <a:off x="6324480" y="5248440"/>
            <a:ext cx="10591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= 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6324480" y="3048120"/>
            <a:ext cx="2585520" cy="2585160"/>
            <a:chOff x="6324480" y="3048120"/>
            <a:chExt cx="2585520" cy="2585160"/>
          </a:xfrm>
        </p:grpSpPr>
        <p:grpSp>
          <p:nvGrpSpPr>
            <p:cNvPr id="103" name=""/>
            <p:cNvGrpSpPr/>
            <p:nvPr/>
          </p:nvGrpSpPr>
          <p:grpSpPr>
            <a:xfrm>
              <a:off x="7617600" y="3048120"/>
              <a:ext cx="1292400" cy="1292400"/>
              <a:chOff x="7617600" y="3048120"/>
              <a:chExt cx="1292400" cy="1292400"/>
            </a:xfrm>
          </p:grpSpPr>
          <p:sp>
            <p:nvSpPr>
              <p:cNvPr id="104" name=""/>
              <p:cNvSpPr/>
              <p:nvPr/>
            </p:nvSpPr>
            <p:spPr>
              <a:xfrm>
                <a:off x="7617600" y="4340520"/>
                <a:ext cx="1292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V="1">
                <a:off x="8910000" y="3048120"/>
                <a:ext cx="0" cy="129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6324480" y="4340880"/>
              <a:ext cx="1292760" cy="1292400"/>
              <a:chOff x="6324480" y="4340880"/>
              <a:chExt cx="1292760" cy="1292400"/>
            </a:xfrm>
          </p:grpSpPr>
          <p:sp>
            <p:nvSpPr>
              <p:cNvPr id="107" name=""/>
              <p:cNvSpPr/>
              <p:nvPr/>
            </p:nvSpPr>
            <p:spPr>
              <a:xfrm>
                <a:off x="6324480" y="5633280"/>
                <a:ext cx="1292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V="1">
                <a:off x="7617240" y="4340880"/>
                <a:ext cx="0" cy="129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6553080" y="6238800"/>
            <a:ext cx="9684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= 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7012080" y="4038120"/>
            <a:ext cx="2585880" cy="2586240"/>
            <a:chOff x="7012080" y="4038120"/>
            <a:chExt cx="2585880" cy="2586240"/>
          </a:xfrm>
        </p:grpSpPr>
        <p:grpSp>
          <p:nvGrpSpPr>
            <p:cNvPr id="111" name=""/>
            <p:cNvGrpSpPr/>
            <p:nvPr/>
          </p:nvGrpSpPr>
          <p:grpSpPr>
            <a:xfrm>
              <a:off x="7012080" y="5331240"/>
              <a:ext cx="1292760" cy="1293120"/>
              <a:chOff x="7012080" y="5331240"/>
              <a:chExt cx="1292760" cy="1293120"/>
            </a:xfrm>
          </p:grpSpPr>
          <p:grpSp>
            <p:nvGrpSpPr>
              <p:cNvPr id="112" name=""/>
              <p:cNvGrpSpPr/>
              <p:nvPr/>
            </p:nvGrpSpPr>
            <p:grpSpPr>
              <a:xfrm>
                <a:off x="7658640" y="5331240"/>
                <a:ext cx="646200" cy="646560"/>
                <a:chOff x="7658640" y="5331240"/>
                <a:chExt cx="646200" cy="64656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7658640" y="5977800"/>
                  <a:ext cx="646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 flipV="1">
                  <a:off x="8304840" y="5331240"/>
                  <a:ext cx="0" cy="64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7012080" y="5977800"/>
                <a:ext cx="646200" cy="646560"/>
                <a:chOff x="7012080" y="5977800"/>
                <a:chExt cx="646200" cy="64656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7012080" y="6624360"/>
                  <a:ext cx="646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 flipV="1">
                  <a:off x="7658280" y="5977800"/>
                  <a:ext cx="0" cy="64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8304840" y="4038120"/>
              <a:ext cx="1293120" cy="1292760"/>
              <a:chOff x="8304840" y="4038120"/>
              <a:chExt cx="1293120" cy="1292760"/>
            </a:xfrm>
          </p:grpSpPr>
          <p:grpSp>
            <p:nvGrpSpPr>
              <p:cNvPr id="119" name=""/>
              <p:cNvGrpSpPr/>
              <p:nvPr/>
            </p:nvGrpSpPr>
            <p:grpSpPr>
              <a:xfrm>
                <a:off x="8951400" y="4038120"/>
                <a:ext cx="646560" cy="646560"/>
                <a:chOff x="8951400" y="4038120"/>
                <a:chExt cx="646560" cy="64656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8951400" y="4684680"/>
                  <a:ext cx="646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flipV="1">
                  <a:off x="9597960" y="4038120"/>
                  <a:ext cx="0" cy="64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8304840" y="4684320"/>
                <a:ext cx="646560" cy="646560"/>
                <a:chOff x="8304840" y="4684320"/>
                <a:chExt cx="646560" cy="64656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8304840" y="5330880"/>
                  <a:ext cx="646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flipV="1">
                  <a:off x="8951400" y="4684320"/>
                  <a:ext cx="0" cy="64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5" name=""/>
          <p:cNvSpPr/>
          <p:nvPr/>
        </p:nvSpPr>
        <p:spPr>
          <a:xfrm>
            <a:off x="526320" y="5096880"/>
            <a:ext cx="47419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a variable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t inconnue a priori 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 nombre de cas possibles est énorm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mpossible de faire du cas par 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Dessins répétitif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419720" y="917280"/>
            <a:ext cx="4572000" cy="263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2185920"/>
                <a:tab algn="l" pos="295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urtle t = new Turtl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2185920"/>
                <a:tab algn="l" pos="295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omic Sans MS"/>
              </a:rPr>
              <a:t>tant qu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t.xcoor() &lt; 100 </a:t>
            </a:r>
            <a:r>
              <a:rPr b="1" i="1" lang="fr-FR" sz="2400" spc="-1" strike="noStrike">
                <a:solidFill>
                  <a:srgbClr val="000000"/>
                </a:solidFill>
                <a:latin typeface="Comic Sans MS"/>
              </a:rPr>
              <a:t>f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2185920"/>
                <a:tab algn="l" pos="295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.left( 90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2185920"/>
                <a:tab algn="l" pos="295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.forward( d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2185920"/>
                <a:tab algn="l" pos="295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.right( 90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2185920"/>
                <a:tab algn="l" pos="295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.forward( d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2185920"/>
                <a:tab algn="l" pos="295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omic Sans MS"/>
              </a:rPr>
              <a:t>fin tant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63080" y="2361960"/>
            <a:ext cx="257796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e que l’on veut d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827160"/>
            <a:ext cx="4572000" cy="270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urtle t = new Turtl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50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while (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t.xcoor() &lt; 100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.left( 90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.forward( d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.right( 90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.forward( d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77640" y="4689000"/>
            <a:ext cx="2164680" cy="6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mment l’écrir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n 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Dessins répétitif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754680" y="561600"/>
            <a:ext cx="7858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déb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69080" y="5957640"/>
            <a:ext cx="771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" name=""/>
          <p:cNvCxnSpPr/>
          <p:nvPr/>
        </p:nvCxnSpPr>
        <p:spPr>
          <a:xfrm>
            <a:off x="7160760" y="3069720"/>
            <a:ext cx="1080" cy="513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6373800" y="1630440"/>
            <a:ext cx="1560600" cy="1439640"/>
          </a:xfrm>
          <a:custGeom>
            <a:avLst/>
            <a:gdLst/>
            <a:ahLst/>
            <a:rect l="l" t="t" r="r" b="b"/>
            <a:pathLst>
              <a:path w="693" h="693">
                <a:moveTo>
                  <a:pt x="346" y="0"/>
                </a:moveTo>
                <a:lnTo>
                  <a:pt x="347" y="1"/>
                </a:lnTo>
                <a:lnTo>
                  <a:pt x="693" y="347"/>
                </a:lnTo>
                <a:lnTo>
                  <a:pt x="347" y="693"/>
                </a:lnTo>
                <a:lnTo>
                  <a:pt x="0" y="346"/>
                </a:lnTo>
                <a:lnTo>
                  <a:pt x="346" y="0"/>
                </a:lnTo>
                <a:close/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570720" y="2182680"/>
            <a:ext cx="1166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con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840280" y="3583080"/>
            <a:ext cx="2727360" cy="1436760"/>
          </a:xfrm>
          <a:custGeom>
            <a:avLst/>
            <a:gdLst/>
            <a:ahLst/>
            <a:rect l="l" t="t" r="r" b="b"/>
            <a:pathLst>
              <a:path w="6999" h="3996">
                <a:moveTo>
                  <a:pt x="0" y="0"/>
                </a:moveTo>
                <a:lnTo>
                  <a:pt x="6998" y="0"/>
                </a:lnTo>
                <a:lnTo>
                  <a:pt x="6998" y="3995"/>
                </a:lnTo>
                <a:lnTo>
                  <a:pt x="0" y="3995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483960" y="4117680"/>
            <a:ext cx="1305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instru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288200" y="3070080"/>
            <a:ext cx="97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vérifié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02160" y="2349360"/>
            <a:ext cx="9716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on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vérifié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07120" y="2349360"/>
            <a:ext cx="0" cy="336708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2" idx="2"/>
            <a:endCxn id="135" idx="0"/>
          </p:cNvCxnSpPr>
          <p:nvPr/>
        </p:nvCxnSpPr>
        <p:spPr>
          <a:xfrm>
            <a:off x="7148520" y="896760"/>
            <a:ext cx="7200" cy="7358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5307120" y="5716440"/>
            <a:ext cx="18414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161120" y="5716440"/>
            <a:ext cx="0" cy="24156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61120" y="5019840"/>
            <a:ext cx="0" cy="23940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269280" y="1630440"/>
            <a:ext cx="0" cy="362880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5" idx="0"/>
            <a:endCxn id="146" idx="0"/>
          </p:cNvCxnSpPr>
          <p:nvPr/>
        </p:nvCxnSpPr>
        <p:spPr>
          <a:xfrm>
            <a:off x="7161120" y="5258880"/>
            <a:ext cx="2108880" cy="1080"/>
          </a:xfrm>
          <a:prstGeom prst="straightConnector1">
            <a:avLst/>
          </a:prstGeom>
          <a:ln w="6480">
            <a:solidFill>
              <a:srgbClr val="000000"/>
            </a:solidFill>
            <a:miter/>
          </a:ln>
        </p:spPr>
      </p:cxnSp>
      <p:cxnSp>
        <p:nvCxnSpPr>
          <p:cNvPr id="148" name=""/>
          <p:cNvCxnSpPr>
            <a:stCxn id="146" idx="0"/>
            <a:endCxn id="135" idx="1"/>
          </p:cNvCxnSpPr>
          <p:nvPr/>
        </p:nvCxnSpPr>
        <p:spPr>
          <a:xfrm flipH="1">
            <a:off x="7152840" y="1630080"/>
            <a:ext cx="2116800" cy="10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685800" y="3807000"/>
            <a:ext cx="33591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5360" y="1219320"/>
            <a:ext cx="499104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1412"/>
              </a:spcBef>
              <a:tabLst>
                <a:tab algn="l" pos="0"/>
                <a:tab algn="l" pos="765000"/>
                <a:tab algn="l" pos="152892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Tant que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Comic Sans MS"/>
              </a:rPr>
              <a:t>condition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f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412"/>
              </a:spcBef>
              <a:tabLst>
                <a:tab algn="l" pos="0"/>
                <a:tab algn="l" pos="765000"/>
                <a:tab algn="l" pos="152892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Comic Sans MS"/>
              </a:rPr>
              <a:t>instr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412"/>
              </a:spcBef>
              <a:tabLst>
                <a:tab algn="l" pos="0"/>
                <a:tab algn="l" pos="765000"/>
                <a:tab algn="l" pos="152892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fin tant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412"/>
              </a:spcBef>
              <a:tabLst>
                <a:tab algn="l" pos="0"/>
                <a:tab algn="l" pos="765000"/>
                <a:tab algn="l" pos="152892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412"/>
              </a:spcBef>
              <a:tabLst>
                <a:tab algn="l" pos="0"/>
                <a:tab algn="l" pos="765000"/>
                <a:tab algn="l" pos="152892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412"/>
              </a:spcBef>
              <a:tabLst>
                <a:tab algn="l" pos="0"/>
                <a:tab algn="l" pos="765000"/>
                <a:tab algn="l" pos="152892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&lt;condition&gt;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412"/>
              </a:spcBef>
              <a:tabLst>
                <a:tab algn="l" pos="0"/>
                <a:tab algn="l" pos="765000"/>
                <a:tab algn="l" pos="152892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&lt;instruction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412"/>
              </a:spcBef>
              <a:tabLst>
                <a:tab algn="l" pos="0"/>
                <a:tab algn="l" pos="765000"/>
                <a:tab algn="l" pos="152892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412"/>
              </a:spcBef>
              <a:tabLst>
                <a:tab algn="l" pos="0"/>
                <a:tab algn="l" pos="765000"/>
                <a:tab algn="l" pos="152892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412"/>
              </a:spcBef>
              <a:tabLst>
                <a:tab algn="l" pos="0"/>
                <a:tab algn="l" pos="765000"/>
                <a:tab algn="l" pos="152892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( /* précision insuffisante */ ) 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412"/>
              </a:spcBef>
              <a:tabLst>
                <a:tab algn="l" pos="0"/>
                <a:tab algn="l" pos="765000"/>
                <a:tab algn="l" pos="152892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/* affiner la précision */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412"/>
              </a:spcBef>
              <a:tabLst>
                <a:tab algn="l" pos="0"/>
                <a:tab algn="l" pos="765000"/>
                <a:tab algn="l" pos="152892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5306760" y="2349360"/>
            <a:ext cx="10666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95360" y="2700360"/>
            <a:ext cx="38480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95360" y="4808520"/>
            <a:ext cx="4610160" cy="114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Schéma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 et </a:t>
            </a: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syntax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858960" y="1619280"/>
            <a:ext cx="83041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«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Avec un compte rémunéré à 2,5 %,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  combien d'années faut-il pour doubler sa mise ? 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70000" y="3114720"/>
            <a:ext cx="7407360" cy="16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« Heu, 2,5 % par a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cela fait 25 % en 10 an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il faut donc 40 ans ! 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un « bon client »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838760" y="3278160"/>
          <a:ext cx="69840" cy="19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38760" y="3278160"/>
                    <a:ext cx="69840" cy="1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1735200" y="4998960"/>
            <a:ext cx="64324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« Facile                           »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un actuai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36280" y="4911840"/>
            <a:ext cx="209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Times New Roman"/>
              </a:rPr>
              <a:t>l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17080" y="491184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40000" y="5219640"/>
            <a:ext cx="92412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91840" y="5284800"/>
            <a:ext cx="209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Times New Roman"/>
              </a:rPr>
              <a:t>l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81640" y="5284800"/>
            <a:ext cx="604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Times New Roman"/>
              </a:rPr>
              <a:t>1,02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23520" y="5057640"/>
            <a:ext cx="212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StarMath"/>
                <a:ea typeface="StarMath"/>
              </a:rPr>
              <a:t>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73360" y="5057640"/>
            <a:ext cx="738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Times New Roman"/>
              </a:rPr>
              <a:t>28,07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Problème</a:t>
            </a: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4000" spc="-1" strike="noStrike">
                <a:solidFill>
                  <a:srgbClr val="000000"/>
                </a:solidFill>
                <a:latin typeface="MT Extra"/>
                <a:ea typeface="MT Extra"/>
              </a:rPr>
              <a:t></a:t>
            </a: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 algorithme </a:t>
            </a:r>
            <a:r>
              <a:rPr b="1" lang="fr-FR" sz="4000" spc="-1" strike="noStrike">
                <a:solidFill>
                  <a:srgbClr val="000000"/>
                </a:solidFill>
                <a:latin typeface="MT Extra"/>
                <a:ea typeface="MT Extra"/>
              </a:rPr>
              <a:t></a:t>
            </a: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 programm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533520" y="1295280"/>
            <a:ext cx="8186760" cy="49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Calcul de la nouvelle val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x’ </a:t>
            </a:r>
            <a:r>
              <a:rPr b="0" i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x + x *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2,5 % = x * 1,025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br>
              <a:rPr sz="24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Si j'ai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euros, à l'année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À l'année 1, j'ai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x*1,025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eu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À l'année 2, j'ai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x*1,025*1,025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eu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À l'année 3, j'ai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x*1,025*1,025*1,025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eu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À l'année 4, j'ai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x*1,025*1,025*1,025*1,025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eu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alculons ces vale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838760" y="3278160"/>
          <a:ext cx="69840" cy="19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38760" y="3278160"/>
                    <a:ext cx="69840" cy="1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6324120" y="2233080"/>
            <a:ext cx="3336840" cy="1521720"/>
          </a:xfrm>
          <a:prstGeom prst="cloudCallout">
            <a:avLst>
              <a:gd name="adj1" fmla="val -75435"/>
              <a:gd name="adj2" fmla="val 2268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n fait, on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eut fixer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à 1</a:t>
            </a:r>
            <a:br>
              <a:rPr sz="2400"/>
            </a:b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indice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 au dé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Problème </a:t>
            </a:r>
            <a:r>
              <a:rPr b="1" lang="fr-FR" sz="4000" spc="-1" strike="noStrike" u="sng">
                <a:solidFill>
                  <a:srgbClr val="000000"/>
                </a:solidFill>
                <a:uFillTx/>
                <a:latin typeface="MT Extra"/>
                <a:ea typeface="MT Extra"/>
              </a:rPr>
              <a:t></a:t>
            </a: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 algorithme</a:t>
            </a: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4000" spc="-1" strike="noStrike">
                <a:solidFill>
                  <a:srgbClr val="000000"/>
                </a:solidFill>
                <a:latin typeface="MT Extra"/>
                <a:ea typeface="MT Extra"/>
              </a:rPr>
              <a:t></a:t>
            </a: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 programm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352680" y="6134040"/>
            <a:ext cx="53352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437920" y="2472840"/>
            <a:ext cx="4550760" cy="26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ctr" pos="857160"/>
                <a:tab algn="r" pos="952560"/>
                <a:tab algn="l" pos="1809720"/>
                <a:tab algn="ctr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nné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nd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ctr" pos="857160"/>
                <a:tab algn="r" pos="952560"/>
                <a:tab algn="l" pos="1809720"/>
                <a:tab algn="ctr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1,00000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ctr" pos="857160"/>
                <a:tab algn="r" pos="952560"/>
                <a:tab algn="l" pos="1809720"/>
                <a:tab algn="ctr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1,02500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ctr" pos="857160"/>
                <a:tab algn="r" pos="952560"/>
                <a:tab algn="l" pos="1809720"/>
                <a:tab algn="ctr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1,050625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ctr" pos="857160"/>
                <a:tab algn="r" pos="952560"/>
                <a:tab algn="l" pos="1809720"/>
                <a:tab algn="ctr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1,076890625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ctr" pos="857160"/>
                <a:tab algn="r" pos="952560"/>
                <a:tab algn="l" pos="1809720"/>
                <a:tab algn="ctr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1,1038128906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ctr" pos="857160"/>
                <a:tab algn="r" pos="952560"/>
                <a:tab algn="l" pos="1809720"/>
                <a:tab algn="ctr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…………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191120" y="1282680"/>
            <a:ext cx="4092480" cy="947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2" y="2197"/>
                </a:moveTo>
                <a:lnTo>
                  <a:pt x="-11118" y="2197"/>
                </a:lnTo>
                <a:lnTo>
                  <a:pt x="-11118" y="25658"/>
                </a:lnTo>
                <a:lnTo>
                  <a:pt x="-7934" y="26547"/>
                </a:lnTo>
              </a:path>
              <a:path w="21600" h="21600">
                <a:moveTo>
                  <a:pt x="-402" y="0"/>
                </a:moveTo>
                <a:lnTo>
                  <a:pt x="-402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eux variables et leurs type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nnée  =&gt; en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ndice =&gt; nombre approch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343400" y="5670720"/>
            <a:ext cx="2971800" cy="45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554" y="2968"/>
                </a:moveTo>
                <a:lnTo>
                  <a:pt x="-18727" y="2968"/>
                </a:lnTo>
                <a:lnTo>
                  <a:pt x="-18727" y="-17725"/>
                </a:lnTo>
                <a:lnTo>
                  <a:pt x="-9704" y="-27279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in de l’affichag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Problème</a:t>
            </a: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4000" spc="-1" strike="noStrike">
                <a:solidFill>
                  <a:srgbClr val="000000"/>
                </a:solidFill>
                <a:latin typeface="MT Extra"/>
                <a:ea typeface="MT Extra"/>
              </a:rPr>
              <a:t></a:t>
            </a: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algorithme</a:t>
            </a: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4000" spc="-1" strike="noStrike">
                <a:solidFill>
                  <a:srgbClr val="000000"/>
                </a:solidFill>
                <a:latin typeface="MT Extra"/>
                <a:ea typeface="MT Extra"/>
              </a:rPr>
              <a:t></a:t>
            </a: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 programm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8T09:28:32Z</dcterms:created>
  <dc:creator/>
  <dc:description/>
  <dc:language>en-US</dc:language>
  <cp:lastModifiedBy>DeptInfo</cp:lastModifiedBy>
  <cp:lastPrinted>2001-11-22T10:24:03Z</cp:lastPrinted>
  <dcterms:modified xsi:type="dcterms:W3CDTF">2001-11-23T14:57:05Z</dcterms:modified>
  <cp:revision>53</cp:revision>
  <dc:subject/>
  <dc:title>Aucun titre de diapositive</dc:title>
</cp:coreProperties>
</file>